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6070-E4CB-4087-A374-A4C17DE47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4242-5CD9-4C24-B0B9-1DFD0770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B0E1-951E-4EE5-B17D-8125D26F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2181-C96F-439E-B088-3A54A8592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74F4-5288-4D9C-A459-08B1C523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44CF-75BE-460C-9393-7F794E74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6C05-D2C3-4866-8C56-9F588F82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C2C9-ACF4-4923-9A66-90C6E91F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89EE-A151-4631-A369-E42835E5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C830-4B9E-4E32-AF0C-43576769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B99E-82F6-44F0-A2D1-07F7E096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C3B1-DA5F-4F80-965C-99AF1810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5138-4AF1-4A89-AE99-0443D010525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omantic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3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800px-Abtei_im_Eichwald_(C_D_Friedrich)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300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0560" y="6095880"/>
            <a:ext cx="81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btei im Eichwald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0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,4 por 171 cm; Staatliche Museen, Berlín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800px-Caspar_David_Friedrich_006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5695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69560" y="6172200"/>
            <a:ext cx="50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David 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ar de hiel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3-2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441px-Chargingchasseur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711680" cy="6400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26920" y="4495680"/>
            <a:ext cx="359928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héodore Géricaul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fficier de chasseurs à cheva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la garde impériale chargeant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12¿?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49 por 266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ericault%20-%20La%20balsa%20de%20la%20Medusa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8076960" cy="5500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1640" y="6019920"/>
            <a:ext cx="82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éricaul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lsa de la Medusa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1819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91 x 717 cm; Museo del Louvre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gericault_envy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946680" cy="4924440"/>
          </a:xfrm>
          <a:prstGeom prst="rect">
            <a:avLst/>
          </a:prstGeom>
          <a:ln w="0">
            <a:noFill/>
          </a:ln>
        </p:spPr>
      </p:pic>
      <p:pic>
        <p:nvPicPr>
          <p:cNvPr id="48" name="gericault.insane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3657600" cy="4800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401520" y="53830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oc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6640" y="614520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19 -1824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87120" y="5383080"/>
            <a:ext cx="279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Monomane de l'envi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gericault001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4132080" cy="5271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66400" y="6095880"/>
            <a:ext cx="31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Retrato de una mujer insan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foto1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248160" cy="4713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4440" y="5943600"/>
            <a:ext cx="846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ugéne Delacroix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ante y Virgilio en los infiern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o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rca de Dan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 182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Eugène_Delacroix_-_La_liberté_guidant_le_peuple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6781680" cy="5585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7560" y="6095880"/>
            <a:ext cx="88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ugène Delacroix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liberté guidant le peupl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9 por 352;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Louvre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471px-Caspar_David_Friedrich_032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5083200" cy="6477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15600" y="4800600"/>
            <a:ext cx="27014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David Friedrich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r Wander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über dem Nebelme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1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5 por 95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05fried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67760" y="5791320"/>
            <a:ext cx="5408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onje a la orilla del ma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09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 x 171,5 cm; Staatliche Museen, Berlín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21:32:04Z</dcterms:created>
  <dc:creator>Victor Diaz</dc:creator>
  <dc:description/>
  <dc:language>en-US</dc:language>
  <cp:lastModifiedBy>Victor Diaz</cp:lastModifiedBy>
  <dcterms:modified xsi:type="dcterms:W3CDTF">2008-12-07T00:44:48Z</dcterms:modified>
  <cp:revision>12</cp:revision>
  <dc:subject/>
  <dc:title>Romanticismo</dc:title>
</cp:coreProperties>
</file>