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CA2F-4496-4C0C-AF0C-D5CBEB622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100E-7AD2-4B44-826C-E53CEED49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4E9A-CF91-4FA8-A6D5-31F3836F5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0F50-B938-487D-AB0D-DDA9C8445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58A5-F2B2-4526-927A-82B136CCF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0979-4DF8-49EB-A715-9D325CB60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58F1-FE0D-46D6-AE83-D0611B21E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FBDE-6C03-434B-9D08-798EAE699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0C18-19B6-478D-B612-094F74B01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5B6C-CED1-4446-B7A1-01881640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148B-4490-4363-B9FD-CCEDA374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BEAC-E4FF-4C09-A22A-B6E48A6D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C947D-5668-425F-BAF3-DEDDE4738362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Del romanticismo al impresionism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rte del siglo XIX (4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sea-monsters-detail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6553080" cy="55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turner%20botes%20en%20el%20mar" descr=""/>
          <p:cNvPicPr/>
          <p:nvPr/>
        </p:nvPicPr>
        <p:blipFill>
          <a:blip r:embed="rId1"/>
          <a:stretch/>
        </p:blipFill>
        <p:spPr>
          <a:xfrm>
            <a:off x="1066680" y="152280"/>
            <a:ext cx="7010640" cy="5440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278360" y="5867280"/>
            <a:ext cx="643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Boats at se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30 - 1840¿?[aceptado hacia los ‘50]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2.2 x 27.9 cm; The Tate Gallery, Londre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Monet%20-%20Impresión%20Sol%20Naciente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6477120" cy="5006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43760" y="5715000"/>
            <a:ext cx="7709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Impression, soleil levan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[Impresión, sol naciente]. 187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8 por 63 cm; Museo Marmottan-Monet, Parí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800px-John_Constable_013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20120" cy="5478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19840" y="5791320"/>
            <a:ext cx="823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ohn Constabl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The Hay Wai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1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0 por 185 cm; National Gallery, Londre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onstable_Salisbury_meadows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7162560" cy="5699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434960" y="5867280"/>
            <a:ext cx="6211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onstabl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alisbury Cathedral from the meadow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51 por 190 cm; National Gallery, Londre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tonehenge1835_387%20x%20591%20mm_Victoria%20and%20Albert%20Museum,%20London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543800" cy="4827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46040" y="5715000"/>
            <a:ext cx="84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onstabl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toneheng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3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387 x 591 mm; Victoria and Albert Museum, Londre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turner-1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7848720" cy="5210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126800" y="5867280"/>
            <a:ext cx="675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oseph Mallord William 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ido building Carthag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1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55 x 232 cm; National Gallery, Londre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800px-Joseph_Mallord_William_Turner_064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8077320" cy="52689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74160" y="5791320"/>
            <a:ext cx="7462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oseph Mallord William 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lysses Deriding Polyphemu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3 por 202; National Gallery, Londre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ulysses-detail" descr=""/>
          <p:cNvPicPr/>
          <p:nvPr/>
        </p:nvPicPr>
        <p:blipFill>
          <a:blip r:embed="rId1"/>
          <a:stretch/>
        </p:blipFill>
        <p:spPr>
          <a:xfrm>
            <a:off x="1447920" y="762120"/>
            <a:ext cx="617220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800px-Rain_Steam_and_Speed_the_Great_Western_Railway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7315200" cy="5432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128960" y="5867280"/>
            <a:ext cx="699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Rain, steam and speed. The great western railway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44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91 × 121.8 cm; National Gallery, Londre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Sunrise%20with%20Sea%20Monsters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6858000" cy="5173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18040" y="5867280"/>
            <a:ext cx="81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unrise with sea monster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4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91.5 x 122 cm; Tate Gallery, Londre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00:44:56Z</dcterms:created>
  <dc:creator>Victor Diaz</dc:creator>
  <dc:description/>
  <dc:language>en-US</dc:language>
  <cp:lastModifiedBy>Victor Diaz</cp:lastModifiedBy>
  <dcterms:modified xsi:type="dcterms:W3CDTF">2008-12-14T22:56:48Z</dcterms:modified>
  <cp:revision>19</cp:revision>
  <dc:subject/>
  <dc:title>Del romanticismo al impresionismo</dc:title>
</cp:coreProperties>
</file>