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26D0-D46B-4E0F-8F10-ED97F18E5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B621-725C-45DF-9EBF-015FF75EB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5983-1FAC-4CFC-8B61-1E41B480A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AA5F-FE1D-4445-9219-A9B0B0D87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627A-85B3-44D5-BC2E-6113F6B84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87C7-F110-4C69-B64F-CD2438053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145B-F26A-4F18-B7E9-3412CDAA9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BE54-553F-4136-8B17-87C00C97A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332D-1979-443D-B159-19C1604D3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44BD-B833-4452-A76D-52801D80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ECC9-EADB-4F32-A7BF-DC989672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F5BA-C99F-4595-905D-BC07B16F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B925E-BB5C-4A36-A525-AA7AA1D1CBC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Times New Roman"/>
              </a:rPr>
              <a:t>Aproximación comprensiva a las </a:t>
            </a:r>
            <a:r>
              <a:rPr b="0" i="1" lang="en-US" sz="4400" spc="-1" strike="noStrike">
                <a:solidFill>
                  <a:srgbClr val="e3ebf1"/>
                </a:solidFill>
                <a:latin typeface="Times New Roman"/>
              </a:rPr>
              <a:t>Artes Visual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usiones prelimina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kosuth" descr=""/>
          <p:cNvPicPr/>
          <p:nvPr/>
        </p:nvPicPr>
        <p:blipFill>
          <a:blip r:embed="rId1"/>
          <a:stretch/>
        </p:blipFill>
        <p:spPr>
          <a:xfrm>
            <a:off x="1600200" y="380880"/>
            <a:ext cx="5943600" cy="53150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983600" y="5867280"/>
            <a:ext cx="528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Joseph Kosuth.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Titled (Art as idea as idea)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, 196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5683320" cy="6480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940360" y="4797360"/>
            <a:ext cx="30592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iego de Velázquez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Las menin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656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Óleo sobre tela, 318 por 276 cm; Museo del Prado, Madr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dejeuner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29800" y="6172200"/>
            <a:ext cx="756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Édouard Manet.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Le déjeuner sur l'herbe.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863.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208 × 264 cm; Musée d'Orsa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Aragne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5105520" cy="3530520"/>
          </a:xfrm>
          <a:prstGeom prst="rect">
            <a:avLst/>
          </a:prstGeom>
          <a:ln w="0">
            <a:noFill/>
          </a:ln>
        </p:spPr>
      </p:pic>
      <p:pic>
        <p:nvPicPr>
          <p:cNvPr id="48" name="mff1916" descr=""/>
          <p:cNvPicPr/>
          <p:nvPr/>
        </p:nvPicPr>
        <p:blipFill>
          <a:blip r:embed="rId2"/>
          <a:stretch/>
        </p:blipFill>
        <p:spPr>
          <a:xfrm>
            <a:off x="609480" y="3962520"/>
            <a:ext cx="3810240" cy="2597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946480" y="2590920"/>
            <a:ext cx="222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eter Paul Ruben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Minerva y Aracné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636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26,7 x 38,1 cm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47960" y="5029200"/>
            <a:ext cx="377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Jacob Jordaen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Apolo como el vencedor de Pa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637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81 por 267 c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iziano%20vecellio_El%20rapto%20de%20Europa%20(1562)_185%20por%20205%20cm" descr=""/>
          <p:cNvPicPr/>
          <p:nvPr/>
        </p:nvPicPr>
        <p:blipFill>
          <a:blip r:embed="rId1"/>
          <a:stretch/>
        </p:blipFill>
        <p:spPr>
          <a:xfrm>
            <a:off x="3124080" y="762120"/>
            <a:ext cx="5730840" cy="4994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04920" y="4724280"/>
            <a:ext cx="234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iziano Vecelli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El rapto de Europa.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562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85 por 205 c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oncierto%20campestre_tiziano_1511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6775560" cy="5430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79320" y="5943600"/>
            <a:ext cx="779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iziano.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Concierto campestre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. 1510 - 1511. 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10 x 138 cm ; Museo Nacional del Louvre.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el%20juicio%20de%20paris_1510-20%20marcantonio%20raimondi%20(Rafael)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96080" cy="5257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299240" y="6019920"/>
            <a:ext cx="619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arcantonio Raimondi.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El juicio de Pari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. 1510¿? (Rafae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duchampfontaine2" descr=""/>
          <p:cNvPicPr/>
          <p:nvPr/>
        </p:nvPicPr>
        <p:blipFill>
          <a:blip r:embed="rId1"/>
          <a:stretch/>
        </p:blipFill>
        <p:spPr>
          <a:xfrm>
            <a:off x="3429000" y="228600"/>
            <a:ext cx="5400720" cy="6419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41680" y="5562720"/>
            <a:ext cx="190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arcel Ducha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La Fonta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9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kosuth-one_and_three_chairs-1965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619760" cy="5084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88160" y="5791320"/>
            <a:ext cx="48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Joseph Kosuth,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One and Three Chair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, 196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8:14:06Z</dcterms:created>
  <dc:creator>Paloma Berríos M.</dc:creator>
  <dc:description/>
  <dc:language>en-US</dc:language>
  <cp:lastModifiedBy>Victor Diaz</cp:lastModifiedBy>
  <dcterms:modified xsi:type="dcterms:W3CDTF">2008-12-04T22:46:36Z</dcterms:modified>
  <cp:revision>23</cp:revision>
  <dc:subject/>
  <dc:title>Aproximación comprensiva a las Artes Visuales</dc:title>
</cp:coreProperties>
</file>