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BEF9-E798-41CB-AF0D-18797B8E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74F6-179F-4501-A62E-1BE25C47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C825-F62B-4651-B375-1D7BB367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DB15-7B6A-4BB5-9BFA-20DE2507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ED8C-D22F-471E-B15D-26A87DF9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5A86-D5A5-4989-AD86-67A789F2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C094-9C73-470A-BE09-6A845E6C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0D7A-07C1-45B8-83DA-F02B1156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0B37-0D3A-448A-9BC1-3DA84338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FE22-B4A3-451E-BECD-67AD8455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4A84-172C-4260-910E-F20EBFC7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846B-DF38-4692-AEF5-706A2B95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72D9-822D-4FBC-98CE-460D657019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Aproximación comprensiva a las </a:t>
            </a:r>
            <a:r>
              <a:rPr b="0" i="1" lang="en-US" sz="4400" spc="-1" strike="noStrike">
                <a:solidFill>
                  <a:srgbClr val="e3ebf1"/>
                </a:solidFill>
                <a:latin typeface="Times New Roman"/>
              </a:rPr>
              <a:t>Artes Visua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iones prelimin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kosuth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5315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83600" y="5867280"/>
            <a:ext cx="52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Titled (Art as idea as idea)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68332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4797360"/>
            <a:ext cx="3059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ego de Velázquez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Las menin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65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Óleo sobre tela, 318 por 276 cm; Museo del Prado, Madr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9800" y="6172200"/>
            <a:ext cx="75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Édouard Manet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e déjeuner sur l'herbe.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63.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208 × 264 cm; Musée d'Orsa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ragn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5105520" cy="3530520"/>
          </a:xfrm>
          <a:prstGeom prst="rect">
            <a:avLst/>
          </a:prstGeom>
          <a:ln w="0">
            <a:noFill/>
          </a:ln>
        </p:spPr>
      </p:pic>
      <p:pic>
        <p:nvPicPr>
          <p:cNvPr id="48" name="mff1916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3810240" cy="2597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6480" y="2590920"/>
            <a:ext cx="22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eter Paul Rub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Minerva y Aracné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6,7 x 38,1 c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7960" y="5029200"/>
            <a:ext cx="377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acob Jorda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Apolo como el vencedor de P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7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1 por 267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ziano%20vecellio_El%20rapto%20de%20Europa%20(1562)_185%20por%20205%20cm" descr=""/>
          <p:cNvPicPr/>
          <p:nvPr/>
        </p:nvPicPr>
        <p:blipFill>
          <a:blip r:embed="rId1"/>
          <a:stretch/>
        </p:blipFill>
        <p:spPr>
          <a:xfrm>
            <a:off x="3124080" y="762120"/>
            <a:ext cx="5730840" cy="499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47242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 Vecell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rapto de Europa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56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5 por 205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cierto%20campestre_tiziano_151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75560" cy="5430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9320" y="5943600"/>
            <a:ext cx="77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Concierto campestr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 - 1511.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10 x 138 cm ; Museo Nacional del Louvre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l%20juicio%20de%20paris_1510-20%20marcantonio%20raimondi%20(Rafael)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99240" y="601992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antonio Raimondi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juicio de Pari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¿? (Rafa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uchampfontaine2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400720" cy="641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41680" y="5562720"/>
            <a:ext cx="190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el Duch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a Fonta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9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kosuth-one_and_three_chairs-1965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5084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8160" y="579132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,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One and Three Chair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8:14:06Z</dcterms:created>
  <dc:creator>Paloma Berríos M.</dc:creator>
  <dc:description/>
  <dc:language>en-US</dc:language>
  <cp:lastModifiedBy>Victor Diaz</cp:lastModifiedBy>
  <dcterms:modified xsi:type="dcterms:W3CDTF">2008-12-04T22:46:36Z</dcterms:modified>
  <cp:revision>23</cp:revision>
  <dc:subject/>
  <dc:title>Aproximación comprensiva a las Artes Visuales</dc:title>
</cp:coreProperties>
</file>