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A41-EE6E-4FE0-BBE7-16907DC4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FB2-5349-4188-BCB3-765FA1A4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903-0F52-45F5-A013-B3380753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FE1-4ECE-49B8-B1C1-EC932AF4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E67-2688-4B38-A24F-510DAC30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1923-C51D-4973-A7AF-7102545F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846-6603-4C08-AADD-0A184E39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322-A455-4FC7-93BD-32643B10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EBD-5259-48FB-96ED-9F0FBBA4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095-BB26-4A20-9F24-11CF0E5C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D6EB-AD25-43C3-B350-46F8367C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920B-9A5B-436A-9DAF-BFAC19A3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A55B-3D8C-474E-B098-13D4ECCC391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arte en el siglo XI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Fin del Rococó e inicios del neoclasicismo y el romanticismo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héodore%20Géricault%20Study%20of%20Truncated%20Limbs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943600" cy="487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26440" y="5791320"/>
            <a:ext cx="69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tudio de miembros truncad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 - 19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943600" cy="488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6320" y="5791320"/>
            <a:ext cx="38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bezas cortad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napoleonpic" descr=""/>
          <p:cNvPicPr/>
          <p:nvPr/>
        </p:nvPicPr>
        <p:blipFill>
          <a:blip r:embed="rId1"/>
          <a:stretch/>
        </p:blipFill>
        <p:spPr>
          <a:xfrm>
            <a:off x="3943440" y="228600"/>
            <a:ext cx="5200560" cy="6400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5800" y="4648320"/>
            <a:ext cx="369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éon franchissant les Alpes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0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1802¿?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Probablemen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egunda versión para Versalles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oya%20-%20El%20quitasol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47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560" y="5638680"/>
            <a:ext cx="77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El quitaso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7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04 por 152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oya%20-%20Los%20duques%20de%20Osuna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91240" cy="637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86280" y="4876920"/>
            <a:ext cx="286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duques de Osun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8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25 x 174 cm.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040" y="6172200"/>
            <a:ext cx="87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fusilamientos del 3 de may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4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66 x 345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22g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8goy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7236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96760" y="6248520"/>
            <a:ext cx="72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o se puede mira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0 - 14 ¿?. Museo del grabado de Goy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Francisco_de_Goya_y_Lucientes_02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393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38800" y="5257800"/>
            <a:ext cx="5639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prader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88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44 por 94 cm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eregrinación_a_la_fuente_de_San_Isidro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3922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56840" y="5410080"/>
            <a:ext cx="6438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eregrinación a la fuente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rocesión del Santo Ofici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)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23 por 266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800px-La_romería_de_San_Isidro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272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0760" y="5562720"/>
            <a:ext cx="79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romerí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0 por 438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oya.saturn-son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5146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2000" y="4800600"/>
            <a:ext cx="330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Saturno devorando a su hijo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 23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6 x 83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02:44:39Z</dcterms:created>
  <dc:creator>Victor Diaz</dc:creator>
  <dc:description/>
  <dc:language>en-US</dc:language>
  <cp:lastModifiedBy>Victor Diaz</cp:lastModifiedBy>
  <dcterms:modified xsi:type="dcterms:W3CDTF">2008-12-05T21:44:37Z</dcterms:modified>
  <cp:revision>14</cp:revision>
  <dc:subject/>
  <dc:title>El arte en el siglo XIX</dc:title>
</cp:coreProperties>
</file>