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48C07-077A-434E-83B6-D6046788A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32BA7-9DD3-4F59-83B0-8E480A94A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BDCD3-0F16-4527-B6DE-5554A1DB1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4A155-A43E-4D6D-BD3A-9E44FF8F1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065B6-4153-4536-9A24-210E6AB59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10099-19D0-4CE4-9C9F-B6E8E5C28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970E4-A390-4585-AB85-6A4A88EF9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3C54F-3718-4732-824F-BD1905864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E04BE-F4D0-4C32-A9AD-008C7E55D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75DBC-0A6D-4094-AA14-8C0D58770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9508E-2491-4F59-A282-E4B33C4A9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07143-357F-4BF0-996A-A08CA6841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20586-EF2B-47BF-A6C0-18F752415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7A992-C599-4A85-9232-641BAFA98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DB1CD-438A-4D18-8482-8D5E102B4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3E856-A0B9-46B9-ADDE-27A930E19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264C2-69F2-4AC7-BA1B-C7C7A48F3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C9ACB-8DF0-492B-B9C6-AE0770716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1BFAA-D0BE-485A-8E54-D3B41FFD7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356A0-B9C0-482A-A11F-347B203D4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D728F-1CA8-4A52-9B1F-8A95D5E7C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406F3-AFDC-44A6-8F67-4C40B2E73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2C463-03DD-4C96-943A-DD91B5306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52097-A45E-4E7A-AFEE-CF8FF9461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6ECD8-0BC1-4199-992A-0137200A6C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2A516-B3DE-44A1-9134-1B6622BCFB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ffffff"/>
                </a:solidFill>
                <a:latin typeface="Arial"/>
              </a:rPr>
              <a:t>MAX- MSP 01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ergio Flood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340000" y="4365720"/>
            <a:ext cx="1079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Nombres de los Objetos y Argumen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332000" y="1773360"/>
            <a:ext cx="6624720" cy="48736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547640" y="2205000"/>
            <a:ext cx="8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t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059280" y="22050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t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836720" y="2492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48000" y="2492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629080" y="14130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989440" y="1773360"/>
            <a:ext cx="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629080" y="4508640"/>
            <a:ext cx="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835280" y="5300640"/>
            <a:ext cx="172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iempo del metrónomo en milisegundos 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Argu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726160" y="5300640"/>
            <a:ext cx="172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iempos del metrónomo en milisegundos 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Argu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292720" y="2492280"/>
            <a:ext cx="237636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661080" y="364500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268360" y="49417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564000" y="494172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564000" y="5661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788000" y="494172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067280" y="57340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Argu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600" spc="-1" strike="noStrike">
                <a:solidFill>
                  <a:srgbClr val="000000"/>
                </a:solidFill>
                <a:latin typeface="Arial"/>
              </a:rPr>
              <a:t>Togg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 una caja con una X y funciona como indicador o switch entre dos estados zero y non-ze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lternativamente envía los valores 1 y 0 cada vez que se clica con el ratón o los recibe un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bang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n su entrada. Cuando recibe un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bang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o un tecleo de ratón, invierte su estado y envía el nuevo valor. Esta distinción entre cero y diferente a cero es manera máxima de dar vuelta cosas por intervalos, o de distinción entre verdadero y fal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sí, usted puede utilizar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togl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como interruptor on./off. En nuestro ejemplo, el objeto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metr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puede ser activado por intervalos clickando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toggl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 Esto trabaja porque el metro comienza cuando recibe un número diferente a cero (como 1) y paradas cuando recibe un 0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835280" y="4149720"/>
            <a:ext cx="107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547640" y="2133720"/>
            <a:ext cx="5761080" cy="139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755640" y="2637000"/>
            <a:ext cx="8028000" cy="35575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600" spc="-1" strike="noStrike">
                <a:solidFill>
                  <a:srgbClr val="000000"/>
                </a:solidFill>
                <a:latin typeface="Arial"/>
              </a:rPr>
              <a:t>Togg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8360" y="3213000"/>
            <a:ext cx="338292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2556000" y="2133720"/>
            <a:ext cx="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26920" y="1628640"/>
            <a:ext cx="33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witch entre distintos val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651640" y="3068640"/>
            <a:ext cx="2233440" cy="136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6372360" y="220464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219640" y="162864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ctiva y desactiva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me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600" spc="-1" strike="noStrike">
                <a:solidFill>
                  <a:srgbClr val="000000"/>
                </a:solidFill>
                <a:latin typeface="Arial"/>
              </a:rPr>
              <a:t>Test 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criba un patch que escriba en la ventana Max “Hola:1” cada 2 segun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835280" y="4149720"/>
            <a:ext cx="107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nviar un Mensa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bra un Patch nuevo y tome un object box y un messaj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26920" y="3141720"/>
            <a:ext cx="7272360" cy="22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nviar un Mensa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bra un Patch nuevo y tome un object box y un messag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55640" y="2781360"/>
            <a:ext cx="4680000" cy="37162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24000" y="4653000"/>
            <a:ext cx="374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300720" y="443700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ssage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24000" y="5300640"/>
            <a:ext cx="374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00720" y="507852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bjec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804000" y="3789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156360" y="2997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criba “HOLA!!!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156360" y="59562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criba “prin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73272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356000" y="3505320"/>
            <a:ext cx="3800520" cy="30193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nviar un Mensa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r al menú View desmarcar 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pretar message box y en la ventana Max aparece el mens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826920" y="3533760"/>
            <a:ext cx="267660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Mensaje</a:t>
            </a:r>
            <a:r>
              <a:rPr b="1" i="1" lang="es-CL" sz="4000" spc="-1" strike="noStrike">
                <a:solidFill>
                  <a:srgbClr val="000000"/>
                </a:solidFill>
                <a:latin typeface="Arial"/>
              </a:rPr>
              <a:t> ba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se el boton (Button) y comentario (Co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mensaje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bang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esta en el botón y significa que realizará cualquier tipo de a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476360" y="2349360"/>
            <a:ext cx="7056360" cy="6303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124000" y="2708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411280" y="2781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835280" y="4149720"/>
            <a:ext cx="107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124000" y="436572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87280" y="350028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Mensaje</a:t>
            </a:r>
            <a:r>
              <a:rPr b="1" i="1" lang="es-CL" sz="4000" spc="-1" strike="noStrike">
                <a:solidFill>
                  <a:srgbClr val="000000"/>
                </a:solidFill>
                <a:latin typeface="Arial"/>
              </a:rPr>
              <a:t> ba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struya el resto del patch y active como en el punto anter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35280" y="4149720"/>
            <a:ext cx="107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258920" y="2492280"/>
            <a:ext cx="6769080" cy="40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Arial"/>
              </a:rPr>
              <a:t>int, float,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xisten dos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number box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para mostrar un numero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Number box int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Number box float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.Este tipo de box escribe el núme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835280" y="4149720"/>
            <a:ext cx="107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258920" y="3141720"/>
            <a:ext cx="6192720" cy="15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Arial"/>
              </a:rPr>
              <a:t>int, float,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struya el patch y active como en el punto anterior. Observe los mensaj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835280" y="4149720"/>
            <a:ext cx="107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84360" y="2924280"/>
            <a:ext cx="78501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struya el patch y active como en el punto anterior. Tenemos el objeto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metr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que actúa de metróno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835280" y="4149720"/>
            <a:ext cx="107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Nombres de los Objetos y Argumen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84360" y="2708280"/>
            <a:ext cx="75708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20:53:27Z</dcterms:created>
  <dc:creator>Eddie</dc:creator>
  <dc:description/>
  <dc:language>en-US</dc:language>
  <cp:lastModifiedBy>Eddie</cp:lastModifiedBy>
  <dcterms:modified xsi:type="dcterms:W3CDTF">2009-03-12T18:51:31Z</dcterms:modified>
  <cp:revision>39</cp:revision>
  <dc:subject/>
  <dc:title>MAX- MSP</dc:title>
</cp:coreProperties>
</file>