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C8FC-B341-44E7-982A-39C9BF27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B0C4-06B6-4397-AD5F-7836C4C3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EBB2-E876-4C34-A636-22BB6B94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6C59-EE89-4D8B-A2FE-8927417C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00CD-374C-409A-9786-0496B552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EFD5-8557-42BE-869A-0DFC01B7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AD23-87C0-4AB6-BCF9-244E94E0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3FB0-F441-4CCF-B51C-87F42479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59D9-AD5A-454F-9134-A3466615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A918-89EB-4C61-801C-C4B709CE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E562-0320-4CC7-AF71-C036209F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5938-EA1D-4B7E-BBB8-6963EE0C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B8B1-358F-49D4-86BF-A89942BF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BAC4-C8B8-4F59-B4FA-EA65457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91CF-0412-40FB-A1B0-75C0A46C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B07B-3BDD-4DBB-A9A1-D7752B40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0D1C-6D25-40D5-A805-C344111C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AD04-CBFF-451F-9935-0579CDEA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5630-F739-4264-B6F8-FFC75474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D9BB-FBA0-4732-ACC9-4892810A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340F-EC1E-427C-B726-D4A1B26D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DED3-E5A8-4B25-9349-B81570D8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94AC-D985-4AD9-A6B7-734A32A7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220B-4F7D-47B0-9FA6-A1322A8D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D4AD-AD13-4F2C-898B-A38B3BB9E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B3FD-8E84-4CC7-B38D-F9AEEC4F4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40000" y="4365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24720" cy="487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220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672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9080" y="14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9080" y="4508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300640"/>
            <a:ext cx="17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6160" y="5300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2492280"/>
            <a:ext cx="2376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1080" y="3645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494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4941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caja con una X y funciona como indicador o switch entre dos estados zero y non-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mente envía los valores 1 y 0 cada vez que se clica con el ratón o los recibe u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su entrada. Cuando recibe u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un tecleo de ratón, invierte su estado y envía el nuevo valor. Esta distinción entre cero y diferente a cero es manera máxima de dar vuelta cosas por intervalos, o de distinción entre verdadero y f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í, usted puede utilizar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interruptor on./off. En nuestro ejemplo, el objet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e ser activado por intervalos clickand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sto trabaja porque el metro comienza cuando recibe un número diferente a cero (como 1) y paradas cuando recibe un 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7610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8028000" cy="355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213000"/>
            <a:ext cx="3382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56000" y="2133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1628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witch entre distinto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068640"/>
            <a:ext cx="223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372360" y="220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162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y desactiv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est 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riba un patch que escriba en la ventana Max “Hola:1” cada 2 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j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7272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g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4680000" cy="371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24000" y="4653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4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ssag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530064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507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c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378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29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HOLA!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59562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pri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56000" y="3505320"/>
            <a:ext cx="380052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r al menú View desmarca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etar message box y en la ventana Max aparece el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3533760"/>
            <a:ext cx="2676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el boton (Button) y comentario (Co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ensaj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a en el botón y significa que realizará cualquier tip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056360" cy="63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24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3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resto del patch y active como en el punto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769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o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mostrar un numer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in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.Este tipo de box escribe el nú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61927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Observe los mens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7850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Tenemos el objet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de metró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757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3-12T18:51:31Z</dcterms:modified>
  <cp:revision>39</cp:revision>
  <dc:subject/>
  <dc:title>MAX- MSP</dc:title>
</cp:coreProperties>
</file>