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59BB4-17D8-4D8E-85DF-AD926954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68514-7D8C-4AD3-98A0-FDBA455D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359E9-6C84-413F-BD0A-D259BCF0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4C16D-D490-4B54-806E-F4598948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F000-ECF4-4877-9C66-6111E779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BA68-B569-4C1F-A259-B7EE9213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4643-5387-45FA-AD70-8AFD22D8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7785-E631-478F-8CE6-7E8BA406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C040-AF90-4C2B-999D-84542A1B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6416-1E87-4730-AF71-3D91E5C7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19EB-11DD-475D-8CC8-CB61D357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0D5E7-D14A-4123-B0AD-A95B7BD9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33E0-374F-4646-A0E3-1E0EC6C5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51CC-20AC-4419-9080-7E516C9C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C245-F3A1-45C4-A5EB-864C6954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3FD8-55D1-4357-9563-2842CDD3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1307-B023-4DAD-AEEF-06B5E6AE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29FEF-F711-4E25-88A8-7CBB183F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A907D-52A4-4046-A229-E676E3B8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6C6CE-F3B5-496F-9701-9B2A17DC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959B-2345-4B85-AC7A-CA7D4318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A5294-EC20-4A1D-AF95-AFEF92AB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CECDE-64DC-49E3-A5B8-25E2BE0A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AABBF-6C52-458A-996E-0CDA14D0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275E-D273-4A34-872C-15A7EC4318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3D37-9217-4CE4-BDEF-0E14B20C87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1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340000" y="436572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Nombres de los Objetos y Arg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624720" cy="4873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47640" y="2205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59280" y="2205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672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800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29080" y="141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9440" y="177336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29080" y="450864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5300640"/>
            <a:ext cx="172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del metrónomo en milisegundos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6160" y="530064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s del metrónomo en milisegundos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92720" y="2492280"/>
            <a:ext cx="23763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61080" y="3645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68360" y="4941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49417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64000" y="566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41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734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una caja con una X y funciona como indicador o switch entre dos estados zero y non-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ernativamente envía los valores 1 y 0 cada vez que se clica con el ratón o los recibe un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bang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su entrada. Cuando recibe u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 un tecleo de ratón, invierte su estado y envía el nuevo valor. Esta distinción entre cero y diferente a cero es manera máxima de dar vuelta cosas por intervalos, o de distinción entre verdadero y f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í, usted puede utilizar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og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interruptor on./off. En nuestro ejemplo, el objet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et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uede ser activado por intervalos clickand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ogg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Esto trabaja porque el metro comienza cuando recibe un número diferente a cero (como 1) y paradas cuando recibe un 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76108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8028000" cy="3557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3213000"/>
            <a:ext cx="33829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556000" y="2133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1628640"/>
            <a:ext cx="33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witch entre distintos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3068640"/>
            <a:ext cx="22334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372360" y="2204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19640" y="1628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a y desactiva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est 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riba un patch que escriba en la ventana Max “Hola:1” cada 2 segu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tome un object box y un messaj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72723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tome un object box y un messag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4680000" cy="371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24000" y="465300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00720" y="4437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ssag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530064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50785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jec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04000" y="378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299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a “HOLA!!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6360" y="59562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a “pri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356000" y="3505320"/>
            <a:ext cx="3800520" cy="301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r al menú View desmarcar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pretar message box y en la ventana Max aparece el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26920" y="3533760"/>
            <a:ext cx="2676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nsaje</a:t>
            </a:r>
            <a:r>
              <a:rPr b="1" i="1" lang="es-CL" sz="4000" spc="-1" strike="noStrike">
                <a:solidFill>
                  <a:srgbClr val="000000"/>
                </a:solidFill>
                <a:latin typeface="Arial"/>
              </a:rPr>
              <a:t> b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e el boton (Button) y comentario (Co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mensaj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sta en el botón y significa que realizará cualquier tipo de 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7056360" cy="630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12400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2781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43657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3500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nsaje</a:t>
            </a:r>
            <a:r>
              <a:rPr b="1" i="1" lang="es-CL" sz="4000" spc="-1" strike="noStrike">
                <a:solidFill>
                  <a:srgbClr val="000000"/>
                </a:solidFill>
                <a:latin typeface="Arial"/>
              </a:rPr>
              <a:t> b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resto del patch y active como en el punto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7690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int, float,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 dos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mostrar un numero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 in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 floa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.Este tipo de box escribe el núm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58920" y="3141720"/>
            <a:ext cx="619272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int, float,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patch y active como en el punto anterior. Observe los mens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4360" y="2924280"/>
            <a:ext cx="7850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patch y active como en el punto anterior. Tenemos el objeto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me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actúa de metrón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Nombres de los Objetos y Arg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4360" y="2708280"/>
            <a:ext cx="7570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3-12T18:51:31Z</dcterms:modified>
  <cp:revision>39</cp:revision>
  <dc:subject/>
  <dc:title>MAX- MSP</dc:title>
</cp:coreProperties>
</file>