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51AF-3965-4A40-B8EB-435A7A8F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1E25-3298-42E6-BCB8-B9A83E96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6264-E86B-4B33-A3D3-22D316B9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E392-1C6F-4B5D-BACC-B1208A53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F866-EA43-4878-A36D-781014F3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7A55-AC0A-473B-BA78-88293F6D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4751-E66E-4294-9E82-499A3101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8066-9735-4523-B57B-A147DE4C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BC46-5302-44E8-83AE-1F1E7721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FF82-813F-4F54-8C06-FB5DE85A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2AFD-9746-4A1C-815E-8254874A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49FF1-EFA5-4B00-8F4C-E8EEE49F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680E-CA33-40B7-9CD6-B3A6EA04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D8D7-A8B9-46E9-9A5F-1F5FA669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E860-EE9C-443B-8185-6A42CE89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ADA6-C427-4A28-ACD5-79E21F4F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6870-F92F-42EE-B76A-09D473FC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7A3C1-7CAF-4552-BD03-62FBC030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DBA3-B066-431A-B7C9-4237AEF8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C2382-EDFC-43C3-B71D-86E43683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DB0C-5DA7-4145-8868-5CCB1C09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1FD4-12AD-4753-A7C7-5A49CE9E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10B7E-1181-4498-A22C-E4FEB898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8F45-2F3D-4F0E-BB4E-6EFEC247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830D-5E93-4FC0-BF9D-A5B7AD6B92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C333-E421-4C5A-B086-E4C6DD9CE1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1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340000" y="436572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mbres de los Objetos y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24720" cy="4873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47640" y="220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2205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672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800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9080" y="141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9440" y="1773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29080" y="4508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300640"/>
            <a:ext cx="172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del metrónomo en milisegundos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6160" y="5300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s del metrónomo en milisegundos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2492280"/>
            <a:ext cx="2376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61080" y="3645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494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4941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6400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41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734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caja con una X y funciona como indicador o switch entre dos estados zero y non-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ernativamente envía los valores 1 y 0 cada vez que se clica con el ratón o los recibe un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b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su entrada. Cuando recibe u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un tecleo de ratón, invierte su estado y envía el nuevo valor. Esta distinción entre cero y diferente a cero es manera máxima de dar vuelta cosas por intervalos, o de distinción entre verdadero y f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í, usted puede utilizar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og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interruptor on./off. En nuestro ejemplo, el objet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et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uede ser activado por intervalos clickand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ogg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Esto trabaja porque el metro comienza cuando recibe un número diferente a cero (como 1) y paradas cuando recibe un 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76108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8028000" cy="3557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3213000"/>
            <a:ext cx="3382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556000" y="2133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162864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witch entre distintos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3068640"/>
            <a:ext cx="223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372360" y="2204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162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y desactiva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est 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riba un patch que escriba en la ventana Max “Hola:1” cada 2 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tome un object box y un messaj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7272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tome un object box y un messag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4680000" cy="371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24000" y="465300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4437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ssag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530064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50785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c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04000" y="378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299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a “HOLA!!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59562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a “pri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56000" y="3505320"/>
            <a:ext cx="380052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r al menú View desmarcar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retar message box y en la ventana Max aparece el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6920" y="3533760"/>
            <a:ext cx="2676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 b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el boton (Button) y comentario (Co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ensaj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ta en el botón y significa que realizará cualquier tipo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7056360" cy="63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24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781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4365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35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 b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resto del patch y active como en el punto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7690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int, float,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dos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mostrar un numer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 in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 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.Este tipo de box escribe el núm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3141720"/>
            <a:ext cx="61927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int, float,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patch y active como en el punto anterior. Observe los mens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7850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patch y active como en el punto anterior. Tenemos el objet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e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actúa de metrón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mbres de los Objetos y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7570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3-12T18:51:31Z</dcterms:modified>
  <cp:revision>39</cp:revision>
  <dc:subject/>
  <dc:title>MAX- MSP</dc:title>
</cp:coreProperties>
</file>