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DEB2F-BEED-443A-AB10-187C8A29B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D0E54-6D3B-408B-A36A-9CC44092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CD4F5-5E85-4302-ADB4-DBF135251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EEF79-B567-403C-87A3-41FC1FD5D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4B77-7DFF-49C5-9795-C062937A8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9299-91B2-4595-989B-D2BBC5FB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80DB-1C38-4784-B3C4-658B1DDC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B4AE-2586-408F-83A4-F7318E01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E944-E873-44FF-AF3C-CBD3C52D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E571-D2F3-4782-8436-A22F8AC3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AF25-3AD5-4C9B-979E-CAEA69D9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73F3F-A6FA-4E06-B1F5-18208140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BD70-8798-473E-AE88-3D420D1E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8105-15E8-4C57-9893-12332165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8190-1B71-4C3D-A3C9-DE6B53DF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3407-B7DA-48C4-B377-35FC5B6E9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9812-526B-4A40-BBE0-A03FE0D9A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0E108-B543-45CD-85FB-F300A882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5F6AC-EF27-43D1-B70E-4D3D996F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AC63A-9DF0-4962-B26F-A22C3489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97A2E-900F-4A05-B4EB-4BE33297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638BB-AF55-4B03-914A-0E5A3A0A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05171-ED8F-4BEA-9050-C299DF7E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1DEA9-CD88-4C43-9D10-B840CFC2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57E3-3DE9-4086-BA2F-9074E68B53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3493-70AD-4933-8B8F-070185F08B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MAX- MSP 0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gresando u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omo control de ampl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32000" y="1951200"/>
            <a:ext cx="6335640" cy="47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mos el com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ine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ara generar un control de amplitud en función del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3838680" cy="3971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076720" y="42210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78936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 en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643280" y="393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43280" y="3933720"/>
            <a:ext cx="208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732720" y="3213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32720" y="321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0872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plitud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908000" y="2349360"/>
            <a:ext cx="5295960" cy="3772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mos el com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ara generar un control de frecu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apagar y encender con un fade in -out de 100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6335640" cy="4417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547640" y="3205080"/>
            <a:ext cx="590400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Genera retardo en cualquier mens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ogEdge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l numero es almacenado y manda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bang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por salidas distin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ack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los números son almacenados como ítems en u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con su posición en la lista correspondiente en la entrada que fue recib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lecciona entre 2 o más entra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zdac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s similar 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ac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ero prende y apa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340000" y="2146320"/>
            <a:ext cx="453708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uffer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lmacena sonidos que pueden o no ser leídos de arch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7961400" cy="30477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826920" y="5373720"/>
            <a:ext cx="4032360" cy="1017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435640" y="5300640"/>
            <a:ext cx="288144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ne~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usa para generar aumentar o disminuir amplitud, pero también para generar ataques, estado estacionario, decaimiento y transientes. Esto se puede realizar ingresando un mensaj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mo argu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484360" y="2637000"/>
            <a:ext cx="3684600" cy="3924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flipV="1">
            <a:off x="6516720" y="3213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16720" y="4437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604360" y="4581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00720" y="2637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516720" y="3860280"/>
            <a:ext cx="36036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77080" y="386064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101080" y="3860640"/>
            <a:ext cx="35856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32720" y="5013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ne~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usa para generar aumentar o disminuir amplitud, pero también para generar ataques, estado estacionario, decaimiento y transientes. Esto se puede realizar ingresando un mensaj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mo argu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806436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hasor~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genera una rampa, esta señal posee más armónicos, puede ser usada para generar efectos y modificar señ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5400720" cy="42321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195640" y="2708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a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24360" y="2492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ente de si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bra un Patch nuevo y genere los siguientes ele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r start y stop – El sonido posee un nivel elev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63374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ise~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genera ruido blan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771640" y="2205000"/>
            <a:ext cx="26704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627280" y="2349360"/>
            <a:ext cx="3890880" cy="4179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ción de amplitud o batimientos. Las señales son añadidas (sumadas) en la ent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señales son añadidas (sumadas) en la ent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788832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ando el objeto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kslide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es decir el teclado de un piano ) genere sonidos que sean conforme a la escala musical usual. El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kslide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ntrega números enteros en formato MIDI. Para convertirlos a frecuencia cree un subpatch basado en el objeto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este objeto permite colocar expresiones de lenguaje C), la conversión se logra con la siguiente expresión 8.175798 * pow(1.0594633\,$i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iv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son para mensaje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d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ive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son para señ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116000" y="2475000"/>
            <a:ext cx="691200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ndo un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object box y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scribiend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umenu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despliega un menú que puede ser usado para varios propós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16000" y="2492280"/>
            <a:ext cx="5533920" cy="42195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0" y="3573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64360" y="2997360"/>
            <a:ext cx="165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parece usando rigth-click del mouse y se escriben las alternativas separadas en c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este caso rutear señales.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iv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se puede usar la primera letr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. (No con send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ive~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68200" y="2421000"/>
            <a:ext cx="86965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este caso rutear señales.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se puede usar la primera letr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 (No hacer con send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eive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26920" y="2565360"/>
            <a:ext cx="727560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380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mplitud y Amplitud Relativa: Us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uslid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odemos controlar la amplitud (ajustar de 0 a 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1886040" cy="44193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340000" y="522936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00720" y="4581360"/>
            <a:ext cx="230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signo ($) con un argumento (1)escoge el elemento correspondiente en la 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ycle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Genera una onda senoidal el argumento 1000 corresponde a la frecu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tart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Son mensajes de MAX-MSP para encender y apagar el son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ac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corresponde al conversor digital analógico inserto en la tarjeta de sonido del computador. Si se hace doble click e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ac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aparece la ventana D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1413000"/>
            <a:ext cx="8497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ruiremos un subpatch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facilitar la visualización. Genere una caja objeto y escrib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tcher conva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9242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sar la Option All windows 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4105440" cy="43149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276720" y="3933720"/>
            <a:ext cx="3743280" cy="16765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651640" y="4292640"/>
            <a:ext cx="244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ut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280" y="1413000"/>
            <a:ext cx="8497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ruiremos un subpatch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facilitar la visualización. Genere una caja objeto y escrib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tcher conva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4897440" cy="21938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68360" y="393372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68360" y="5445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48000" y="4869000"/>
            <a:ext cx="3240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valúa expresiones tipo lenguaje C, operaciones y fun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$i1-$i9 hasta 9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f1-$f9 hasta 9 flo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484360" y="2205000"/>
            <a:ext cx="4172040" cy="42483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95280" y="1413000"/>
            <a:ext cx="8497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demos usar el subpatch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todB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 cumple la misma 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6769080" cy="50608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726160" y="1773360"/>
            <a:ext cx="12240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51640" y="170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nda los mensaj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77080" y="2060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9640" y="1700280"/>
            <a:ext cx="410364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88000" y="2708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740720" y="249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z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16720" y="2852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9636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96360" y="3284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740720" y="306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6769080" cy="50608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859280" y="2637000"/>
            <a:ext cx="1657440" cy="17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96360" y="335772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rola la amplitu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32720" y="3645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1700280"/>
            <a:ext cx="410364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6769080" cy="50608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492360" y="2421000"/>
            <a:ext cx="144000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4005360"/>
            <a:ext cx="194472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84360" y="602136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740720" y="5661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mbia la osci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2320920" cy="2663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2901960" cy="38876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148360" y="472428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ig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nvierte un número en una señal determinado por el numero que recibe a la 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732720" y="2349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28000" y="234936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16360" y="2997360"/>
            <a:ext cx="172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ine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usada para cambiar la fase 0.75 a 1.75 en 10000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1835280" y="3500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16360" y="1989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51280" y="198900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32000" y="4581360"/>
            <a:ext cx="172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resultado es una onda senoidal  que varia de -8Hz a 8Hz y se suma a l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reqB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n el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5280" y="5229360"/>
            <a:ext cx="158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ambos osciladores se dejo la frecuencia en 1000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78920" y="22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9280" y="2276640"/>
            <a:ext cx="0" cy="35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7928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3168720" cy="25286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5940360" y="4292640"/>
            <a:ext cx="2160720" cy="1557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5076720" y="198900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ambia el nombre e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gún lo que se desea cambia cuando se apriet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cendiendo y apagando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187280" y="1335240"/>
            <a:ext cx="5743800" cy="51181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7236000" y="2060640"/>
            <a:ext cx="143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termina frecuencia y amplit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372360" y="2565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40360" y="3357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236000" y="3213000"/>
            <a:ext cx="165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rola patches remot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6707160" cy="50324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cendiendo y apagando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7236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64360" y="4005360"/>
            <a:ext cx="17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vierte numeros o simbolos e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6337440" cy="3781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724360" y="1125360"/>
            <a:ext cx="29718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181240" y="1728720"/>
            <a:ext cx="4781520" cy="34005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cendiendo y apagando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692000" y="2421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4000" y="1989000"/>
            <a:ext cx="136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e el comienzo de una porción de una señ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27640" y="3933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80360" y="342900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 y almacena en el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cendiendo y apagando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4933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640872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576108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545080" cy="33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42920" y="2320920"/>
            <a:ext cx="6553440" cy="3987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8436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*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gresamos un control de ampl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*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una caja de numer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gresamos un control de ampl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16000" y="2708280"/>
            <a:ext cx="640872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0:53:27Z</dcterms:created>
  <dc:creator>Eddie</dc:creator>
  <dc:description/>
  <dc:language>en-US</dc:language>
  <cp:lastModifiedBy>Eddie</cp:lastModifiedBy>
  <dcterms:modified xsi:type="dcterms:W3CDTF">2009-09-03T15:31:24Z</dcterms:modified>
  <cp:revision>107</cp:revision>
  <dc:subject/>
  <dc:title>MAX- MSP</dc:title>
</cp:coreProperties>
</file>