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1CE0-17F8-4965-9AFD-D658CDC5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D55A-FE04-4117-8EA9-EADF1DFF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0272-D5D8-4D0E-8F93-9AB71755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A83B-AE31-4775-BE94-C4D154D5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490E-B584-4D59-839A-88B3E923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DCAB-5CC5-4168-B090-E13A7DDB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C141-2A43-40BE-AF45-289BE834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9588-AD57-464D-932C-367966CC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3EE7-837B-4F78-BED2-42FFE7F0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D150-EAEB-4958-898C-4A399685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09ED-67C4-45DE-B00C-1A8458B7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C844-7935-4B03-99DF-75B84F1D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90F1-3B45-401B-9B27-7654FD53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3457-CEC4-409E-A207-EA310BC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D7E5-E090-4134-A67D-2A7ED8E7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3A45-E2CF-4300-BC0F-585B2226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96E5-6A9B-4079-887B-74D3688D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528D-0938-4C9D-AA8B-71F5C299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1404-2618-43FA-A9DA-5772FEAC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53E46-125A-4025-9B91-98F88E88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7855-79A9-488F-8ADF-CD729E05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A9F6-7942-4D3B-8418-944879F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C6A0-5D55-4035-8711-9509D738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E9B4-0883-48C5-BD20-EEE69666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10CE-5085-4611-8AFD-651E11B598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D658-8C83-4244-BBEB-36F05E7481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ando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mo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951200"/>
            <a:ext cx="633564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amplitud en función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2492280"/>
            <a:ext cx="3838680" cy="397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76720" y="4221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789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en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328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93372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73272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tud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295960" cy="3772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mos el com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generar un control de 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pagar y encender con un fade in -out de 10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335640" cy="441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47640" y="3205080"/>
            <a:ext cx="590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retardo en cualquier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gEdg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l numero es almacenado y mand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or salidas disti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ck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los números son almacenados como ítems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con su posición en la lista correspondiente en la entrada que fue reci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lecciona entre 2 o más ent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z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similar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o prende y a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40000" y="2146320"/>
            <a:ext cx="45370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uffer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lmacena sonidos que pueden o no ser leídos de arch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7961400" cy="3047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5373720"/>
            <a:ext cx="4032360" cy="1017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35640" y="5300640"/>
            <a:ext cx="28814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3684600" cy="3924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V="1">
            <a:off x="6516720" y="32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360" y="45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26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16720" y="3860280"/>
            <a:ext cx="3603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1080" y="3860640"/>
            <a:ext cx="358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5013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usa para generar aumentar o disminuir amplitud, pero también para generar ataques, estado estacionario, decaimiento y transientes. Esto se puede realizar ingresando un mensaj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arg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06436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hasor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una rampa, esta señal posee más armónicos, puede ser usada para generar efectos y modificar señ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40072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195640" y="2708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2492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ente de s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start y stop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ise~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genera ruido blan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26704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890880" cy="417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ción de amplitud o batimientos. 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señales son añadidas (sumadas) en l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883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ando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 decir el teclado de un piano ) genere sonidos que sean conforme a la escala musical usual. 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slide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trega números enteros en formato MIDI. Para convertirlos a frecuencia cree un subpatch basado en el obje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este objeto permite colocar expresiones de lenguaje C), la conversión se logra con la siguiente expresión 8.175798 * pow(1.0594633\,$i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mensaje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on para señ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16000" y="2475000"/>
            <a:ext cx="6912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u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object box 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cribiend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umenu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despliega un menú que puede ser usado para varios pro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533920" cy="4219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3573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4360" y="299736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arece usando rigth-click del mouse y se escriben las alternativas separadas en c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(No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ive~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68200" y="2421000"/>
            <a:ext cx="86965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este caso rutear señales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se puede usar la primera letr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 (No hacer con send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iv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7275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3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plitud y Amplitud Relativa: 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slid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demos controlar la amplitud (ajustar de 0 a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1886040" cy="441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40000" y="5229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4581360"/>
            <a:ext cx="230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gno ($) con un argumento (1)escoge el elemento correspondiente en l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ycle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 una onda senoidal el argumento 1000 corresponde a la frecu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on mensajes de MAX-MSP para encender y apagar el so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orresponde al conversor digital analógico inserto en la tarjeta de sonido del computador. Si se hace doble click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ac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parece la ventana 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924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la Option All windows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05440" cy="4314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276720" y="3933720"/>
            <a:ext cx="3743280" cy="1676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1640" y="4292640"/>
            <a:ext cx="244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ut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iremos un subpatch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facilitar la visualización. Genere una caja objeto y escrib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cher conva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4897440" cy="2193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68360" y="39337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44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869000"/>
            <a:ext cx="3240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valúa expresiones tipo lenguaje C, operaciones y fu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$i1-$i9 hasta 9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f1-$f9 hasta 9 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4172040" cy="424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1413000"/>
            <a:ext cx="849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demos usar el subpatch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todB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umple la mism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26160" y="1773360"/>
            <a:ext cx="122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5164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los mensa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7708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2492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96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4072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859280" y="2637000"/>
            <a:ext cx="165744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la ampl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700280"/>
            <a:ext cx="410364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6769080" cy="50608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492360" y="2421000"/>
            <a:ext cx="1440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4005360"/>
            <a:ext cx="194472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6021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0720" y="566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la osc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2320920" cy="266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2901960" cy="3887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148360" y="472428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vierte un número en una señal determinado por el numero que recibe a la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3272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23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299736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sada para cambiar la fase 0.75 a 1.75 en 10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835280" y="35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6360" y="1989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1280" y="1989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4581360"/>
            <a:ext cx="17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ultado es una onda senoidal  que varia de -8Hz a 8Hz y se suma a 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eqB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522936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osciladores se dejo la frecuencia en 100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7892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viando y Recibiendo mensajes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3168720" cy="2528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557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076720" y="198900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mbia el nombre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gún lo que se desea cambia cuando se apriet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1335240"/>
            <a:ext cx="5743800" cy="511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36000" y="206064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termina frecuencia y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7236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3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321300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rola patches remo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6707160" cy="5032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72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400536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numeros o simbol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337440" cy="378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1125360"/>
            <a:ext cx="2971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181240" y="1728720"/>
            <a:ext cx="4781520" cy="3400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692000" y="2421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989000"/>
            <a:ext cx="13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e el comienzo de una porción de un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2764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80360" y="34290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y almacena en 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endiendo y apagando MAX-M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93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6408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5761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54508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320920"/>
            <a:ext cx="6553440" cy="398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idos Usando MAX-M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nd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*~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una caja de numer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gresamos un control de amp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64087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9-03T15:31:24Z</dcterms:modified>
  <cp:revision>107</cp:revision>
  <dc:subject/>
  <dc:title>MAX- MSP</dc:title>
</cp:coreProperties>
</file>