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6508-DBBB-4F96-890E-B20048FE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0E88-A74C-4F11-8D2F-0F61202E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E165-82A5-4383-B123-3E67317A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C053-FAE0-4EAA-8851-57EF6CC9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A419-E506-436D-BBAA-FE447DCB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EEDD-FAAA-4979-B1B9-939EDDE1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682E-ACEF-4146-B63A-BD020479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D852-0516-45F0-88C0-8E6CC683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066C-3537-4C20-A21F-5BE938E4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E246-F3B9-4710-84FE-9B07711E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642E-AC68-4BD6-A565-B9AB6344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77E1-BAC7-4E86-B180-6C2C2BC2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A619-9E15-4364-A63D-A961E23E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7A8F-A839-4892-B3F2-71A92608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ABFA-E69D-4752-AC8F-B5409AE2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6194-484C-40B4-927D-2421A236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4354-A6BC-48E8-9F52-333DEDBD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DDFF-3F7A-40DC-B6A5-F997F39D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B25FF-8E64-4E5D-B564-92B8BC0D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8DEE-BC70-45BC-87CA-1938ADF8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D7D0-206E-45C6-99B2-81FDD689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3D81-047E-40D4-8C21-CB52AD59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D7F1-1259-46B4-AD29-417C6445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191E-B973-4F1B-830B-F795B148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51DA-FE51-474A-B366-82CAF3A2A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916A-522F-40AF-A191-80FFAEA07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ando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951200"/>
            <a:ext cx="633564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amplitud en función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3838680" cy="397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76720" y="4221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789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en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4328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393372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295960" cy="3772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pagar y encender con un fade in -out de 10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335640" cy="441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47640" y="3205080"/>
            <a:ext cx="590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retardo en cualquier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gEdg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 numero es almacenado y mand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or salidas disti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ck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los números son almacenados como ítems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con su posición en la lista correspondiente en la entrada que fue reci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lecciona entre 2 o más ent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z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similar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o prende y a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40000" y="2146320"/>
            <a:ext cx="45370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uffer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macena sonidos que pueden o no ser leídos de arch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61400" cy="3047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4032360" cy="1017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8814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3684600" cy="392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V="1">
            <a:off x="6516720" y="32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516720" y="3860280"/>
            <a:ext cx="360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3860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3860640"/>
            <a:ext cx="358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501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80643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hasor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una rampa, esta señal posee más armónicos, puede ser usada para generar efectos y modificar señ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400720" cy="423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195640" y="2708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2492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ente de s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start y stop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is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ruido bla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2670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890880" cy="417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ción de amplitud o batimientos. 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883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 decir el teclado de un piano ) genere sonidos que sean conforme a la escala musical usual.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trega números enteros en formato MIDI. Para convertirlos a frecuencia cree un subpatch basado en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e objeto permite colocar expresiones de lenguaje C), la conversión se logra con la siguiente expresión 8.175798 * pow(1.0594633\,$i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mensaje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señ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6000" y="2475000"/>
            <a:ext cx="6912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u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object box 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ien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umenu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despliega un menú que puede ser usado para varios propó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533920" cy="421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4360" y="2997360"/>
            <a:ext cx="16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arece usando rigth-click del mouse y se escriben las alternativas separadas en c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. (No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68200" y="2421000"/>
            <a:ext cx="86965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 (No hacer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2756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3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plitud y Amplitud Relativa: 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demos controlar la amplitud (ajustar de 0 a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1886040" cy="441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340000" y="5229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581360"/>
            <a:ext cx="230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gno ($) con un argumento (1)escoge el elemento correspondiente en l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ycl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una onda senoidal el argumento 1000 corresponde a la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on mensajes de MAX-MSP para encender y apagar el 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rresponde al conversor digital analógico inserto en la tarjeta de sonido del computador. Si se hace doble click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parece la ventana 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la Option All windows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105440" cy="4314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3933720"/>
            <a:ext cx="374328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1640" y="4292640"/>
            <a:ext cx="24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u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4897440" cy="2193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683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4869000"/>
            <a:ext cx="324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valúa expresiones tipo lenguaje C, operaciones y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$i1-$i9 hasta 9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f1-$f9 hasta 9 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4172040" cy="424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demos usar el subpatch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odB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umple la mism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26160" y="1773360"/>
            <a:ext cx="122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164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los mensaj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708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6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9636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407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859280" y="2637000"/>
            <a:ext cx="165744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357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la amp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492360" y="2421000"/>
            <a:ext cx="1440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4005360"/>
            <a:ext cx="194472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6021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la osc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320920" cy="266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901960" cy="3887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148360" y="4724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vierte un número en una señal determinado por el numero que recibe a la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3272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28000" y="23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299736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sada para cambiar la fase 0.75 a 1.75 en 10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835280" y="35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6360" y="198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4581360"/>
            <a:ext cx="17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ultado es una onda senoidal  que varia de -8Hz a 8Hz y se suma a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eqB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5229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osciladores se dejo la frecuencia en 100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7892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3168720" cy="2528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940360" y="4292640"/>
            <a:ext cx="2160720" cy="1557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6720" y="1989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mbia el nombre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gún lo que se desea cambia cuando se apriet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1335240"/>
            <a:ext cx="5743800" cy="5118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236000" y="206064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termina frecuencia y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0360" y="33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321300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patches remo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6707160" cy="5032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72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40053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numeros o simbol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2971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181240" y="1728720"/>
            <a:ext cx="4781520" cy="34005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692000" y="2421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98900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e el comienzo de una porción de un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80360" y="34290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y almacena en 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93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6408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5761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5450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320920"/>
            <a:ext cx="655344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una caja de numer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640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9-03T15:31:24Z</dcterms:modified>
  <cp:revision>107</cp:revision>
  <dc:subject/>
  <dc:title>MAX- MSP</dc:title>
</cp:coreProperties>
</file>