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5983-8251-4C17-A029-90497630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96A3-930B-4A40-A150-C556DD45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64D3-C123-4EC8-ACE8-3E068750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D71D9-989D-45DF-B4FA-1F89C420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12D4-943B-492F-B9EA-1B51F31A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BEB5-3716-4270-B93A-5BC66D17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EC37-AD1B-48C7-9B5D-9FBB34C6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350F-E990-4B61-8C44-A0242AD2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8610-C21E-4B67-B875-136A1494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52F4-2C06-453F-9E1B-CF8FF1FA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EF32-8D27-4FEF-92B4-E072025A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EBAB-E034-4E68-8F9D-C5274CAB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C402-E8C8-4B3E-9AAE-E61F4859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9396-9303-4A55-94D0-3889045E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B811-8B87-4532-8D4E-886FE059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D1B2-C69A-41FD-8F8F-4C97E46D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BCE3-9133-4E87-9D70-5C7BDAFC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A9AA0-9045-46DB-95D4-2C3E864D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84523-BB9A-4B62-A04C-3F2BFBAB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18748-C310-4513-BEF6-AAFEBDF1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177FE-0FC2-40AC-A121-D6A321F7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3559E-ABC9-484A-8873-5B498A1E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AD7E-B198-4D9B-8C8B-02F38316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94DF3-AF1C-4214-ADFD-41F35A49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284D-CC73-49F5-BEE8-70FD0EF5D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2B20-1FB6-43A9-BCC3-A469E1A07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Anillo y de Ampl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465960" cy="2152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2638440" cy="200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11640" y="3716280"/>
            <a:ext cx="3429000" cy="2209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55640" y="6021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ulación de A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587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ulación de Amp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émolo - Modulador de Ani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7076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ampl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85690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odulación en frecuencia se produce cuando la frecuencia de una señal es cambiada por otra señal oscilatoria. Se distinguen, la frecuencia portadora, frecuencia moduladora y la profundidad de mod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la frecuencia portadora y la profundidad no son muy grandes se conoce como vib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odulación en frecuencia genera múltiples bandas laterales, lo que trae gran armonicidad al son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ecuenc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Fm,  Fc-F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2Fm, Fc-2F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3Fm, Fc-3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54295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5172120" cy="4619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18200" y="1628640"/>
            <a:ext cx="284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e un patch y a continuación cree el subpatch a través de la caja objeto y llámelo patcher simFM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5781600" cy="5402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24360" y="2276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72360" y="1989000"/>
            <a:ext cx="2520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doma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a el valor a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l 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a partir del valor en la caja nume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parámetro es pasado a través de 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4505400" cy="2276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2492280"/>
            <a:ext cx="3209760" cy="2629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H="1">
            <a:off x="3492000" y="3716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37893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357336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las modificaciones al patch pueden ser grabadas con este objeto a partir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hift-clic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alguna de sus cel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3640" y="4005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5371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hay conector afecta a solo los objetos con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03640" y="1413000"/>
            <a:ext cx="5734080" cy="5221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277128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70028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las modificaciones al patch pueden ser grabadas con este objeto a partir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hift-clic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alguna de sus cel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791160" cy="3533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95640" y="234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2060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archivo 512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40360" y="2781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 e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genere los siguiente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toggle – El sonido posee un nivel ele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02800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714480" cy="3790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95640" y="234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2060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archivo 512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2781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 e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26920" y="1149480"/>
            <a:ext cx="76327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671640" cy="3548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140360" y="51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4941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es In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9640" y="5661000"/>
            <a:ext cx="3816360" cy="644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95640" y="602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580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el archivo y lo almacena en u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6381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050920" y="60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5128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2852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partir de los datos del buffer genera un ciclo, es decir le da la frecuencia 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19564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7040" y="1628640"/>
            <a:ext cx="50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ja numérica es para controlar l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2280"/>
            <a:ext cx="11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usan para on/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342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4653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393372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671640" cy="3548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9640" y="5661000"/>
            <a:ext cx="3816360" cy="644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95640" y="602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57340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ble click para ver l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2772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2968560" cy="6119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flipH="1">
            <a:off x="5508720" y="105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67280" y="836640"/>
            <a:ext cx="122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modifica la señal activando la caja nu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285264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 como salida una señal que alimenta cycle y la vueve un tono p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3789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92720" y="4292640"/>
            <a:ext cx="358920" cy="1728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771640" y="4797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3933720"/>
            <a:ext cx="187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okup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ermite usar los valores en buffer y realizar wave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3295440" cy="3751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92720" y="5084640"/>
            <a:ext cx="1440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84720" y="148428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 el wave shaping usando una función envolv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887640" cy="3716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356000" y="1700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aliza waveshaping por modulación en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019320" cy="296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356000" y="1916280"/>
            <a:ext cx="3743280" cy="3000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908000" y="1413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análogo a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050920" y="1773360"/>
            <a:ext cx="11527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1773360"/>
            <a:ext cx="93636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376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06200" y="1133640"/>
            <a:ext cx="8858520" cy="5724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e un subpatch llamado parcial~, este será reuti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63802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4410000" cy="1866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H="1">
            <a:off x="248400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20811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 el numero 1 d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48436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2924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357336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 20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48000" y="342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48000" y="3573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067280" y="1844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76720" y="184464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184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3640" y="4005360"/>
            <a:ext cx="10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da un cero y apaga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4212360" y="2203920"/>
            <a:ext cx="576360" cy="67690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76400 h 6769080"/>
              <a:gd name="textAreaBottom" fmla="*/ 6592680 h 67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71640" y="5877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 durante 2 s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427640" y="1628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95640" y="119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836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5600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580000" y="1484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435640" y="119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s 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248000" cy="3220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flipV="1">
            <a:off x="755640" y="177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1268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aliza la re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40000" y="234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133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mero de muestra de 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2000" y="2924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71640" y="2781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ierte a variable numero 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79640" y="3716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3213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recibe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incrementa un número, cuando recibe un entero toma ese valor para iniciar la re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16360" y="501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47242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desde el buffer la señal a partir de una determinad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4437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5084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68360" y="58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805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00240" cy="3744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042920" y="148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 del a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356000" y="2421000"/>
            <a:ext cx="43927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390920" cy="40100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268360" y="51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80000" y="47973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oduce una señal a partir de una posición inicial, final y en función de la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rem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dar la evolución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propiedades se ven con Ge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5724360" cy="3390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84720" y="335772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31417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3716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6360" y="364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me este patch, los puntos los adiciona manu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un bang para acti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5734080" cy="4143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51280" y="342900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24720" y="299736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ua como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es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ne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me este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6676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partir de los siguientes subpat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4619880" cy="471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508720" y="378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3500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mple de onda tri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5734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544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nota MIDI 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ch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450864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mple de onda tri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43640" y="350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nota MIDI 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3753000" cy="3362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27280" y="400536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4797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ch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56360" y="3500280"/>
            <a:ext cx="19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ontrolar la diná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983200" cy="4762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580000" y="3860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5-13T19:55:08Z</dcterms:modified>
  <cp:revision>132</cp:revision>
  <dc:subject/>
  <dc:title>MAX- MSP</dc:title>
</cp:coreProperties>
</file>