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40BD-7A30-410D-B448-97C927A6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1ABF-DDF4-4CE5-B0D0-70EB57B7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C582-3F59-4A42-973E-662F23F8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C2BF-CF33-4E26-9C1E-54BD82FB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E990-F831-4673-859C-56B91E14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AA52-0AAE-4680-98B5-838F5066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C69A-3417-4200-828E-4D2F97B1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8DEF-3FC0-46A2-8684-C1E43958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70BC-463E-4015-B80A-CD2523C4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8D48-AE63-4625-B6B1-76AB16CD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EAC-89B4-4537-A2E6-242B7AE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7D6B-9235-499D-AE5D-E6F58ADB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827F-9565-4E7D-8584-CDCB0B7A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1E2E-D51A-4934-B07F-77E6AE0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3ACB-B9C4-4A6D-9180-C378586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4967-A3C2-4AF5-A43E-C8949F25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1BD6-EFD5-4598-957E-E4A8E9C6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BC5B-D11D-4FC4-828A-62F3C43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2EAD-4CE0-4606-8E98-CEE2AB99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8146-C6A3-47AB-9A77-C3F81085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5756-7529-4C68-B31C-EAA1A028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8C47-230A-4029-8710-A4C4D42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A008-884E-4C1A-8871-2F771400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8EEA-CDA0-48A7-800C-687C7E8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3559-BBF5-4086-8F7C-39360F796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74F4-FA59-48BB-AB46-D272E6F89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nillo y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46596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63844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émolo - Modulador de An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076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856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dulación en frecuencia se produce cuando la frecuencia de una señal es cambiada por otra señal oscilatoria. Se distinguen, la frecuencia portadora, frecuencia moduladora y la profundidad de mod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la frecuencia portadora y la profundidad no son muy grandes se conoce como vib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odulación en frecuencia genera múltiples bandas laterales, lo que trae gran armonicidad al so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Fm,  Fc-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2Fm, Fc-2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3Fm, Fc-3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54295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5172120" cy="4619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8200" y="1628640"/>
            <a:ext cx="284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e un patch y a continuación cree el subpatch a través de la caja objeto y llámelo patcher simFM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5781600" cy="5402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24360" y="2276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1989000"/>
            <a:ext cx="252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a el valor a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 partir del valor en la caja nu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es pasado a través de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505400" cy="2276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3209760" cy="262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349200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789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73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00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371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hay conector afecta a solo los objetos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5734080" cy="5221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277128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700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791160" cy="35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toggle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0280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1448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1149480"/>
            <a:ext cx="76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036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941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In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580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l archivo y lo almacena en u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381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0920" y="60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los datos del buffer genera un ciclo, es decir le da la 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95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040" y="162864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ja numérica es para controlar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228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n para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93372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734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ble click para ver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7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968560" cy="6119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50872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836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modifica la señal activando la caja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285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 como salida una señal que alimenta cycle y la vueve un tono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4292640"/>
            <a:ext cx="358920" cy="172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393372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okup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ermite usar los valores en buffer y realizar wave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295440" cy="375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5084640"/>
            <a:ext cx="1440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1484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 el wave shaping usando una función env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5600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waveshaping por modulación en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019320" cy="296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743280" cy="3000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08000" y="1413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análogo 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920" y="1773360"/>
            <a:ext cx="1152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773360"/>
            <a:ext cx="93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76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200" y="1133640"/>
            <a:ext cx="8858520" cy="5724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 un subpatch llamado parcial~, este será reuti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380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410000" cy="1866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248400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0811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 el numero 1 d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8436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92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357336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2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67280" y="1844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76720" y="1844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00536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un cero y apag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12360" y="2203920"/>
            <a:ext cx="576360" cy="676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 durante 2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27640" y="1628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580000" y="148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3564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248000" cy="322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V="1">
            <a:off x="755640" y="177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iza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13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mero de muestra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292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7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a variable numer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21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recibe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incrementa un número, cuando recibe un entero toma ese valor para iniciar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16360" y="501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desde el buffer la señal a partir de una determinad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8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805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00240" cy="3744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 del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390920" cy="401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68360" y="51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4797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oduce una señal a partir de una posición inicial, final y en función de la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e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dar la evolución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ropiedades se ven con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724360" cy="33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3357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141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7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, los puntos los adiciona ma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un bang para ac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5128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2997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 como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6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partir de los siguientes subpat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461988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0872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3500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54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50864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35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753000" cy="3362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27280" y="4005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4797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6360" y="35002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ntrolar la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983200" cy="47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80000" y="386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5-13T19:55:08Z</dcterms:modified>
  <cp:revision>132</cp:revision>
  <dc:subject/>
  <dc:title>MAX- MSP</dc:title>
</cp:coreProperties>
</file>