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D039A-9DD4-4301-8799-030F47798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EC778-5890-4C80-8D12-90DA11C05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1BE36-C819-4DAD-B57A-11F841304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340CD-B0A8-4335-90C7-BAA37B3AF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3D7FA-3CCD-4125-8440-06D39558A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5E415-7B54-4384-8532-1EA32AB3B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47C3D-638F-4902-9B6B-FBEFB2F3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C4C54-F930-4F31-A3E3-6163FECAC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46DBE-BFB8-4BEE-B7E6-CE5388468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717DF-BAD5-4130-807A-DDBA0FDE6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47481-8BC7-4CC6-AFD5-5139DF4B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05E2B-936A-4ED4-B495-FD0DCC588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7D4A9-34F5-4CC3-B779-01F07664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51C9B-6AE0-4D57-B230-26672F06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9D2BF-CFD4-4317-8838-703FAB5A7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5D723-C493-46E9-A26E-D4AD8EC39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0E3B0-D2D0-4E97-90CB-F986AF20B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2434A-5394-4603-84A4-EF88D0460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05A76-83D9-4F74-96D4-8C300509B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CEAB3-2FCD-4B7F-8802-B12D54C6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BB7B2-D39C-410D-80DA-492AC87BC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559F1-D07D-40BE-BD2C-F91B2712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D252C-2BA5-4624-9D7F-AE45387E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B537F-004C-43AC-B2B9-0A331075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8927C-E740-4F24-8D97-BA8BD8C20D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5FD9E-543B-4E3E-A496-F2C3E051A4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MAX- MSP 04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rgio Floo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Modulación de Anillo y de Amplit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6465960" cy="21528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2638440" cy="20098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211640" y="3716280"/>
            <a:ext cx="3429000" cy="22096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55640" y="60213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dulación de Ani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11640" y="587700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dulación de Amplit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Trémolo - Modulador de Anil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770760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Modulación de amplit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24000" y="1330200"/>
            <a:ext cx="8569080" cy="52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Modulación de Frecu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modulación en frecuencia se produce cuando la frecuencia de una señal es cambiada por otra señal oscilatoria. Se distinguen, la frecuencia portadora, frecuencia moduladora y la profundidad de modul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uando la frecuencia portadora y la profundidad no son muy grandes se conoce como vibra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modulación en frecuencia genera múltiples bandas laterales, lo que trae gran armonicidad al son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recuenci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c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c+Fm,  Fc-Fm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c+2Fm, Fc-2Fm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c+3Fm, Fc-3F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Modulación de Frecu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187280" y="1916280"/>
            <a:ext cx="542952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Modulación de Frecu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5172120" cy="46195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118200" y="1628640"/>
            <a:ext cx="2846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ree un patch y a continuación cree el subpatch a través de la caja objeto y llámelo patcher simFM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Modulación de Frecu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5781600" cy="54025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924360" y="227664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72360" y="1989000"/>
            <a:ext cx="25207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etdomain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da el valor al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omain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del objeto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unction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a partir del valor en la caja numer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parámetro es pasado a través de $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Modulación de Frecu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4505400" cy="22766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572000" y="2492280"/>
            <a:ext cx="3209760" cy="26290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 flipH="1">
            <a:off x="3492000" y="37162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6920" y="3789360"/>
            <a:ext cx="18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16000" y="3573360"/>
            <a:ext cx="2376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bjeto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eset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, las modificaciones al patch pueden ser grabadas con este objeto a partir de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hift-click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n alguna de sus cel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443640" y="400536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553716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uando hay conector afecta a solo los objetos conec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Modulación de Frecu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203640" y="1413000"/>
            <a:ext cx="5734080" cy="52210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 flipH="1">
            <a:off x="2771280" y="3357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5280" y="1700280"/>
            <a:ext cx="2376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bjeto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eset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, las modificaciones al patch pueden ser grabadas con este objeto a partir de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hift-click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n alguna de sus cel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Wave Sha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3791160" cy="35337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995640" y="2349360"/>
            <a:ext cx="165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2000" y="206064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ee archivo 512 muest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140360" y="2781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51640" y="2852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lmacena en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intesis Adi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bra un Patch nuevo y genere los siguientes ele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sar toggle – El sonido posee un nivel elev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8028000" cy="37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3714480" cy="37908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Wave Sha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95640" y="2349360"/>
            <a:ext cx="165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012000" y="206064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ee archivo 512 muest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140360" y="2781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651640" y="2852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lmacena en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Wave Sha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826920" y="1149480"/>
            <a:ext cx="7632720" cy="55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Wave Sha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3671640" cy="35481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140360" y="5157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219640" y="494172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alores Ini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539640" y="5661000"/>
            <a:ext cx="3816360" cy="6444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95640" y="60213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148360" y="5805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rga el archivo y lo almacena en un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35280" y="638172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bre del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2050920" y="60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51280" y="3068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859280" y="285264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 partir de los datos del buffer genera un ciclo, es decir le da la frecuencia funda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195640" y="206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7040" y="1628640"/>
            <a:ext cx="504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caja numérica es para controlar la frecu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492280"/>
            <a:ext cx="11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usan para on/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0920" y="342900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50920" y="4653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1280" y="3933720"/>
            <a:ext cx="144360" cy="1440000"/>
          </a:xfrm>
          <a:custGeom>
            <a:avLst/>
            <a:gdLst>
              <a:gd name="textAreaLeft" fmla="*/ 92160 w 144360"/>
              <a:gd name="textAreaRight" fmla="*/ 144360 w 14436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Wave Sha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3671640" cy="35481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539640" y="5661000"/>
            <a:ext cx="3816360" cy="6444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995640" y="60213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435640" y="57340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ble click para ver la señ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5364000" y="4292640"/>
            <a:ext cx="27720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Wave Sha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508720" y="549360"/>
            <a:ext cx="2968560" cy="61196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 flipH="1">
            <a:off x="5508720" y="105264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067280" y="836640"/>
            <a:ext cx="122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modifica la señal activando la caja numé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771640" y="2852640"/>
            <a:ext cx="23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a como salida una señal que alimenta cycle y la vueve un tono p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716360" y="3789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716360" y="5157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292720" y="4292640"/>
            <a:ext cx="358920" cy="1728720"/>
          </a:xfrm>
          <a:custGeom>
            <a:avLst/>
            <a:gdLst>
              <a:gd name="textAreaLeft" fmla="*/ 229320 w 358920"/>
              <a:gd name="textAreaRight" fmla="*/ 359280 w 35892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2771640" y="479736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0920" y="3933720"/>
            <a:ext cx="187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lookup~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permite usar los valores en buffer y realizar wavesha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3059280" y="2133720"/>
            <a:ext cx="3295440" cy="37512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Wave Sha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292720" y="5084640"/>
            <a:ext cx="144000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084720" y="1484280"/>
            <a:ext cx="20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aliza el wave shaping usando una función envolv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Wave Sha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3887640" cy="371628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4356000" y="170028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realiza waveshaping por modulación en frecu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Capturando Soni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3019320" cy="29620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4356000" y="1916280"/>
            <a:ext cx="3743280" cy="30002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1908000" y="1413000"/>
            <a:ext cx="45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versor análogo a dig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050920" y="1773360"/>
            <a:ext cx="115272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788000" y="1773360"/>
            <a:ext cx="93636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Capturando Soni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3762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06200" y="1133640"/>
            <a:ext cx="8858520" cy="572436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Capturando Soni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intesis Adi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ree un subpatch llamado parcial~, este será reutiliz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39640" y="2565360"/>
            <a:ext cx="638028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Capturando Soni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2916360" y="1628640"/>
            <a:ext cx="4410000" cy="18669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flipH="1">
            <a:off x="2484000" y="2565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71640" y="208116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lecciona el numero 1 del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og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248436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484360" y="29242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547640" y="3573360"/>
            <a:ext cx="13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enera un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de 2000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348000" y="3429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348000" y="357336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4067280" y="1844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3276720" y="1844640"/>
            <a:ext cx="7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1844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03640" y="4005360"/>
            <a:ext cx="108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anda un cero y apaga el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og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rot="16200000">
            <a:off x="4212360" y="2203920"/>
            <a:ext cx="576360" cy="6769080"/>
          </a:xfrm>
          <a:custGeom>
            <a:avLst/>
            <a:gdLst>
              <a:gd name="textAreaLeft" fmla="*/ 368280 w 576360"/>
              <a:gd name="textAreaRight" fmla="*/ 576720 w 576360"/>
              <a:gd name="textAreaTop" fmla="*/ 176400 h 6769080"/>
              <a:gd name="textAreaBottom" fmla="*/ 6592680 h 676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771640" y="587700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raba durante 2 s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4427640" y="162828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95640" y="1197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ra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148360" y="270828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356000" y="393372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bre del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5580000" y="148428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435640" y="119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s ca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Capturando Soni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611280" y="2133720"/>
            <a:ext cx="4248000" cy="32209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 flipV="1">
            <a:off x="755640" y="1773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8360" y="12682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icializa la repro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340000" y="2349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13372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umero de muestra de in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332000" y="2924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771640" y="278136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vierte a variable numero ent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979640" y="37162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419640" y="3213000"/>
            <a:ext cx="54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uando recibe un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bang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se incrementa un número, cuando recibe un entero toma ese valor para iniciar la repro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716360" y="5013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364000" y="4724280"/>
            <a:ext cx="23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ee desde el buffer la señal a partir de una determinada mues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059280" y="443700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0" y="508464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268360" y="5805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na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780000" y="580536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na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Capturando Soni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763640" y="2421000"/>
            <a:ext cx="2100240" cy="374472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1042920" y="148428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lida del au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4356000" y="2421000"/>
            <a:ext cx="4392720" cy="19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Capturando Soni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4390920" cy="401004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2268360" y="515772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780000" y="479736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produce una señal a partir de una posición inicial, final y en función de la velo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intesis Adi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tilizaremos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unction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ra dar la evolución temp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s propiedades se ven con Get 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11280" y="2421000"/>
            <a:ext cx="5724360" cy="3390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084720" y="335772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596360" y="314172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an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219640" y="371628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96360" y="3645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intesis Adi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rme este patch, los puntos los adiciona manual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sar un bang para acti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5734080" cy="41432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51280" y="342900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524720" y="2997360"/>
            <a:ext cx="13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ctua como un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list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ntes de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line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intesis Adi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rme este p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766764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Usando Muestr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partir de los siguientes subpatc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4619880" cy="47149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508720" y="3789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588000" y="3500280"/>
            <a:ext cx="15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mple de onda trian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80000" y="57340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588000" y="5445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versor nota MIDI a frecu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Usando Muestr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tch Princip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443640" y="4508640"/>
            <a:ext cx="15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mple de onda trian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443640" y="350028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versor nota MIDI a frecu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042920" y="2421000"/>
            <a:ext cx="3753000" cy="33624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627280" y="4005360"/>
            <a:ext cx="374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56000" y="4797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Usando Muestr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tch Princip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056360" y="3500280"/>
            <a:ext cx="19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controlar la diná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5983200" cy="47624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580000" y="386064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20:53:27Z</dcterms:created>
  <dc:creator>Eddie</dc:creator>
  <dc:description/>
  <dc:language>en-US</dc:language>
  <cp:lastModifiedBy>Eddie</cp:lastModifiedBy>
  <dcterms:modified xsi:type="dcterms:W3CDTF">2009-05-13T19:55:08Z</dcterms:modified>
  <cp:revision>132</cp:revision>
  <dc:subject/>
  <dc:title>MAX- MSP</dc:title>
</cp:coreProperties>
</file>