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74D55-E0B5-4E42-9A86-A42F92A2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B2DD0-DA62-4757-9DB1-DEBF5E4B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34188-A7AE-4B6D-A51B-EC0739BA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DD5E-F04A-4D76-BB14-D1F8D94D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8D13-F5FA-4A5F-87E1-4026534E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F8DC-889F-4298-97B6-C5EB0242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0BB9-A659-4FEC-9E5B-54755B7D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55C8-939F-44A0-B02A-8ED93196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E983-B0C4-41AE-B17D-ED875D2E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C322-614D-43E0-8727-426DEFB7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556D-91A7-4287-AD67-D16A2129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3C55F-F62D-49B4-B6E2-5D0970FB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E299-E218-434D-A850-A3D662E3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894D-AE84-4C22-A8C1-497A373A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D5EB-51BF-476A-A42F-1C999CCD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D7A7-5D33-4B62-926D-AE2409AE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DB90-1328-4D40-9240-D06DE72E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969B-01A3-4152-A9B7-5AA919AE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0E7BD-3606-41A1-A3C1-34074FDA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CDA32-414D-48E8-A158-4FD3CB7B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6E4CF-EEF7-4077-A0A1-8F8A18CF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2480-DBE0-40C9-ADE8-9A54674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EB1B0-8C7A-411F-866D-9B4CEDE9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7C2C1-F906-4F6C-9BF2-41100782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7B86-C9D4-45FD-92C6-3B534E59EC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4647-EC8A-42D2-8290-FAC0B03DB6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6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4680000" cy="438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867280" y="1484280"/>
            <a:ext cx="27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eñal que sale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pout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realimentada 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usa un número para dar un nivel adecuado de realimentación.. Este número debe ser menor que uno para que el sistema sea 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289160"/>
            <a:ext cx="6188040" cy="5275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8064360" cy="523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201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horus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2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 tipo importante de efectos son conseguidos a través del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 un buffer almacena la señal mas reciente, su argumento que es un número, por ejemplo 1000 indica la cantidad de milisegundos a ser almace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out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onecta lo almacenado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lgunos y lo envia hacia atrás en 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4000" y="979560"/>
            <a:ext cx="66898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360" y="3500280"/>
            <a:ext cx="8748720" cy="1554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1916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 primera parte es un repaso de loops y proporciona la señal a procesar co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495520" cy="3960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3419640" y="1268280"/>
            <a:ext cx="11523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765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lider con limite desde 0 a 101 en paso de 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57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6000" y="2708280"/>
            <a:ext cx="158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umero $f1 que sale del slider se le realiza la operación matemática 1-$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68360" y="2637000"/>
            <a:ext cx="2880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2205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de señal retar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3500280"/>
            <a:ext cx="324180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4797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de señal di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4392360" cy="3022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59280" y="1268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tor d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40404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1387440"/>
            <a:ext cx="56134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4176720" cy="1785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19640" y="3573360"/>
            <a:ext cx="215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530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so de reproducción de señal des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6-25T18:14:08Z</dcterms:modified>
  <cp:revision>164</cp:revision>
  <dc:subject/>
  <dc:title>MAX- MSP</dc:title>
</cp:coreProperties>
</file>