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6FDD4-8258-4249-925E-363A77421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2343A-8A10-437C-B0D4-8A1E9F12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332AC-6164-4B86-AA5B-F94AF971B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4E6A2-9D9F-4777-B187-7470ABD1D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D35E-DE5D-4B40-97D2-6C96CF04A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1F07-3CD9-4096-A147-72CEEC2E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287C-75CB-49C5-8F0F-CE67EA37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32BD-1681-43A7-A3ED-96A00BFD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6C0FD-ADD3-4916-96AB-9DC3532D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2BE4-D400-48AA-8F43-6CCE4D6B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2552-C8D2-4C0F-80D3-0BB5AD58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3A4AB-05DF-4602-AA78-BA3794E7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B6F3-F315-4C99-9E56-F88E1C20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C3BB-3652-4010-84D0-6DAE2CBF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EB77-F1E9-47E0-BEB9-7244B03E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EF88-4C59-4837-A404-9EC4CD728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CC43-BE94-4538-A8D4-17E2A7894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0F570-D46C-4706-BC51-9A2AFD14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8EBEC-C7F6-4B1C-98D8-CD54C6D2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B12B1-EE7C-44FC-ADC4-BBF698A1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B550B-5DF8-4761-A4D7-F4A86341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29B18-72B3-4261-895E-7793BA00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04240-1CC4-43E5-B027-815F6276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A6DDE-2CB2-48B2-8A36-E2D344C3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47A0-1DE3-4983-9C33-3D34C75B49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6973-799E-43D8-95AC-6C25AF486D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MAX- MSP 06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 con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4680000" cy="4384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867280" y="1484280"/>
            <a:ext cx="273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señal que sale de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pout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s realimentada 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pin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e usa un número para dar un nivel adecuado de realimentación.. Este número debe ser menor que uno para que el sistema sea e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619280" y="1289160"/>
            <a:ext cx="6188040" cy="52750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 con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8064360" cy="5238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la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langer con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2010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langer con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7138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horus con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424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n tipo importante de efectos son conseguidos a través del del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objeto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apin~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s un buffer almacena la señal mas reciente, su argumento que es un número, por ejemplo 1000 indica la cantidad de milisegundos a ser almacen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objeto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apout~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conecta lo almacenado e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apin~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algunos y lo envia hacia atrás en el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124000" y="979560"/>
            <a:ext cx="668988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4360" y="3500280"/>
            <a:ext cx="8748720" cy="15544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2920" y="191628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a primera parte es un repaso de loops y proporciona la señal a procesar con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2495520" cy="3960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flipV="1">
            <a:off x="3419640" y="1268280"/>
            <a:ext cx="115236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88000" y="76500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lider con limite desde 0 a 101 en paso de 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357336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36000" y="2708280"/>
            <a:ext cx="158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numero $f1 que sale del slider se le realiza la operación matemática 1-$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268360" y="2637000"/>
            <a:ext cx="2880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48360" y="220500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mplitud de señal retard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24000" y="3500280"/>
            <a:ext cx="324180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35640" y="4797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mplitud de señal dire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71640" y="2637000"/>
            <a:ext cx="4392360" cy="3022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059280" y="12682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ctor de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63640" y="1052640"/>
            <a:ext cx="6404040" cy="55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 con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47640" y="1387440"/>
            <a:ext cx="5613480" cy="52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 con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4176720" cy="1785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419640" y="3573360"/>
            <a:ext cx="2156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24000" y="53006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aso de reproducción de señal desde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20:53:27Z</dcterms:created>
  <dc:creator>Eddie</dc:creator>
  <dc:description/>
  <dc:language>en-US</dc:language>
  <cp:lastModifiedBy>Eddie</cp:lastModifiedBy>
  <dcterms:modified xsi:type="dcterms:W3CDTF">2009-06-25T18:14:08Z</dcterms:modified>
  <cp:revision>164</cp:revision>
  <dc:subject/>
  <dc:title>MAX- MSP</dc:title>
</cp:coreProperties>
</file>