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F412-B3EC-4713-A833-163CBB98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7EBF6-BDA3-40DE-8092-75EE4287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5283B-FDD4-47E4-A37E-388E05DE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3340-FDEA-468C-833D-06AA7AD8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C50E-5F59-4907-8A06-E8C70067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51A7-B508-4853-8D19-D260A4FB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407A-B618-4E28-B6FF-5B44DD1F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A90D-374D-4535-B5D7-C34B5B8F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B49B-9F59-4A9A-B9E3-4240E429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49CA-A285-495A-B8F5-9A31D8A1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20B8-669B-4D64-BCAF-6D4CED30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91B2-FC91-4CB0-89C3-138C4BB6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2AE0-5E73-414A-BC98-40F97E15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780C-F009-4056-96CB-B11A48FA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BFE9-C24E-4ED5-AE43-A0CBBA55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ECE4-C8B1-462F-955C-572FDD13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CEB4-E751-4017-8D9B-FAEBEA6F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4584-8B46-4414-8B60-3807C9EC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34358-77FB-4D87-8CB6-6710EA9D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D5BE-7FDD-4243-8FBC-2872AE57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06EC-A7D9-48C0-BDE5-1C63E595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AFBC-F3E9-4E61-9FE9-0A5B3804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45EA-5A3E-4946-8CE9-7D6A6DAF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642DA-7F9D-4D11-A18D-32E13381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5546-AA36-4827-91E5-548FFC0DE9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0943-65E5-42E2-B8AD-7E57D3AE5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6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4680000" cy="438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67280" y="1484280"/>
            <a:ext cx="27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ñal que sale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realimentada 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usa un número para dar un nivel adecuado de realimentación.. Este número debe ser menor que uno para que el sistema sea 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289160"/>
            <a:ext cx="6188040" cy="5275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8064360" cy="52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0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horus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 tipo importante de efectos son conseguidos a través del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 un buffer almacena la señal mas reciente, su argumento que es un número, por ejemplo 1000 indica la cantidad de milisegundos a ser almace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necta lo almacenado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lgunos y lo envia hacia atrás en 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979560"/>
            <a:ext cx="66898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360" y="3500280"/>
            <a:ext cx="8748720" cy="1554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916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 primera parte es un repaso de loops y proporciona la señal a procesar co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495520" cy="396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3419640" y="1268280"/>
            <a:ext cx="11523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76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lider con limite desde 0 a 101 en paso de 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57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6000" y="2708280"/>
            <a:ext cx="158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umero $f1 que sale del slider se le realiza la operación matemática 1-$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68360" y="2637000"/>
            <a:ext cx="288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205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retar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3500280"/>
            <a:ext cx="324180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4797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4392360" cy="3022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59280" y="1268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tor d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0404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1387440"/>
            <a:ext cx="56134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4176720" cy="178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19640" y="3573360"/>
            <a:ext cx="215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530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so de reproducción de señal des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6-25T18:14:08Z</dcterms:modified>
  <cp:revision>164</cp:revision>
  <dc:subject/>
  <dc:title>MAX- MSP</dc:title>
</cp:coreProperties>
</file>