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64DF1-BADE-423F-95A5-3DAC3D9F3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BFFA8-EE20-466D-8A3F-9E9BD35F9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0E143-D07A-4195-806E-8C7C6903E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62745-812A-4B54-B9B9-9CA5FB733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23878-17DB-4D27-B7A2-2C6D05435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80521-9AA8-4A86-9E3E-743D59F6C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57E72-096D-4E50-BDC0-23873BDCC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7F3C5-B631-4E77-A39B-3D6AA190F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26BBA-1F0A-4006-A0BC-36F00C5E3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592C2-9DFA-4023-90ED-959F57C38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9F14C-F318-41FB-80FC-A5E3A076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7EF50-CD4B-45A2-84F9-7F56325E0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88466-4C38-466B-BDD8-98A0C660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0B9EA-37A2-4428-A766-E3BC2E87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BC660-D779-4322-998C-D76C9E2A4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091AD-FADA-4DAA-9E7D-007E12BE0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1E33D-CB78-4A23-8D2F-98EF69852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86D06-82A3-4A87-95CC-EE9B29A5A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72446-1707-441F-853C-8E5818875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706CE-6CCD-4F5B-9726-87E748830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43FBC-7D8D-4601-8BD6-F8913F779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21082-C04E-49A6-ACAC-630E9D57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B7916-DCC5-43C0-8FAB-5F781C3A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93BB5-6596-45C2-A5A7-B2E5B635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A0CB3-6C12-4DA4-81A5-665CE7B21C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28339-A7A8-475E-B084-58615509ED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MAX- MSP 07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rgio Floo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1628640"/>
            <a:ext cx="8136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s parámetros básicos  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. nombre del subpatch que contiene los objetos fftin~ fftout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. Número de muestras debe serpotencia de 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. Superposición, potencia de 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71640" y="3933720"/>
            <a:ext cx="3959280" cy="10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728720" y="1938240"/>
            <a:ext cx="5688000" cy="29815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0920" y="5300640"/>
            <a:ext cx="8281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bpatch fftbasico~ se debe hacer 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anning, Hamming, Blackman son los tipos de funciones de ponder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8424720" cy="38541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835280" y="26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4360" y="22766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ñal del micrófo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124000" y="1557360"/>
            <a:ext cx="4248360" cy="41292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587700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bpatch convolucionfft~ se debe hacer prim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75680" cy="56008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619280" y="1341360"/>
            <a:ext cx="540684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82560" y="1290600"/>
            <a:ext cx="7780320" cy="42768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8116920" cy="51436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3640" y="4581360"/>
            <a:ext cx="504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rtpol~ coordenadas cartesiana a pol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olcart~ coordenadas polares a cartesia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forma como MAX-MSP implementa los filtros es atravez del objeto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biquad~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que corresponde a un filtro digital de segundo orden al que sus coeficientes son ingres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187280" y="3429000"/>
            <a:ext cx="669780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8497800" cy="37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in embargo estamos más acostumbrados a diseñar filtros a partir de un conjunto de parámetros como frecuencia de corte, Q, etc., por esa razón se utiliza el objeto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filtergraph~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que permite especificar dichos paráme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403280" y="4005360"/>
            <a:ext cx="640872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66840" y="1100160"/>
            <a:ext cx="841212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11200" y="1238400"/>
            <a:ext cx="8123040" cy="43812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68360" y="602136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odemos variar parámetros usando otros obje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15573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trasformada discreta de Fourier, es un método numérico que permite representar las señales digitalizadas en el dominio de la frecu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771640" y="2637000"/>
                <a:ext cx="3143520" cy="20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</m:e>
                            </m:d>
                          </m:e>
                        </m:nary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nk</m:t>
                            </m:r>
                          </m:sup>
                        </m:sSup>
                      </m:e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k</m:t>
                                </m:r>
                              </m:e>
                            </m:d>
                          </m:e>
                        </m:nary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nk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778040" y="5129280"/>
                <a:ext cx="80784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</m:e>
                        </m:d>
                      </m:e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2700360" y="522936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ñal en el dominio de la frecuencia comple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00360" y="572616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ñal en el dominio del tiempo 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7561440" cy="47257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162864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 poder lograr esto se utilizará el objeto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fft~,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l cual se usa en conjunto con los objetos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ftin~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ftout~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los cuales deben ir en un subp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11280" y="2637000"/>
            <a:ext cx="792144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20:53:27Z</dcterms:created>
  <dc:creator>Eddie</dc:creator>
  <dc:description/>
  <dc:language>en-US</dc:language>
  <cp:lastModifiedBy>Eddie</cp:lastModifiedBy>
  <dcterms:modified xsi:type="dcterms:W3CDTF">2009-11-11T19:22:28Z</dcterms:modified>
  <cp:revision>171</cp:revision>
  <dc:subject/>
  <dc:title>MAX- MSP</dc:title>
</cp:coreProperties>
</file>