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6E825-1D8F-448F-AE10-21BD2F8C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ED5A7-D784-4CB1-AFFF-C9724644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4E4E1-81D1-4C96-AC7A-2F648737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8AF67-48D6-41C0-9671-50F968CD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2D74-9BAF-4B55-AE17-68850E70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B98A-072C-4CBD-A58A-32DA0DD9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EDC8-6F4C-46D1-A8C7-56869EB1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1B37-7DCE-47E8-BD9D-B634CAB9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B563-4B39-4493-BB76-B797FBCF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77BE-7572-434B-80CB-10802865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1BE2-7CA6-46A7-B1A5-BEFD28C8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5D5CA-2C07-4DCE-BA7C-15676ADD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AF07-14EE-4D3D-A967-13B39921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2DA5-425B-444E-AE90-DB7DDA48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66D3-B6F7-462F-B035-DA0A6339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2A47-4846-4C59-9003-DFC4DC57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4AF6-BEBB-4DB7-915D-7868F026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39195-B433-4D9E-8374-240A090E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3EE72-9B9A-4074-9968-55199391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4D035-689E-434B-AD21-08EB9850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1359D-E39D-4A78-9E76-AFC33699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0A52E-BF2B-4686-A4E7-4B830E38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1DBB0-4C94-4318-A8EF-811F3AD4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63C28-8486-48DB-B9D3-9B098555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898B-FB5C-4E86-9E8F-395DE75567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3FDB-D972-49D8-9845-26544AB7F9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7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628640"/>
            <a:ext cx="813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parámetros básicos 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. nombre del subpatch que contiene los objetos fftin~ fftout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. Número de muestras debe serpotencia de 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. Superposición, potencia de 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95928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28720" y="1938240"/>
            <a:ext cx="5688000" cy="2981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5300640"/>
            <a:ext cx="828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patch fftbasico~ se debe hacer 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nning, Hamming, Blackman son los tipos de funciones de ponder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3854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83528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27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del micróf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4248360" cy="4129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patch convolucionfft~ se debe hacer pri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75680" cy="5600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40684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2560" y="1290600"/>
            <a:ext cx="7780320" cy="4276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116920" cy="5143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3640" y="4581360"/>
            <a:ext cx="50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tpol~ coordenadas cartesiana a po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lcart~ coordenadas polares a cartesi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forma como MAX-MSP implementa los filtros es atravez d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iquad~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ue corresponde a un filtro digital de segundo orden al que sus coeficientes son ingres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87280" y="3429000"/>
            <a:ext cx="66978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49780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 embargo estamos más acostumbrados a diseñar filtros a partir de un conjunto de parámetros como frecuencia de corte, Q, etc., por esa razón se utiliza 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iltergraph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que permite especificar dichos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03280" y="4005360"/>
            <a:ext cx="64087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66840" y="1100160"/>
            <a:ext cx="84121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1200" y="1238400"/>
            <a:ext cx="8123040" cy="4381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602136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demos variar parámetros usando otros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557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trasformada discreta de Fourier, es un método numérico que permite representar las señales digitalizadas en el dominio de l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771640" y="2637000"/>
                <a:ext cx="314352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778040" y="5129280"/>
                <a:ext cx="8078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700360" y="5229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en el dominio de la frecuencia compl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57261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en el dominio del tiemp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561440" cy="4725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628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poder lograr esto se utilizará el 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fft~,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l cual se usa en conjunto con los objetos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ftin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ftout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los cuales deben ir en un sub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79214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11-11T19:22:28Z</dcterms:modified>
  <cp:revision>171</cp:revision>
  <dc:subject/>
  <dc:title>MAX- MSP</dc:title>
</cp:coreProperties>
</file>