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2FEAA-C4F9-4166-B6ED-A3F60DAE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1CB44-6408-40F8-A64B-0417586F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B7FA-6E49-4EC1-BA75-5894D5A5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1845D-8326-477F-85A5-B0ADAF49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273E-72C3-454F-B475-7EBEE880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AB8E-F60D-4D0F-8A64-2400BD19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E482-EBF9-4A7B-983A-12851343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530F-F485-45E9-9F28-910E2F7A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9E50-ECBD-4BA8-86EF-593C17FD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1979-CB74-4D70-99A1-6A343DB7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17DF-2350-432D-BCC2-B75E3181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9838-0BA2-432F-BB63-7D6C1D38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749D-233E-4B6B-94C5-2AC12CA4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951C-C043-4B5D-BA3C-4A70D9F7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8561-F86B-4721-BB23-000DD2C2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80D2-B0F9-428F-966C-C22AB8E9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CA24-B2BA-49A3-8015-756C1208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CA063-361E-4410-9513-0DF1E8DE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1B314-EF8B-4B75-A7F6-E31EA4F0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5B0BE-3A5D-4903-8C64-289FC4E1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A86C4-A509-41FC-BA29-DD0CD13B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EE2A4-956A-4C07-A8E7-C9C1AA28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B7F81-A5EA-4AFC-AE51-F900AEE3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55AB8-A38E-4CA1-BCCB-BE610F6F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EB2D-A14A-4731-9BEE-A014D12F30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1D42-1256-4274-A9CF-8E552090CD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1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340000" y="436572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Nombres de los Objetos y Arg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624720" cy="4873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47640" y="2205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59280" y="2205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672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800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29080" y="141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9440" y="177336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29080" y="450864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5300640"/>
            <a:ext cx="172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del metrónomo en milisegundos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6160" y="530064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s del metrónomo en milisegundos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2492280"/>
            <a:ext cx="23763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61080" y="3645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68360" y="4941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49417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64000" y="566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41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734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a caja con una X y funciona como indicador o switch entre dos estados zero y non-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ernativamente envía los valores 1 y 0 cada vez que se clica con el ratón o los recibe un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bang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su entrada. Cuando recibe u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 un tecleo de ratón, invierte su estado y envía el nuevo valor. Esta distinción entre cero y diferente a cero es manera máxima de dar vuelta cosas por intervalos, o de distinción entre verdadero y f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í, usted puede utilizar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og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interruptor on./off. En nuestro ejemplo, el objet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et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uede ser activado por intervalos clickand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ogg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Esto trabaja porque el metro comienza cuando recibe un número diferente a cero (como 1) y paradas cuando recibe un 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76108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8028000" cy="3557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3213000"/>
            <a:ext cx="33829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556000" y="2133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1628640"/>
            <a:ext cx="33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witch entre distintos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3068640"/>
            <a:ext cx="22334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372360" y="2204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19640" y="1628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a y desactiva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est 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riba un patch que escriba en la ventana Max “Hola:1” cada 2 segu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tome un object box y un messaj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72723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tome un object box y un messag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4680000" cy="371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24000" y="465300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00720" y="4437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ssag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530064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50785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jec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04000" y="378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299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a “HOLA!!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59562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a “pri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356000" y="3505320"/>
            <a:ext cx="3800520" cy="301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r al menú View desmarcar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pretar message box y en la ventana Max aparece el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26920" y="3533760"/>
            <a:ext cx="2676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nsaje</a:t>
            </a:r>
            <a:r>
              <a:rPr b="1" i="1" lang="es-CL" sz="4000" spc="-1" strike="noStrike">
                <a:solidFill>
                  <a:srgbClr val="000000"/>
                </a:solidFill>
                <a:latin typeface="Arial"/>
              </a:rPr>
              <a:t> b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e el boton (Button) y comentario (Co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mensaj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ta en el botón y significa que realizará cualquier tipo de 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7056360" cy="630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12400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2781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43657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3500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nsaje</a:t>
            </a:r>
            <a:r>
              <a:rPr b="1" i="1" lang="es-CL" sz="4000" spc="-1" strike="noStrike">
                <a:solidFill>
                  <a:srgbClr val="000000"/>
                </a:solidFill>
                <a:latin typeface="Arial"/>
              </a:rPr>
              <a:t> b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resto del patch y active como en el punto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7690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int, float,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 dos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mostrar un numero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 in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 floa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.Este tipo de box escribe el núm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58920" y="3141720"/>
            <a:ext cx="619272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int, float,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patch y active como en el punto anterior. Observe los mens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4360" y="2924280"/>
            <a:ext cx="7850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patch y active como en el punto anterior. Tenemos el objeto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me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actúa de metrón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Nombres de los Objetos y Arg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4360" y="2708280"/>
            <a:ext cx="7570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3-12T18:51:31Z</dcterms:modified>
  <cp:revision>39</cp:revision>
  <dc:subject/>
  <dc:title>MAX- MSP</dc:title>
</cp:coreProperties>
</file>