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E405-D972-4316-B606-8FA0682A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FAD7-FB18-459D-960D-7CCE1B03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5475F-0D28-49D1-83B2-A9D5C9208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48E3-ABA2-4C9D-8B4A-E3C08C8E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1CD2-E179-496C-93BA-82A73CD3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289A-7D0A-450C-AA16-77B302C8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BA78-9C46-4D66-98CC-72C8148A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93E0-A2DC-48FE-9E47-B7349B17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42B1-5B13-417B-AA6A-FFDD5FCA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0652-0295-4D32-B48E-3B99C4BC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3FEB-F95A-4911-A834-68F7833E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CE6B-8FDF-4D3A-A084-1F00651F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62CB-8485-48EC-A161-CD2C7BF7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728E-E843-4607-A549-D62228CB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DE92-D815-44FE-ABB8-4749DA09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0AEF-7E2D-41DE-AF5A-130B2D55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F4DC-117A-4C07-BCFD-310808EC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014F0-4314-4297-B6EE-DFADB96D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9CA8-5A4E-4CC3-A42E-7952CD5F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A96C3-9745-45EA-A9DE-1FAEE76B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EA5A3-3973-4364-B606-011F9538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CA692-86E8-4040-AC5A-646412AD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27D8C-F088-4D38-BCFD-31BF1DD8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8656-CD3D-4BAB-896A-97979625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D461-FD6C-4B36-B3E6-41BD20BDCE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EA37-8808-4C73-B300-97A8E37809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MAX- MSP 01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340000" y="436572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mbres de los Objetos y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24720" cy="4873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47640" y="220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59280" y="2205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672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8000" y="24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29080" y="141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9440" y="1773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29080" y="450864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300640"/>
            <a:ext cx="172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 del metrónomo en milisegundos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26160" y="5300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s del metrónomo en milisegundos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92720" y="2492280"/>
            <a:ext cx="2376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61080" y="3645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494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4941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6400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41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734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Argu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una caja con una X y funciona como indicador o switch entre dos estados zero y non-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ernativamente envía los valores 1 y 0 cada vez que se clica con el ratón o los recibe un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b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su entrada. Cuando recibe u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o un tecleo de ratón, invierte su estado y envía el nuevo valor. Esta distinción entre cero y diferente a cero es manera máxima de dar vuelta cosas por intervalos, o de distinción entre verdadero y f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í, usted puede utilizar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og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mo interruptor on./off. En nuestro ejemplo, el objet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et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uede ser activado por intervalos clickand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ogg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Esto trabaja porque el metro comienza cuando recibe un número diferente a cero (como 1) y paradas cuando recibe un 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576108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8028000" cy="3557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3213000"/>
            <a:ext cx="3382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556000" y="2133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6920" y="162864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witch entre distintos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3068640"/>
            <a:ext cx="223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372360" y="2204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19640" y="1628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y desactiva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Arial"/>
              </a:rPr>
              <a:t>Test 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riba un patch que escriba en la ventana Max “Hola:1” cada 2 segu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tome un object box y un messaj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3141720"/>
            <a:ext cx="727236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bra un Patch nuevo y tome un object box y un messag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2781360"/>
            <a:ext cx="4680000" cy="371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24000" y="465300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00720" y="4437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ssage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5300640"/>
            <a:ext cx="374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50785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bjec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04000" y="378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56360" y="299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a “HOLA!!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59562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a “pri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3272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356000" y="3505320"/>
            <a:ext cx="380052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viar un Mensa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r al menú View desmarcar 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retar message box y en la ventana Max aparece el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26920" y="3533760"/>
            <a:ext cx="26766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45720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 b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el boton (Button) y comentario (Co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ensaj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bang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esta en el botón y significa que realizará cualquier tipo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7056360" cy="630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12400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781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43657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3500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nsaje</a:t>
            </a:r>
            <a:r>
              <a:rPr b="1" i="1" lang="es-CL" sz="4000" spc="-1" strike="noStrike">
                <a:solidFill>
                  <a:srgbClr val="000000"/>
                </a:solidFill>
                <a:latin typeface="Arial"/>
              </a:rPr>
              <a:t> b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resto del patch y active como en el punto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676908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int, float,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 dos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mostrar un numer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 in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umber box floa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.Este tipo de box escribe el núm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3141720"/>
            <a:ext cx="61927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int, float,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patch y active como en el punto anterior. Observe los mensa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78501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truya el patch y active como en el punto anterior. Tenemos el objeto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etr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, que actúa de metrón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4149720"/>
            <a:ext cx="107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7628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Nombres de los Objetos y Arg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7570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20:53:27Z</dcterms:created>
  <dc:creator>Eddie</dc:creator>
  <dc:description/>
  <dc:language>en-US</dc:language>
  <cp:lastModifiedBy>Eddie</cp:lastModifiedBy>
  <dcterms:modified xsi:type="dcterms:W3CDTF">2009-03-12T18:51:31Z</dcterms:modified>
  <cp:revision>39</cp:revision>
  <dc:subject/>
  <dc:title>MAX- MSP</dc:title>
</cp:coreProperties>
</file>