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2B06-6281-4CBE-99D7-A9412717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814D-3898-4E13-8E6A-DDE8B17A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2A5BD-E895-47A7-9426-C576D12E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44ACB-0E0C-4296-AD78-62BEF728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E431-6C96-48ED-9E82-5E136E49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E469-DC4A-45A9-84F9-BF998EF9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2FB3-68B3-4A35-94F3-F6284D23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599B-8BEC-4AF4-B6BD-35D1A5A0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91FA-DD50-411F-85A6-4842AC54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B039-B1B8-4307-9EFB-F4190278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3275-9A82-4E54-946E-6D197973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1A9A-E349-4E5B-9961-5FFCFA74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0CAF-1036-43A7-8AD2-1DB28EA2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2528-36E7-4DFB-91EB-97874E6D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0A61-FD40-4B16-A804-A5793984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69C9-6398-41B5-A5C1-E1F1C217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FDF7-1048-4829-9B40-295F7FB4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5D665-536F-4582-B441-2C0A5E64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46D0-FF71-4D1B-AD09-8A14C9B4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D964-3949-4465-A16F-89226656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512B-6C67-4D0D-9BC3-27F1F259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B3A70-DB91-4BFE-B5B2-429F67F3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602A-FF0A-4F22-831A-E829ED7C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51B8-E8A4-43AF-BB73-0D843A33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8A3F-AAFF-4A23-89AA-25309B05ED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8631-07E7-464D-8CC1-EDFE2E0114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ando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o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951200"/>
            <a:ext cx="633564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amplitud en función d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3838680" cy="397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76720" y="4221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789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en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64328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393372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272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295960" cy="3772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apagar y encender con un fade in -out de 100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335640" cy="441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47640" y="3205080"/>
            <a:ext cx="5904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retardo en cualquier mens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gEdg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l numero es almacenado y mand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or salidas disti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ck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los números son almacenados como ítems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con su posición en la lista correspondiente en la entrada que fue recib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lecciona entre 2 o más ent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z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similar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o prende y a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40000" y="2146320"/>
            <a:ext cx="45370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uffer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lmacena sonidos que pueden o no ser leídos de arch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961400" cy="3047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5373720"/>
            <a:ext cx="4032360" cy="1017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28814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3684600" cy="3924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V="1">
            <a:off x="6516720" y="32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6720" y="44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36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516720" y="3860280"/>
            <a:ext cx="3603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386064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1080" y="3860640"/>
            <a:ext cx="3585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501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80643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hasor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una rampa, esta señal posee más armónicos, puede ser usada para generar efectos y modificar señ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400720" cy="4232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195640" y="2708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2492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ente de s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start y stop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is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ruido bla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2670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890880" cy="4179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ción de amplitud o batimientos. 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8883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 decir el teclado de un piano ) genere sonidos que sean conforme a la escala musical usual. 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trega números enteros en formato MIDI. Para convertirlos a frecuencia cree un subpatch basado en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te objeto permite colocar expresiones de lenguaje C), la conversión se logra con la siguiente expresión 8.175798 * pow(1.0594633\,$i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mensaje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señ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6000" y="2475000"/>
            <a:ext cx="6912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un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object box 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cribien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umenu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despliega un menú que puede ser usado para varios propó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5533920" cy="421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0" y="3573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4360" y="2997360"/>
            <a:ext cx="165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arece usando rigth-click del mouse y se escriben las alternativas separadas en c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. (No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68200" y="2421000"/>
            <a:ext cx="86965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 (No hacer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72756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3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plitud y Amplitud Relativa: 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demos controlar la amplitud (ajustar de 0 a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1886040" cy="4419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340000" y="5229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4581360"/>
            <a:ext cx="230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gno ($) con un argumento (1)escoge el elemento correspondiente en la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ycl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una onda senoidal el argumento 1000 corresponde a la fr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on mensajes de MAX-MSP para encender y apagar el so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rresponde al conversor digital analógico inserto en la tarjeta de sonido del computador. Si se hace doble click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parece la ventana 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924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la Option All windows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105440" cy="4314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76720" y="3933720"/>
            <a:ext cx="3743280" cy="1676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1640" y="4292640"/>
            <a:ext cx="244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u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4897440" cy="2193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68360" y="39337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4869000"/>
            <a:ext cx="3240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valúa expresiones tipo lenguaje C, operaciones y f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$i1-$i9 hasta 9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f1-$f9 hasta 9 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4172040" cy="4248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demos usar el subpatch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odB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cumple la misma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726160" y="1773360"/>
            <a:ext cx="122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5164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los mensaj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7708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4072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z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672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96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9636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407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859280" y="2637000"/>
            <a:ext cx="165744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357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la ampl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272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492360" y="2421000"/>
            <a:ext cx="1440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4005360"/>
            <a:ext cx="194472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4360" y="6021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40720" y="566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a la osc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2320920" cy="2663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901960" cy="3887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148360" y="4724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g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vierte un número en una señal determinado por el numero que recibe a la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32720" y="234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28000" y="2349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299736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sada para cambiar la fase 0.75 a 1.75 en 10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835280" y="35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16360" y="1989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1989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4581360"/>
            <a:ext cx="17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ultado es una onda senoidal  que varia de -8Hz a 8Hz y se suma a 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eqB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5229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osciladores se dejo la frecuencia en 100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78920" y="22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3168720" cy="2528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940360" y="4292640"/>
            <a:ext cx="2160720" cy="1557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76720" y="1989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mbia el nombre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gún lo que se desea cambia cuando se apriet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1335240"/>
            <a:ext cx="5743800" cy="5118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236000" y="206064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termina frecuencia y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7236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0360" y="33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36000" y="321300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patches remo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6707160" cy="5032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7236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40053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numeros o simbolos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29718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181240" y="1728720"/>
            <a:ext cx="4781520" cy="34005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692000" y="2421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989000"/>
            <a:ext cx="13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e el comienzo de una porción de un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7640" y="393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80360" y="342900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y almacena en 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93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6408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5761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54508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2320920"/>
            <a:ext cx="655344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una caja de numer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6408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9-03T15:31:24Z</dcterms:modified>
  <cp:revision>107</cp:revision>
  <dc:subject/>
  <dc:title>MAX- MSP</dc:title>
</cp:coreProperties>
</file>