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EF4F57-AC22-48B5-8E46-BBA22CA6C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7CACDE-B3BC-4EC8-A5F6-EE1E73C5E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414990-6F60-41B9-8228-DD48643B9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155C40-3D72-46BA-BB65-5B269996D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41C6D-49C4-438F-A2AA-AE34FC4B6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F18E0-B411-4C01-B060-C0D9DBC87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AFF4F-30F5-4DBE-A178-EF7C74660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8EC18-BB86-493D-A513-72C2DCE5C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018A4-533D-413A-9099-810E62D3E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85A49-C379-4BC7-B6C2-57B5FA252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0A0B3-A797-4E94-B152-1B66DC0E3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A9FAA4-8DFE-4A93-8C5A-26E20A233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DCBE7-C641-4AC2-B318-06C7237C1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A5429-8E1B-4C06-88F6-487CBB100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3C99A-C634-4E4E-AF5B-A56944908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C7E08-8391-4CEC-B15D-F32291EBA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44380-E42F-41F6-AFCC-3F9455B3B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038BC8-BF4E-4E0A-92BF-661C40F10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EB6C25-8C62-467F-939B-B0EA6EE8F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D79D30-CF0F-4E56-9B3A-67775FB2B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8BB6EF-A9C5-4974-B787-07CFE1792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40B643-2E3D-49E4-BCE1-C777615B9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991137-412D-4E96-93A7-091B9950C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38697B-1FFC-414A-BBE3-FEAAF34A8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C877D-EF6D-4274-8675-FB0E4916FC2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51865-A5AA-4C55-AB23-B6F5E4E3433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ffffff"/>
                </a:solidFill>
                <a:latin typeface="Arial"/>
              </a:rPr>
              <a:t>MAX- MSP 04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Sergio Flood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Modulación de Anillo y de Amplitu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971640" y="1557360"/>
            <a:ext cx="6465960" cy="21528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1116000" y="3573360"/>
            <a:ext cx="2638440" cy="20098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4211640" y="3716280"/>
            <a:ext cx="3429000" cy="220968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55640" y="602136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odulación de Ani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211640" y="587700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odulación de Amplit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Trémolo - Modulador de Anill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826920" y="1268280"/>
            <a:ext cx="7707600" cy="52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Modulación de amplitu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324000" y="1330200"/>
            <a:ext cx="8569080" cy="526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Modulación de Frecuenc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1341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modulación en frecuencia se produce cuando la frecuencia de una señal es cambiada por otra señal oscilatoria. Se distinguen, la frecuencia portadora, frecuencia moduladora y la profundidad de modul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uando la frecuencia portadora y la profundidad no son muy grandes se conoce como vibra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a modulación en frecuencia genera múltiples bandas laterales, lo que trae gran armonicidad al soni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Frecuenci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c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c+Fm,  Fc-Fm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c+2Fm, Fc-2Fm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c+3Fm, Fc-3F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t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Modulación de Frecuenc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187280" y="1916280"/>
            <a:ext cx="5429520" cy="44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Modulación de Frecuenc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55640" y="1484280"/>
            <a:ext cx="5172120" cy="46195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6118200" y="1628640"/>
            <a:ext cx="2846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ree un patch y a continuación cree el subpatch a través de la caja objeto y llámelo patcher simFM~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Modulación de Frecuenc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395280" y="1268280"/>
            <a:ext cx="5781600" cy="54025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924360" y="2276640"/>
            <a:ext cx="244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372360" y="1989000"/>
            <a:ext cx="252072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setdomain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da el valor al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domain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del objeto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function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a partir del valor en la caja numer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l parámetro es pasado a través de $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Modulación de Frecuenc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11280" y="1268280"/>
            <a:ext cx="4505400" cy="227664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4572000" y="2492280"/>
            <a:ext cx="3209760" cy="262908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 flipH="1">
            <a:off x="3492000" y="371628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26920" y="3789360"/>
            <a:ext cx="180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116000" y="3573360"/>
            <a:ext cx="2376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bjeto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reset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, las modificaciones al patch pueden ser grabadas con este objeto a partir de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shift-click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en alguna de sus cel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443640" y="4005360"/>
            <a:ext cx="0" cy="151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572000" y="5537160"/>
            <a:ext cx="302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uando hay conector afecta a solo los objetos conect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Modulación de Frecuenc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3203640" y="1413000"/>
            <a:ext cx="5734080" cy="522108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 flipH="1">
            <a:off x="2771280" y="33577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95280" y="1700280"/>
            <a:ext cx="2376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bjeto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reset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, las modificaciones al patch pueden ser grabadas con este objeto a partir de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shift-click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en alguna de sus cel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Wave Shap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900000" y="1628640"/>
            <a:ext cx="3791160" cy="353376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3995640" y="2349360"/>
            <a:ext cx="165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2000" y="2060640"/>
            <a:ext cx="187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ee archivo 512 muest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140360" y="278136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51640" y="285264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lmacena en buf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Sintesis Aditiv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1341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bra un Patch nuevo y genere los siguientes elem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Usar toggle – El sonido posee un nivel elev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68360" y="2276640"/>
            <a:ext cx="8028000" cy="37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84360" y="1700280"/>
            <a:ext cx="3714480" cy="37908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Wave Shap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995640" y="2349360"/>
            <a:ext cx="165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012000" y="2060640"/>
            <a:ext cx="187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ee archivo 512 muest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140360" y="278136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651640" y="285264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lmacena en buf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Wave Shap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826920" y="1149480"/>
            <a:ext cx="7632720" cy="55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Wave Shap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684360" y="1989000"/>
            <a:ext cx="3671640" cy="354816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4140360" y="5157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219640" y="4941720"/>
            <a:ext cx="24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Valores Inici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539640" y="5661000"/>
            <a:ext cx="3816360" cy="6444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95640" y="602136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148360" y="580536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arga el archivo y lo almacena en un buf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835280" y="638172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mbre del buf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2050920" y="60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851280" y="306864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859280" y="2852640"/>
            <a:ext cx="280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 partir de los datos del buffer genera un ciclo, es decir le da la frecuencia fundame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2195640" y="2060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57040" y="1628640"/>
            <a:ext cx="504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caja numérica es para controlar la frecu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2492280"/>
            <a:ext cx="111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 usan para on/o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50920" y="342900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50920" y="465300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11280" y="3933720"/>
            <a:ext cx="144360" cy="1440000"/>
          </a:xfrm>
          <a:custGeom>
            <a:avLst/>
            <a:gdLst>
              <a:gd name="textAreaLeft" fmla="*/ 92160 w 144360"/>
              <a:gd name="textAreaRight" fmla="*/ 144360 w 144360"/>
              <a:gd name="textAreaTop" fmla="*/ 37440 h 1440000"/>
              <a:gd name="textAreaBottom" fmla="*/ 1402560 h 144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Wave Shap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684360" y="1989000"/>
            <a:ext cx="3671640" cy="35481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539640" y="5661000"/>
            <a:ext cx="3816360" cy="64440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3995640" y="602136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435640" y="573408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oble click para ver la señ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5364000" y="4292640"/>
            <a:ext cx="277200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Wave Shap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5508720" y="549360"/>
            <a:ext cx="2968560" cy="611964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 flipH="1">
            <a:off x="5508720" y="1052640"/>
            <a:ext cx="107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067280" y="836640"/>
            <a:ext cx="1225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 modifica la señal activando la caja numé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771640" y="2852640"/>
            <a:ext cx="23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a como salida una señal que alimenta cycle y la vueve un tono pu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716360" y="3789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716360" y="515772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292720" y="4292640"/>
            <a:ext cx="358920" cy="1728720"/>
          </a:xfrm>
          <a:custGeom>
            <a:avLst/>
            <a:gdLst>
              <a:gd name="textAreaLeft" fmla="*/ 229320 w 358920"/>
              <a:gd name="textAreaRight" fmla="*/ 359280 w 358920"/>
              <a:gd name="textAreaTop" fmla="*/ 45000 h 1728720"/>
              <a:gd name="textAreaBottom" fmla="*/ 1683720 h 172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2771640" y="4797360"/>
            <a:ext cx="41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0920" y="3933720"/>
            <a:ext cx="1873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lookup~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permite usar los valores en buffer y realizar wavesha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3059280" y="2133720"/>
            <a:ext cx="3295440" cy="375120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Wave Shap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292720" y="5084640"/>
            <a:ext cx="144000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084720" y="1484280"/>
            <a:ext cx="208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aliza el wave shaping usando una función envolv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Wave Shap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468360" y="1413000"/>
            <a:ext cx="3887640" cy="371628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4356000" y="1700280"/>
            <a:ext cx="33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 realiza waveshaping por modulación en frecu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Capturando Sonid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755640" y="1916280"/>
            <a:ext cx="3019320" cy="296208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4356000" y="1916280"/>
            <a:ext cx="3743280" cy="30002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1908000" y="1413000"/>
            <a:ext cx="453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nversor análogo a digi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2050920" y="1773360"/>
            <a:ext cx="1152720" cy="107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788000" y="1773360"/>
            <a:ext cx="936360" cy="107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Capturando Sonid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332000" y="1773360"/>
            <a:ext cx="376236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106200" y="1133640"/>
            <a:ext cx="8858520" cy="572436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Capturando Sonid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Sintesis Aditiv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" y="1341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ree un subpatch llamado parcial~, este será reutiliz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39640" y="2565360"/>
            <a:ext cx="638028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Capturando Sonid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2916360" y="1628640"/>
            <a:ext cx="4410000" cy="18669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 flipH="1">
            <a:off x="2484000" y="256536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971640" y="2081160"/>
            <a:ext cx="165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lecciona el numero 1 del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tog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248436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484360" y="29242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547640" y="3573360"/>
            <a:ext cx="136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Genera un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delay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de 2000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348000" y="3429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348000" y="357336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4067280" y="1844640"/>
            <a:ext cx="0" cy="17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3276720" y="1844640"/>
            <a:ext cx="79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276720" y="18446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203640" y="4005360"/>
            <a:ext cx="1081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anda un cero y apaga el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tog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rot="16200000">
            <a:off x="4212360" y="2203920"/>
            <a:ext cx="576360" cy="6769080"/>
          </a:xfrm>
          <a:custGeom>
            <a:avLst/>
            <a:gdLst>
              <a:gd name="textAreaLeft" fmla="*/ 368280 w 576360"/>
              <a:gd name="textAreaRight" fmla="*/ 576720 w 576360"/>
              <a:gd name="textAreaTop" fmla="*/ 176400 h 6769080"/>
              <a:gd name="textAreaBottom" fmla="*/ 6592680 h 6769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771640" y="587700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Graba durante 2 s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4427640" y="1628280"/>
            <a:ext cx="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995640" y="119700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Grab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148360" y="2708280"/>
            <a:ext cx="0" cy="12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356000" y="393372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mbre del buf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5580000" y="1484280"/>
            <a:ext cx="0" cy="11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435640" y="119700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os ca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Capturando Sonid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611280" y="2133720"/>
            <a:ext cx="4248000" cy="322092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 flipV="1">
            <a:off x="755640" y="1773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8360" y="126828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icializa la reprodu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340000" y="234936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276720" y="213372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umero de muestra de ini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332000" y="292428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771640" y="2781360"/>
            <a:ext cx="39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nvierte a variable numero ent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979640" y="371628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419640" y="3213000"/>
            <a:ext cx="54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uando recibe un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bang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se incrementa un número, cuando recibe un entero toma ese valor para iniciar la reprodu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716360" y="5013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364000" y="4724280"/>
            <a:ext cx="23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ee desde el buffer la señal a partir de una determinada muest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059280" y="443700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572000" y="5084640"/>
            <a:ext cx="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268360" y="58053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ana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780000" y="5805360"/>
            <a:ext cx="12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ana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Capturando Sonid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1763640" y="2421000"/>
            <a:ext cx="2100240" cy="374472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1042920" y="148428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alida del aud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2"/>
          <a:stretch/>
        </p:blipFill>
        <p:spPr>
          <a:xfrm>
            <a:off x="4356000" y="2421000"/>
            <a:ext cx="4392720" cy="19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Capturando Sonid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611280" y="1484280"/>
            <a:ext cx="4390920" cy="401004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2268360" y="515772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780000" y="4797360"/>
            <a:ext cx="36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produce una señal a partir de una posición inicial, final y en función de la veloc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Sintesis Aditiv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68360" y="1341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tilizaremos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function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ara dar la evolución tempo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as propiedades se ven con Get Inf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611280" y="2421000"/>
            <a:ext cx="5724360" cy="3390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6084720" y="3357720"/>
            <a:ext cx="1151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596360" y="3141720"/>
            <a:ext cx="86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an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219640" y="371628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596360" y="364500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iem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Sintesis Aditiv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8360" y="1341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rme este patch, los puntos los adiciona manualm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Usar un bang para acti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332000" y="1773360"/>
            <a:ext cx="5734080" cy="41432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851280" y="342900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524720" y="2997360"/>
            <a:ext cx="136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ctua como un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list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ntes de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line~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Sintesis Aditiv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68360" y="1341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rme este pa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611280" y="1773360"/>
            <a:ext cx="7667640" cy="48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Usando Muestr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8360" y="1341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 partir de los siguientes subpatc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187280" y="1844640"/>
            <a:ext cx="4619880" cy="471492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5508720" y="378936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588000" y="3500280"/>
            <a:ext cx="151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ample de onda triang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580000" y="573408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588000" y="544500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nversor nota MIDI a frecu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Usando Muestr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68360" y="1341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atch Princip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443640" y="4508640"/>
            <a:ext cx="151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ample de onda triang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443640" y="350028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nversor nota MIDI a frecu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042920" y="2421000"/>
            <a:ext cx="3753000" cy="33624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2627280" y="4005360"/>
            <a:ext cx="374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556000" y="4797360"/>
            <a:ext cx="37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Usando Muestr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68360" y="1341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atch Princip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056360" y="3500280"/>
            <a:ext cx="19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ra controlar la dinám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250920" y="1700280"/>
            <a:ext cx="5983200" cy="476244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5580000" y="386064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1T20:53:27Z</dcterms:created>
  <dc:creator>Eddie</dc:creator>
  <dc:description/>
  <dc:language>en-US</dc:language>
  <cp:lastModifiedBy>Eddie</cp:lastModifiedBy>
  <dcterms:modified xsi:type="dcterms:W3CDTF">2009-05-13T19:55:08Z</dcterms:modified>
  <cp:revision>132</cp:revision>
  <dc:subject/>
  <dc:title>MAX- MSP</dc:title>
</cp:coreProperties>
</file>