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F61FB-7C2C-4450-A3D9-555BE6428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4BDE0-6D73-4F51-8B40-BB367786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6DF76-37AC-4A59-BEDB-802355E5E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21DB4-4BA8-42CB-8C7C-93E0FBA24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837E7-A289-4A36-9850-577E33AD3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BEF42-715B-4454-91C5-C7F7E927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6697-9B12-4207-814E-B128BAB0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4BC4-3AD2-4F0A-8014-4EC63826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93C2-46DF-419D-A10F-A860E26E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B591-0EC6-4A4A-9297-803495F1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1C993-7FC1-44D1-AB56-B5B41F3B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6C7C8-43BB-427F-8A08-485E9AF6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D0029-4A18-4771-AC36-F7E278F9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647F-39EB-4346-9C65-E58B171E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A414-72E7-4D2A-A17E-6892AD4A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93FCA-323D-4A0D-B701-8C24FC354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AF9F-53FE-421C-ABEA-AF3701D86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9BE96-4BC2-46DA-A26C-0BA6BA83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EE206-418E-41D7-AC6D-B9B82B83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A9728-47DB-43D1-A59C-EFEC6FBE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AB260-9125-4CD6-8932-8C146B14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5FBD6-E00D-46EC-BD92-F5BE2A6B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9348C-7D2B-4633-A6D7-9931D99F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517AF-D4E9-4BD0-B0B0-8D2D00FD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210D-1498-42AC-B21D-60BEC10582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8776-BE49-4E99-A0E7-48FC810B62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MAX- MSP 06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 con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4680000" cy="4384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867280" y="1484280"/>
            <a:ext cx="273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señal que sale de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pout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s realimentada 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pin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e usa un número para dar un nivel adecuado de realimentación.. Este número debe ser menor que uno para que el sistema sea e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619280" y="1289160"/>
            <a:ext cx="6188040" cy="52750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 con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8064360" cy="5238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la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langer con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2010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langer con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7138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horus con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424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n tipo importante de efectos son conseguidos a través del del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objeto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apin~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s un buffer almacena la señal mas reciente, su argumento que es un número, por ejemplo 1000 indica la cantidad de milisegundos a ser almacen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objeto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apout~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conecta lo almacenado e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apin~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algunos y lo envia hacia atrás en el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124000" y="979560"/>
            <a:ext cx="668988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4360" y="3500280"/>
            <a:ext cx="8748720" cy="15544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2920" y="191628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a primera parte es un repaso de loops y proporciona la señal a procesar con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2495520" cy="3960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flipV="1">
            <a:off x="3419640" y="1268280"/>
            <a:ext cx="115236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88000" y="76500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lider con limite desde 0 a 101 en paso de 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357336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36000" y="2708280"/>
            <a:ext cx="158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numero $f1 que sale del slider se le realiza la operación matemática 1-$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268360" y="2637000"/>
            <a:ext cx="2880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48360" y="220500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mplitud de señal retard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24000" y="3500280"/>
            <a:ext cx="324180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35640" y="4797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mplitud de señal dire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71640" y="2637000"/>
            <a:ext cx="4392360" cy="3022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059280" y="12682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ctor de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63640" y="1052640"/>
            <a:ext cx="6404040" cy="55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 con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47640" y="1387440"/>
            <a:ext cx="5613480" cy="52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 con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4176720" cy="1785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419640" y="3573360"/>
            <a:ext cx="2156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24000" y="53006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aso de reproducción de señal desde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20:53:27Z</dcterms:created>
  <dc:creator>Eddie</dc:creator>
  <dc:description/>
  <dc:language>en-US</dc:language>
  <cp:lastModifiedBy>Eddie</cp:lastModifiedBy>
  <dcterms:modified xsi:type="dcterms:W3CDTF">2009-06-25T18:14:08Z</dcterms:modified>
  <cp:revision>164</cp:revision>
  <dc:subject/>
  <dc:title>MAX- MSP</dc:title>
</cp:coreProperties>
</file>