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AB93C-7681-4FD1-BF75-ED9CBD0C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E8488-8F82-44AB-8E55-925F6B2E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6CBDD-CA89-4778-AD0C-6FCD5D99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1852E-1312-4420-A770-BFCCB92B1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6B4E-1489-420D-AE08-36694041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7483-8582-4EDE-BDD4-E5FF9A56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CCA5-5908-41C6-8CA8-F551CEAB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D86B-25E7-40A6-856A-C6EB95A2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DE5D-7449-4FCA-B902-56C120FD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25CF-3BBC-47E2-8CA2-2D7AA889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7D9E-D266-4124-80CA-0E52A20A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03240-E065-4E5E-9C8A-A69CB1AD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0F88-7C22-45D7-A276-B72B424C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190B-9266-4777-BA35-FE657655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B5B1-F9C1-4924-8F07-391B0556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2040-E239-4A20-82D3-BD0D3351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39B2-1776-4D87-8242-0A8A95DA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37390-A909-4C80-9FEB-9A695186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CACE3-1954-420B-8B75-A3AA9663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AB92E-3542-4CA5-AFDD-6226D668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CE277-B06C-4884-A2E2-9C868E1E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01D4C-CD65-4CAC-ADF0-242101CD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4CC61-62C2-4613-A343-DB9B7E5F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1108C-FCA2-48C0-93B5-9D8933BE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E648-F6EC-4048-8CEC-37B0A92DFD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2A31-CCC7-4046-BB5B-244913DA26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6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4680000" cy="4384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867280" y="1484280"/>
            <a:ext cx="273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eñal que sale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pout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realimentada 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pin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 usa un número para dar un nivel adecuado de realimentación.. Este número debe ser menor que uno para que el sistema sea e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19280" y="1289160"/>
            <a:ext cx="6188040" cy="5275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8064360" cy="523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l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langer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201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langer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7138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horus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424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 tipo importante de efectos son conseguidos a través del de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pin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s un buffer almacena la señal mas reciente, su argumento que es un número, por ejemplo 1000 indica la cantidad de milisegundos a ser almace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pout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conecta lo almacenado 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pin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lgunos y lo envia hacia atrás en el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24000" y="979560"/>
            <a:ext cx="668988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4360" y="3500280"/>
            <a:ext cx="8748720" cy="1554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191628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 primera parte es un repaso de loops y proporciona la señal a procesar co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2495520" cy="3960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V="1">
            <a:off x="3419640" y="1268280"/>
            <a:ext cx="11523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765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lider con limite desde 0 a 101 en paso de 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3573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36000" y="2708280"/>
            <a:ext cx="158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numero $f1 que sale del slider se le realiza la operación matemática 1-$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268360" y="2637000"/>
            <a:ext cx="2880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2205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tud de señal retar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3500280"/>
            <a:ext cx="324180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35640" y="4797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tud de señal di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4392360" cy="3022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59280" y="1268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tor de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6404040" cy="55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47640" y="1387440"/>
            <a:ext cx="561348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elay con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4176720" cy="1785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19640" y="3573360"/>
            <a:ext cx="215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24000" y="530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so de reproducción de señal desde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6-25T18:14:08Z</dcterms:modified>
  <cp:revision>164</cp:revision>
  <dc:subject/>
  <dc:title>MAX- MSP</dc:title>
</cp:coreProperties>
</file>