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C5F7-3101-4B19-BAA4-E78F3678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B231-449E-41A7-BBD1-E700664E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AFB9-4430-4D23-8EFB-CB0BFBF9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EDAD-0647-4AB1-8B56-54E528FF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AD63-9C9A-4E55-9881-D881665B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AAEA-EA86-4871-A77B-37B2BDC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F0DF-0213-4901-B9DB-CA8F82B5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E9CF-ADF7-4A89-851C-82EC3FD0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0408-933B-40F5-AF1D-D095C823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B86B-5D95-4498-94E7-3D9FA600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D004-55C6-4C82-B080-F5AE0DB6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46DB-3A20-4156-B3C8-DC7E5AF9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59C0-D0A8-44B9-BE16-FEA17B23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286A-B464-419B-84F6-C0DD73C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FE11-317B-4499-ABF0-19AC4FE8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268D-0306-4BBE-A914-42C5BA91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9500-1E28-4FAD-AB5F-79FDBB7F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8B0F-5D2E-4CCC-80BF-5E3C68A2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7E08-C255-42BC-9983-63B49103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A654-9352-4735-999A-0ED12388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95E9-080F-4DCC-9045-26F1EA41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F0C4-8EC0-406A-9B70-C7A88538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D39D-FC87-441B-80C8-8208733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761A-47CB-4F47-84D8-B605371F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71AD-FDB3-491F-A381-9C009A209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448-1E08-4AA8-9A8F-B390B05976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680000" cy="438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1484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ñal que sale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realimentada 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usa un número para dar un nivel adecuado de realimentación.. Este número debe ser menor que uno para que el sistema sea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289160"/>
            <a:ext cx="6188040" cy="52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2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horus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tipo importante de efectos son conseguidos a través del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 un buffer almacena la señal mas reciente, su argumento que es un número, por ejemplo 1000 indica la cantidad de milisegundos a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necta lo almacenad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gunos y lo envia hacia atrás e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979560"/>
            <a:ext cx="6689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360" y="3500280"/>
            <a:ext cx="8748720" cy="155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9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 primera parte es un repaso de loops y proporciona la señal a procesar co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95520" cy="396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3419640" y="1268280"/>
            <a:ext cx="115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lider con limite desde 0 a 101 en paso de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57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2708280"/>
            <a:ext cx="158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umero $f1 que sale del slider se le realiza la operación matemática 1-$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637000"/>
            <a:ext cx="288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00280"/>
            <a:ext cx="32418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79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392360" cy="302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1268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tor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40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387440"/>
            <a:ext cx="5613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17672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357336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530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so de reproducción de señal des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6-25T18:14:08Z</dcterms:modified>
  <cp:revision>164</cp:revision>
  <dc:subject/>
  <dc:title>MAX- MSP</dc:title>
</cp:coreProperties>
</file>