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30C6-9753-4F8F-83A4-4356536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B1C7-7190-4D6C-922A-A49C451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BF11-5CC1-4813-B6F7-A057C942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8718-EAEF-4E78-AC3E-BF8CBC7E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3F6F-57DD-4CE5-95D4-9559D7AB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1C8-01B8-4118-89F2-0C2BFAF4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77D9-599C-4357-9C99-E558079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41DA-7722-4690-A03A-FA8EBA9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D8C6-D94A-4CE8-B0C0-2EE805A5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774C-10D0-47CE-8AED-CB6D65B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C8AA-DDA8-4AF3-9C56-1663963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9D37-D1EF-4F9C-A09A-63E246E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3D7F-B7BB-4102-84EF-B891764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0A82-EE46-4E8E-8C5B-5A3E09B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63D-BA49-4D8D-A244-E097597F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8BE8-B8C9-443D-B68B-27946DA6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9B42-5301-488B-BC40-5FFA5554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176A-8DCE-4211-A3C5-3CAB6DE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F8D4-A606-4109-A5C3-5387CDC4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ABFC-A5DE-4AA5-B5EA-FB332E1E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F4246-CDCD-45DB-8855-A60D490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2634-47E1-422B-8ECE-AD10FBA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BC7F9-A712-42D6-BBEE-BF83194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23E0-31B7-476C-A21A-F6F40DB8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1EBA-55B1-4C38-8FA4-C272EF0A5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0FC-1FCB-4F9C-A0D5-3BBD2C9CA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1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4869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63025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ainMenu MainMen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6545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enDialog = Open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238720" cy="4152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56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4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5229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SaveDialog = Save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564000" y="29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29242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70828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FontDialog = FontDialo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4437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429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XPMani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2276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memo =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3240" y="10526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191280" cy="4924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93080" y="2205000"/>
            <a:ext cx="15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ordenar los elementos de esta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s una extensión de array. Los array solamente agrupan objetos de un solo tipo. En cambio los struct pueden llevar variados tipos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truc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on el segundo tipo de datos estructurados que vere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nos permiten agrupar varios datos, aunque sean de distinto tipo, que mantengan algún tipo de relación, permitiendo manipularlos todos juntos, con un mismo identificador, o por separ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son llamadas también muy a menudo registros, o en inglés "records". Y son estructuras análogas en muchos aspectos a los registros de bases de datos. Y siguiendo la misma analogía, cada variable de una estructura se denomina a menudo campo, o "field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545080" cy="3039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llenar con los comandos el menu principal no vamos a estructure y con el botón derecho del mouse clickamos e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u Design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5545080" cy="3040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484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nces llenamos con Archivo, Edición, Formato y Ayuda. A cada uno de estos los llenamos con las opciones, Abrir, Guardar, Guardar Como, Sali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406692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76640" cy="252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835520" y="155736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4057920" cy="25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4844880" y="4149720"/>
            <a:ext cx="4048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057560" cy="25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2892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02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268280"/>
            <a:ext cx="792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EditorDeTexto *frmEditorDeTex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s glob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NombreArchivo = 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rmEditorDeTexto::TfrmEditorDeTexto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borra el 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844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id Nuev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mEditorDeTexto-&gt;Memo1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Archivo="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 todo lo que se haya escrito, borra el nombre del archivo y deja la variable booleana como fa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6000" y="365040"/>
            <a:ext cx="896436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Nuevo1Click(TObject *Sen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No : 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//no hago nada, podría sacar el mrCanc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2060640"/>
            <a:ext cx="842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sg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hay un st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Type DlgTyp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 confi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MsgDlgButtons Buttons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define los boton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HelpCtx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ff3300"/>
                </a:solidFill>
                <a:latin typeface="Arial"/>
              </a:rPr>
              <a:t>(llama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un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ssageDlg entrega datos enter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permiten tomar una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773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br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LoadFromFile(Open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413000"/>
            <a:ext cx="835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NombreArchivo==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ardarComo1Click(thi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[&lt;identificador&gt;] { [&lt;tipo&gt; &lt;nombre_variable&gt;[,&lt;nombre_variable&gt;,...]]; . } [&lt;variable_estructura&gt;[,&lt;variable_estructura&gt;,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ombre de la estructura es un nombre opcional para referirse a la 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ariables de estructura son variables declaradas del tipo de la estructura, y su inclusión también es opcional. Sin bien, al menos uno de estos elementos debe existir, aunque ambos sean op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8446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GuardarCom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mbreArchivo=Save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ificado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916280"/>
            <a:ext cx="856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ali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mEditorDeTexto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Deshace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Undo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1197000"/>
            <a:ext cx="864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rt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ut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Copi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opyTo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Peg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PasteFromClipboard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125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Eliminar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ClearSelection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SeleccionarTod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electAll(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HorayFech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Lines-&gt;Add(DateTimeToStr(Now())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62864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Fuente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Font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Font = FontDialog1-&gt;Fo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41300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justedeL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WordWrap = !Memo1-&gt;WordWra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Memo1-&gt;WordWr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Verti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o1-&gt;ScrollBars = ssBo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730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__fastcall TfrmEditorDeTexto::Memo1Change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do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916280"/>
            <a:ext cx="8893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oid __fastcall TForm1::FormCloseQuery(TObject *Sender, bool &amp;CanClo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 res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modificado==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p = MessageDlg("¿Desea guardar los cambios?",mtConfirmation,TMsgDlgButtons() &lt;&lt; mbYes &lt;&lt; mbNo &lt;&lt; mbCancel,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witch (res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Yes: if (NombreArchivo=="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f (SaveDialog1-&gt;Execute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SaveDialog1-&gt;File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mo1-&gt;Lines-&gt;SaveToFile(NombreArchiv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se mrCancel : CanClose=fal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700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rmEditorDeTexto::AcercadeEditordeText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outBox-&gt;ShowMod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cc33"/>
                </a:solidFill>
                <a:latin typeface="Arial"/>
              </a:rPr>
              <a:t>Ojo en la parte de lo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UnitEditorTexto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#include "ABOUT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67040" y="1500120"/>
            <a:ext cx="5209920" cy="385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55640" y="6093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 New Other --- Abou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interior de una estructura, entre las llaves, se pueden definir todos los elementos que consideremos necesarios, del mismo modo que se declaran las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structuras pueden referenciarse completas, usando su nombre, como hacemos con las variables que ya conocemos, y también se puede acceder a los elementos en el interior de la estructura usando el operador de selección (.), un p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00680" cy="3819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ditor de 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ueden declararse más variables del tipo de estructura en cualquier parte del programa,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struct] &lt;identificador&gt; &lt;variable_estructura&gt; [,&lt;variable_estructura&gt;...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ruct Persona { char Nombre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 Direccion[65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 AnyoNacimi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sona Fulani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382920" cy="39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16360" y="141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14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13372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98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Edit o cajas de texto, seran nombrados txtMarca, txtModelo, txtPeso, txtCuer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93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284640"/>
            <a:ext cx="244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 el objeto ColorBox el cual será llamado cbColor. VColorBox está ubicado en Aditional en el To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465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43280" y="465264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58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4076640"/>
            <a:ext cx="216000" cy="115272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03640" y="537372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s TButton llamados btnGuardar, btnLimpiar, btnCar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585720"/>
            <a:ext cx="61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Programa011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Guitarr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siString Marca, Mode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e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Cuer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Color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rmGuitarra *frm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ción de la variable tipo struct T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Guitarra  UnaGuita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8064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id __fastcall TfrmGuitarra::btnGuard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este punto guardar no significa un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significa que esos datos serán almace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33cc33"/>
                </a:solidFill>
                <a:latin typeface="Arial"/>
              </a:rPr>
              <a:t>//en la variable struct TGuitarra llamada UnaGuita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arca   = txtMarca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Modelo  = txtModelo-&gt;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Peso    = StrToFloat(txtPeso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uerdas = StrToInt(txtCuerdas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UnaGuitarra.Color   = cbColor-&gt;Select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21T01:43:21Z</dcterms:modified>
  <cp:revision>169</cp:revision>
  <dc:subject/>
  <dc:title>Computación 1</dc:title>
</cp:coreProperties>
</file>