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ED21-48B0-40B3-9354-ABF527AA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1E7B-F497-4230-A9DB-E4077F69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8EFD-FEF3-427B-9A22-3524275A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B774-DF1E-4D9F-9AFD-59764D7F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2027-ACA0-48ED-9A2E-0302E29A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008A-947B-40A2-BD2E-B9D16FB9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3EA4-EF94-44CF-A8D1-C8AC1463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3896-027A-4773-BB8F-B8AB975B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CD42-8B27-4E0A-9363-E1D5174C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AE17-0E72-44FE-A2B8-A97F8A4B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BB5F-F07E-4E04-A8B7-A30EA9D8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E019-D33D-49F3-B965-185DD6A3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576A-DF23-404A-AFAB-1FF9A04B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9A56-E842-4C3B-B3EB-3F9A2D96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1813-78A3-4ADA-AD43-74A0B2C5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82A2-1054-4FCE-A408-DC471908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CDF1-0F20-4835-A632-E9DB4BD5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7A19-4C1F-4FD4-9355-AB5061B2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D4BA0-8B02-49FC-ABB7-D5D0344C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7E73-44FB-40AE-B2A7-780FD9FF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245C-527F-4505-ACAE-2DA43A04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0A3A-41FB-4A08-AB7E-A23F668F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DE34-DDAD-4BC8-A232-E097BF5E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8BC2-5954-40AE-8EA8-03375ACC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16A7-853F-4EF7-8F4C-A12596C489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95B4-7C4E-4904-AA64-F8224CE827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1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31708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1628640"/>
            <a:ext cx="66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dicador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do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ut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p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ña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nary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o b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527280" cy="3189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19280" y="220500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1916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Crear -----btnCrea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Leer ----btnLer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3716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328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m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628640"/>
            <a:ext cx="84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14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lama a la libreria de uso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71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archivoo;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indica las el objeto de operaciones 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34136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Crea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a=127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finimos y damos valores a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=6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c=3.14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d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e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[i] = 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[i] = (i+1)/1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8360" y="1413000"/>
            <a:ext cx="79912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rear archivo y ab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escribi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a,4);  //4 tamaño de int en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b,2);  //2 tamaño de short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c,sizeof(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d,sizeof(d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e,sizeof(e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errar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484280"/>
            <a:ext cx="777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e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claramos las variables se usa otro 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n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4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n5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abri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ee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1,sizeof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2,sizeof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3,sizeof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4,sizeof(n4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5,sizeof(n5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13000"/>
            <a:ext cx="83516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mostramos las variables que estaban en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4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5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cerra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486900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630252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MainMenu MainMen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6545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PenDialog = Open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5238720" cy="4152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56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54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32000" y="5229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SaveDialog = Save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564000" y="29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292428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70828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FontDialog = Font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4437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4292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XPManif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227664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2133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memo = Mem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3240" y="10526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mEditorDe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1268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4797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191280" cy="4924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093080" y="2205000"/>
            <a:ext cx="158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demos ordenar los elementos de esta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s una extensión de array. Los array solamente agrupan objetos de un solo tipo. En cambio los struct pueden llevar variados tipos de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tructura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on el segundo tipo de datos estructurados que vere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tructuras nos permiten agrupar varios datos, aunque sean de distinto tipo, que mantengan algún tipo de relación, permitiendo manipularlos todos juntos, con un mismo identificador, o por separ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tructuras son llamadas también muy a menudo registros, o en inglés "records". Y son estructuras análogas en muchos aspectos a los registros de bases de datos. Y siguiendo la misma analogía, cada variable de una estructura se denomina a menudo campo, o "field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545080" cy="3039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llenar con los comandos el menu principal no vamos a estructure y con el botón derecho del mouse clickamos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nu Design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5545080" cy="3040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148428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nces llenamos con Archivo, Edición, Formato y Ayuda. A cada uno de estos los llenamos con las opciones, Abrir, Guardar, Guardar Como, Salir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780000" y="3645000"/>
            <a:ext cx="40669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76640" cy="2523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35520" y="1557360"/>
            <a:ext cx="4057560" cy="2562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4057920" cy="2562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844880" y="4149720"/>
            <a:ext cx="4048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057560" cy="2562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2428920" cy="196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302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1268280"/>
            <a:ext cx="7921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rmEditorDeTexto *frmEditorDeTex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variables 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siString NombreArchivo = "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ool 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rmEditorDeTexto::TfrmEditorDeTexto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borra el Mem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1844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id Nuev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mEditorDeTexto-&gt;Memo1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Archivo="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97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rra todo lo que se haya escrito, borra el nombre del archivo y deja la variable booleana como f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6000" y="365040"/>
            <a:ext cx="896436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oid __fastcall TForm1::Nuevo1Click(TObject *Sen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t res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(modificado==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p = MessageDlg("¿Desea guardar los cambios?",mtConfirmation,TMsgDlgButtons() &lt;&lt; mbYes &lt;&lt; mbNo &lt;&lt; mbCancel,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witch (res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Yes: if (NombreArchivo=="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(SaveDialog1-&gt;Execute(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mo1-&gt;Lines-&gt;SaveToFile(SaveDialog1-&gt;File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mbreArchivo=SaveDialog1-&gt;File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mo1-&gt;Lines-&gt;SaveToFile(NombreArchiv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No : Nuevo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Cancel : //no hago nada, podría sacar el mrCance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2060640"/>
            <a:ext cx="8424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ssageDl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siString Msg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3300"/>
                </a:solidFill>
                <a:latin typeface="Arial"/>
              </a:rPr>
              <a:t>(hay un st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MsgDlgType DlgType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3300"/>
                </a:solidFill>
                <a:latin typeface="Arial"/>
              </a:rPr>
              <a:t>(de confirm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MsgDlgButtons Buttons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3300"/>
                </a:solidFill>
                <a:latin typeface="Arial"/>
              </a:rPr>
              <a:t>(define los botone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HelpCtx)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3300"/>
                </a:solidFill>
                <a:latin typeface="Arial"/>
              </a:rPr>
              <a:t>(llama hel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126828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funci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ssageDlg entrega datos entero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permiten tomar una 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1773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Abri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LoadFromFile(OpenDialog1-&gt;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eArchivo=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413000"/>
            <a:ext cx="8351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Guard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NombreArchivo=="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uardarComo1Click(thi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SaveToFile(NombreArchiv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uct [&lt;identificador&gt;] { [&lt;tipo&gt; &lt;nombre_variable&gt;[,&lt;nombre_variable&gt;,...]]; . } [&lt;variable_estructura&gt;[,&lt;variable_estructura&gt;,...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nombre de la estructura es un nombre opcional para referirse a la estru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variables de estructura son variables declaradas del tipo de la estructura, y su inclusión también es opcional. Sin bien, al menos uno de estos elementos debe existir, aunque ambos sean opci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184464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GuardarComo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Save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SaveToFile(SaveDialog1-&gt;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eArchivo=Save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916280"/>
            <a:ext cx="856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Sali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mEditorDeTexto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Deshace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Undo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9280" y="1197000"/>
            <a:ext cx="8642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Cort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CutToClipboard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Copi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CopyToClipboard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Peg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PasteFromClipboard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125360"/>
            <a:ext cx="8496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Elimin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ClearSelection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SeleccionarTodo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SelectAll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HorayFecha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Add(DateTimeToStr(Now())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162864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Fuente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Font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Font = FontDialog1-&gt;Fo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41300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AjustedeLnea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WordWrap = !Memo1-&gt;WordWra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Memo1-&gt;WordWr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ScrollBars = ssVerti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ScrollBars = ssBo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187308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__fastcall TfrmEditorDeTexto::Memo1Change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do 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1916280"/>
            <a:ext cx="8893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oid __fastcall TForm1::FormCloseQuery(TObject *Sender, bool &amp;CanClo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t res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(modificado==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p = MessageDlg("¿Desea guardar los cambios?",mtConfirmation,TMsgDlgButtons() &lt;&lt; mbYes &lt;&lt; mbNo &lt;&lt; mbCancel,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witch (res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Yes: if (NombreArchivo=="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(SaveDialog1-&gt;Execute(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mo1-&gt;Lines-&gt;SaveToFile(SaveDialog1-&gt;File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nClose=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mo1-&gt;Lines-&gt;SaveToFile(NombreArchiv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Cancel : CanClose=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170028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AcercadeEditordeTexto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outBox-&gt;ShowMod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87280" y="4508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cc33"/>
                </a:solidFill>
                <a:latin typeface="Arial"/>
              </a:rPr>
              <a:t>Ojo en la parte de los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#include "UnitEditorTexto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#include "ABOUT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967040" y="1500120"/>
            <a:ext cx="5209920" cy="3857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55640" y="6093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e New Other --- Abou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interior de una estructura, entre las llaves, se pueden definir todos los elementos que consideremos necesarios, del mismo modo que se declaran las variab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tructuras pueden referenciarse completas, usando su nombre, como hacemos con las variables que ya conocemos, y también se puede acceder a los elementos en el interior de la estructura usando el operador de selección (.), un pu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5800680" cy="3819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25527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bién pueden declararse más variables del tipo de estructura en cualquier parte del programa, de la siguiente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[struct] &lt;identificador&gt; &lt;variable_estructura&gt; [,&lt;variable_estructura&gt;...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uct Persona { char Nombre[65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 Direccion[65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 AnyoNacimien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sona Fulani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382920" cy="3961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0" y="29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716360" y="141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14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13372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981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s TEdit o cajas de texto, seran nombrados txtMarca, txtModelo, txtPeso, txtCuer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393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3284640"/>
            <a:ext cx="244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e es el objeto ColorBox el cual será llamado cbColor. VColorBox está ubicado en Aditional en el Tool 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465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43280" y="4652640"/>
            <a:ext cx="18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5805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4076640"/>
            <a:ext cx="216000" cy="1152720"/>
          </a:xfrm>
          <a:custGeom>
            <a:avLst/>
            <a:gdLst>
              <a:gd name="textAreaLeft" fmla="*/ 0 w 216000"/>
              <a:gd name="textAreaRight" fmla="*/ 78120 w 21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3640" y="537372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s TButton llamados btnGuardar, btnLimpiar, btnCar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585720"/>
            <a:ext cx="6156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Programa011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claración de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Guitarr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siString Marca, Mode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e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Cuer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Color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rmGuitarra *frmGuita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claración de la variable tipo struct TGuit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Guitarra  UnaGuita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844640"/>
            <a:ext cx="8064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void __fastcall TfrmGuitarra::btnGuarda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33cc33"/>
                </a:solidFill>
                <a:latin typeface="Arial"/>
              </a:rPr>
              <a:t>//en este punto guardar no significa un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33cc33"/>
                </a:solidFill>
                <a:latin typeface="Arial"/>
              </a:rPr>
              <a:t>//significa que esos datos serán almace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33cc33"/>
                </a:solidFill>
                <a:latin typeface="Arial"/>
              </a:rPr>
              <a:t>//en la variable struct TGuitarra llamada UnaGuit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Marca   = txtMarca-&gt;T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Modelo  = txtModelo-&gt;T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Peso    = StrToFloat(txtPeso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Cuerdas = StrToInt(txtCuerdas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Color   = cbColor-&gt;Selec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poder leer desde o escribir en archivos o ficheros (lectura/escritura de datos en unidades de almacenamiento permanente como los disquetes, discos duros, etc.), se debe incluir la libr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.h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. En esta librería se definen las clases necesarias para la utilización de ficheros, que so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f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derivan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a su vez derivan de la clas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21T01:43:21Z</dcterms:modified>
  <cp:revision>169</cp:revision>
  <dc:subject/>
  <dc:title>Computación 1</dc:title>
</cp:coreProperties>
</file>