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169A-83B9-40EF-B285-8BE2C3D3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0E74-A523-4861-827D-6B611BE6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A3E2-2AB4-4AB3-B767-9DB43760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7914-433E-43D5-935A-3B7247B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A1EC-A208-419E-B0AC-87C9101B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A56-0137-4979-8A35-6E379CE3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C84-8A04-4A81-B4B4-0B7ED80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67B1-8D27-4AEB-98A9-5E1EA36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556-6967-4A69-ACAE-7B807EE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4C66-BE57-4EB3-96F6-C19952E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3A3E-0141-4E12-AEA0-F1A0363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3227-E1C3-4AB6-988E-A938DD9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E41E-F4C1-4D05-82CF-6DF9CB0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CF44-E6D7-4BB7-B9F3-DD902BC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CB5-9FF4-4048-BC26-EEFF6C6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F29E-5D9F-42A0-9F24-0C273A1E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0998-5D73-495A-9347-21A01957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5948-EB22-41FC-998C-67988EBA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2D68-4C1E-42F0-8E32-8A409198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C63C-E36E-45F5-B550-F8212F6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059A-FE61-4ADD-8C76-7C1E6D0B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B031-C36E-4BBF-B754-9812309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D7E0-18B8-4B3B-85ED-B73B23E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136C-2412-4D47-90A1-1CB5171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590-B243-48C7-9E71-2F4B0086E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286F-F1F9-4E68-8DB8-7A47D42AE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1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4869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3025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ainMenu MainMen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6545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enDialog = 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238720" cy="4152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56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4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5229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SaveDialog = Save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64000" y="29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29242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7082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FontDialog = Font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437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29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PMani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2276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emo =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3240" y="105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191280" cy="492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93080" y="220500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ordenar los elementos de esta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s una extensión de array. Los array solamente agrupan objetos de un solo tipo. En cambio los struct pueden llevar variados tipos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el segundo tipo de datos estructurados que ver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nos permiten agrupar varios datos, aunque sean de distinto tipo, que mantengan algún tipo de relación, permitiendo manipularlos todos juntos, con un mismo identificador, o por sepa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son llamadas también muy a menudo registros, o en inglés "records". Y son estructuras análogas en muchos aspectos a los registros de bases de datos. Y siguiendo la misma analogía, cada variable de una estructura se denomina a menudo campo, o "fiel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545080" cy="3039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lenar con los comandos el menu principal no vamos a estructure y con el botón derecho del mouse clickam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u Design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5545080" cy="3040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48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llenamos con Archivo, Edición, Formato y Ayuda. A cada uno de estos los llenamos con las opciones, Abrir, Guardar, Guardar Como, Sali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4066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7664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35520" y="155736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057920" cy="25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844880" y="4149720"/>
            <a:ext cx="4048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2892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02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26828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EditorDeTexto *frmEditorDeTex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NombreArchivo = 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rmEditorDeTexto::TfrmEditorDeTexto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borra el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844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id Nuev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mEditorDeTexto-&gt;Memo1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Archivo=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 todo lo que se haya escrito, borra el nombre del archivo y deja la variable booleana como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6000" y="365040"/>
            <a:ext cx="896436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Nuevo1Click(TObject *Se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No : 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//no hago nada, podría sacar el mrCanc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2060640"/>
            <a:ext cx="842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sg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hay un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Type DlgTyp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 confi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Buttons Buttons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fine los boton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HelpCtx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llama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n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 entrega datos enter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permiten tomar una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br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LoadFromFile(Open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NombreArchivo==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ardarComo1Click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[&lt;identificador&gt;] { [&lt;tipo&gt; &lt;nombre_variable&gt;[,&lt;nombre_variable&gt;,...]]; . } [&lt;variable_estructura&gt;[,&lt;variable_estructura&gt;,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la estructura es un nombre opcional para referirse a la 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ariables de estructura son variables declaradas del tipo de la estructura, y su inclusión también es opcional. Sin bien, al menos uno de estos elementos debe existir, aunque ambos sean op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8446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Com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91628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al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Deshace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Undo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1197000"/>
            <a:ext cx="864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rt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ut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pi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opy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Peg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PasteFrom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125360"/>
            <a:ext cx="84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Elimin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learSelection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eleccionarTod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electAll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HorayFech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Add(DateTimeToStr(Now())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62864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Fuente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Font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Font = FontDialog1-&gt;Fo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41300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justedeL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WordWrap = !Memo1-&gt;WordWr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Memo1-&gt;WordWr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Verti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Bo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730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rmEditorDeTexto::Memo1Change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do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916280"/>
            <a:ext cx="8893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FormCloseQuery(TObject *Sender, bool &amp;CanClo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70028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cercadeEditordeText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utBox-&gt;ShowMod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50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Ojo en la parte de lo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UnitEditorText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ABOUT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67040" y="1500120"/>
            <a:ext cx="5209920" cy="3857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55640" y="6093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 New Other --- Abou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interior de una estructura, entre las llaves, se pueden definir todos los elementos que consideremos necesarios, del mismo modo que se declaran las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pueden referenciarse completas, usando su nombre, como hacemos con las variables que ya conocemos, y también se puede acceder a los elementos en el interior de la estructura usando el operador de selección (.), un p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800680" cy="3819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ueden declararse más variables del tipo de estructura en cualquier parte del programa,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struct] &lt;identificador&gt; &lt;variable_estructura&gt; [,&lt;variable_estructura&gt;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Persona { char Nombre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 Direccion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AnyoNacimi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 Fulani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82920" cy="39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16360" y="141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4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13372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98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Edit o cajas de texto, seran nombrados txtMarca, txtModelo, txtPeso, txtCuer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93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24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 el objeto ColorBox el cual será llamado cbColor. VColorBox está ubicado en Aditional en el Tool 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3280" y="465264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8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076640"/>
            <a:ext cx="216000" cy="115272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5373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Button llamados btnGuardar, btnLimpiar, btnCar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585720"/>
            <a:ext cx="61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Programa011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Guitarr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arca, Mode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e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Cu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Color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Guitarra *frm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la variable tipo struct T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Guitarra  Una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44640"/>
            <a:ext cx="80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d __fastcall TfrmGuitarra::btnGuard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este punto guardar no significa un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significa que esos datos serán almace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la variable struct TGuitarra llamada Una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arca   = txtMarca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odelo  = txtModelo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Peso    = StrToFloat(txtPeso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uerdas = StrToInt(txtCuerdas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olor   = cbColor-&gt;Selec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21T01:43:21Z</dcterms:modified>
  <cp:revision>169</cp:revision>
  <dc:subject/>
  <dc:title>Computación 1</dc:title>
</cp:coreProperties>
</file>