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A3DD19-AF8A-4192-B8EF-C02393A1D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EB6F3D-9089-4424-B227-7ECD41CA5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77C105-CF7C-45B5-ABBC-4C88B0655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951088-3393-4D60-9A20-3644AFE28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2923C-9BB1-44D3-855B-2E80DC31D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19E02-AFA9-4B34-976B-5D803FC47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1975F-7D55-40C9-945A-28547A4A3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7B0E9-7130-4948-B0D6-E22618375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FFED9-1787-4EAF-869E-40F1DE45B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746D8-3C65-4FD9-B5DF-E61868CC0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34D74-E41A-4244-B922-A455E9FBF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0795CA-860D-464C-89B5-A84E0D482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AE708-630A-4045-BAFB-CC6F15B4A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E205A-1C4F-42D9-8C46-1966C2D31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B4DAC-68AD-4B2F-89F7-80FAC8ECC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312BF-F734-49C8-9341-59944F23C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A8D80-3A24-4877-A65A-748870095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8C76C4-4A1E-4EC1-AED5-C9AAA617A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D3C27E-79CF-408C-8B2F-CFD7C1DDC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BBA7CF-67CA-4596-B32C-280A5D7C0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38E9D8-9EAE-4E74-9B22-7D5FE54BA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2DFE85-9B06-4571-B581-1B3C11B04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1F1CD3-ADFB-4F98-B2A0-AEB53C4CB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77E7FD-409D-41E2-B965-D2BF30F0A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BA7A5-F80A-4831-B7F3-DD80268CB08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8FB62-082D-4FA9-8B04-D76548DA54B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600" spc="-1" strike="noStrike">
                <a:solidFill>
                  <a:srgbClr val="ffffff"/>
                </a:solidFill>
                <a:latin typeface="Arial"/>
              </a:rPr>
              <a:t>Computación 2 - 1</a:t>
            </a:r>
            <a:endParaRPr b="0" lang="en-US" sz="5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900" spc="-1" strike="noStrike">
                <a:solidFill>
                  <a:srgbClr val="000000"/>
                </a:solidFill>
                <a:latin typeface="Arial"/>
              </a:rPr>
              <a:t>Sergio Floody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Archiv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539640" y="1557360"/>
            <a:ext cx="8317080" cy="48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Archiv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042920" y="1628640"/>
            <a:ext cx="6624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Indicador  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Modo apertu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in         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ectu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out        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scritu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pp        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ñad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binary     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modo bina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Archiv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4000" y="1557360"/>
            <a:ext cx="3527280" cy="318924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1619280" y="2205000"/>
            <a:ext cx="309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003640" y="1916280"/>
            <a:ext cx="3384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btnCrear -----btnCrearCli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btnLeer ----btnLerrCli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276720" y="3716280"/>
            <a:ext cx="1511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076720" y="3284640"/>
            <a:ext cx="23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Memo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Archiv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24000" y="1628640"/>
            <a:ext cx="842472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#include &lt;vcl.h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#pragma hdrs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#include "Unit14.h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#include "fstream.h" </a:t>
            </a:r>
            <a:r>
              <a:rPr b="0" lang="es-ES" sz="1800" spc="-1" strike="noStrike">
                <a:solidFill>
                  <a:srgbClr val="33cc33"/>
                </a:solidFill>
                <a:latin typeface="Arial"/>
              </a:rPr>
              <a:t>//llama a la libreria de uso archi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4000" y="3716280"/>
            <a:ext cx="84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#pragma package(smart_ini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#pragma resource "*.dfm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Form1 *Form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stream archivoo; </a:t>
            </a:r>
            <a:r>
              <a:rPr b="0" lang="es-ES" sz="1800" spc="-1" strike="noStrike">
                <a:solidFill>
                  <a:srgbClr val="33cc33"/>
                </a:solidFill>
                <a:latin typeface="Arial"/>
              </a:rPr>
              <a:t>//indica las el objeto de operaciones de arch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Archiv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24000" y="1341360"/>
            <a:ext cx="828036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void __fastcall TForm1::btnCrearClick(TObject *Sen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nt a=127;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33cc33"/>
                </a:solidFill>
                <a:latin typeface="Arial"/>
              </a:rPr>
              <a:t>//definimos y damos valores a los da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hort b=6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loat c=3.141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nt d[10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ouble e[10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or(int i = 0;i&lt;=9; i++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[i] = i+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or(int i = 0;i&lt;=9; i++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[i] = (i+1)/10.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468360" y="1413000"/>
            <a:ext cx="7991280" cy="38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33cc33"/>
                </a:solidFill>
                <a:latin typeface="Arial"/>
              </a:rPr>
              <a:t>//crear archivo y abr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rchivoo.open("datos.dat",ios::out|ios::binary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33cc33"/>
                </a:solidFill>
                <a:latin typeface="Arial"/>
              </a:rPr>
              <a:t>//escribir da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rchivoo.write((char *)&amp;a,4);  //4 tamaño de int en b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rchivoo.write((char *)&amp;b,2);  //2 tamaño de short 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rchivoo.write((char *)&amp;c,sizeof(c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rchivoo.write( (char *)&amp;d,sizeof(d) 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rchivoo.write( (char *)&amp;e,sizeof(e) 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33cc33"/>
                </a:solidFill>
                <a:latin typeface="Arial"/>
              </a:rPr>
              <a:t>//cerrar arch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rchivoo.clos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Archiv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39640" y="1484280"/>
            <a:ext cx="77774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void __fastcall TForm1::btnLeerClick(TObject *Sen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33cc33"/>
                </a:solidFill>
                <a:latin typeface="Arial"/>
              </a:rPr>
              <a:t>//declaramos las variables se usa otro nomb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nt n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hort n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loat n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nt n4[10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ouble n5[10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33cc33"/>
                </a:solidFill>
                <a:latin typeface="Arial"/>
              </a:rPr>
              <a:t>//abrimos arch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rchivoo.open("datos.dat",ios::in|ios::binary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33cc33"/>
                </a:solidFill>
                <a:latin typeface="Arial"/>
              </a:rPr>
              <a:t>//leemos arch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rchivoo.read((char *)&amp;n1,sizeof(n1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rchivoo.read((char *)&amp;n2,sizeof(n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rchivoo.read((char *)&amp;n3,sizeof(n3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rchivoo.read((char *)&amp;n4,sizeof(n4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rchivoo.read((char *)&amp;n5,sizeof(n5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Archiv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24000" y="1413000"/>
            <a:ext cx="8351640" cy="51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33cc33"/>
                </a:solidFill>
                <a:latin typeface="Arial"/>
              </a:rPr>
              <a:t>//mostramos las variables que estaban en el arch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Memo1-&gt;Lines-&gt;Add(IntToStr(n1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Memo1-&gt;Lines-&gt;Add(IntToStr(n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Memo1-&gt;Lines-&gt;Add(FloatToStr(n3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for(int i = 0;i&lt;=9; i++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Memo1-&gt;Lines-&gt;Add(IntToStr(n4[i]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for(int i = 0;i&lt;=9; i++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Memo1-&gt;Lines-&gt;Add(FloatToStr(n5[i]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33cc33"/>
                </a:solidFill>
                <a:latin typeface="Arial"/>
              </a:rPr>
              <a:t>//cerramos arch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rchivoo.clos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Editor de Tex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042920" y="4869000"/>
            <a:ext cx="0" cy="12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79280" y="6302520"/>
            <a:ext cx="309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MainMenu MainMenu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332000" y="5654520"/>
            <a:ext cx="33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OPenDialog = OpenDialog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468360" y="1125360"/>
            <a:ext cx="5238720" cy="415296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2556000" y="501336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556000" y="544500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132000" y="5229360"/>
            <a:ext cx="36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SaveDialog = SaveDialog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3564000" y="2924280"/>
            <a:ext cx="0" cy="144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564000" y="2924280"/>
            <a:ext cx="25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084720" y="2708280"/>
            <a:ext cx="305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FontDialog = FontDialog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148360" y="4437000"/>
            <a:ext cx="93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084720" y="4292640"/>
            <a:ext cx="20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XPManif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627280" y="2276640"/>
            <a:ext cx="352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156360" y="2133720"/>
            <a:ext cx="23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memo = Memo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148360" y="4437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303240" y="1052640"/>
            <a:ext cx="196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rmEditorDeTex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508720" y="126828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835280" y="4797360"/>
            <a:ext cx="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Editor de Tex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539640" y="1413000"/>
            <a:ext cx="6191280" cy="492444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7093080" y="2205000"/>
            <a:ext cx="1582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odemos ordenar los elementos de esta for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struc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struct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es una extensión de array. Los array solamente agrupan objetos de un solo tipo. En cambio los struct pueden llevar variados tipos de dat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s estructuras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struct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son el segundo tipo de datos estructurados que verem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s estructuras nos permiten agrupar varios datos, aunque sean de distinto tipo, que mantengan algún tipo de relación, permitiendo manipularlos todos juntos, con un mismo identificador, o por separad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s estructuras son llamadas también muy a menudo registros, o en inglés "records". Y son estructuras análogas en muchos aspectos a los registros de bases de datos. Y siguiendo la misma analogía, cada variable de una estructura se denomina a menudo campo, o "field"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611280" y="2421000"/>
            <a:ext cx="5545080" cy="303984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Editor de Tex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39640" y="1484280"/>
            <a:ext cx="748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ara llenar con los comandos el menu principal no vamos a estructure y con el botón derecho del mouse clickamos en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Menu Designer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611280" y="2492280"/>
            <a:ext cx="5545080" cy="304020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Editor de Tex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39640" y="1484280"/>
            <a:ext cx="748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ntonces llenamos con Archivo, Edición, Formato y Ayuda. A cada uno de estos los llenamos con las opciones, Abrir, Guardar, Guardar Como, Salir, et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3780000" y="3645000"/>
            <a:ext cx="4066920" cy="25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179280" y="1557360"/>
            <a:ext cx="4076640" cy="252396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4835520" y="1557360"/>
            <a:ext cx="4057560" cy="256212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Editor de Tex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179280" y="4149720"/>
            <a:ext cx="4057920" cy="256212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4844880" y="4149720"/>
            <a:ext cx="4048200" cy="25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395280" y="1484280"/>
            <a:ext cx="4057560" cy="256212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Editor de Tex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468360" y="4292640"/>
            <a:ext cx="2428920" cy="19620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3"/>
          <a:stretch/>
        </p:blipFill>
        <p:spPr>
          <a:xfrm>
            <a:off x="4716360" y="1413000"/>
            <a:ext cx="302904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Editor de Tex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95280" y="1268280"/>
            <a:ext cx="79218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cc33"/>
                </a:solidFill>
                <a:latin typeface="Arial"/>
              </a:rPr>
              <a:t>//-------------------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#pragma package(smart_ini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#pragma resource "*.dfm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frmEditorDeTexto *frmEditorDeText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cc33"/>
                </a:solidFill>
                <a:latin typeface="Arial"/>
              </a:rPr>
              <a:t>//variables glob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nsiString NombreArchivo = "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bool modificado = fals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cc33"/>
                </a:solidFill>
                <a:latin typeface="Arial"/>
              </a:rPr>
              <a:t>//-------------------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__fastcall TfrmEditorDeTexto::TfrmEditorDeTexto(TComponent* Own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 TForm(Own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emo1-&gt;Lines-&gt;Clear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cc33"/>
                </a:solidFill>
                <a:latin typeface="Arial"/>
              </a:rPr>
              <a:t>//borra el Memo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cc33"/>
                </a:solidFill>
                <a:latin typeface="Arial"/>
              </a:rPr>
              <a:t>//-------------------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Editor de Tex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11280" y="1844640"/>
            <a:ext cx="8137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cc33"/>
                </a:solidFill>
                <a:latin typeface="Arial"/>
              </a:rPr>
              <a:t>//-------------------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void Nuevo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frmEditorDeTexto-&gt;Memo1-&gt;Clear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ombreArchivo="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modificado = fals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cc33"/>
                </a:solidFill>
                <a:latin typeface="Arial"/>
              </a:rPr>
              <a:t>//-------------------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24000" y="4797360"/>
            <a:ext cx="80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Borra todo lo que se haya escrito, borra el nombre del archivo y deja la variable booleana como fal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216000" y="365040"/>
            <a:ext cx="8964360" cy="64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void __fastcall TForm1::Nuevo1Click(TObject *Send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int resp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if (modificado==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resp = MessageDlg("¿Desea guardar los cambios?",mtConfirmation,TMsgDlgButtons() &lt;&lt; mbYes &lt;&lt; mbNo &lt;&lt; mbCancel,0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switch (res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case mrYes: if (NombreArchivo=="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if (SaveDialog1-&gt;Execute(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Memo1-&gt;Lines-&gt;SaveToFile(SaveDialog1-&gt;FileNam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NombreArchivo=SaveDialog1-&gt;FileNam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modificado = fals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Nuevo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Memo1-&gt;Lines-&gt;SaveToFile(NombreArchivo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modificado = fals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Nuevo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reak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case mrNo : Nuevo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reak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case mrCancel : //no hago nada, podría sacar el mrCancel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reak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Nuevo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250920" y="2060640"/>
            <a:ext cx="842472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nt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MessageDlg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nsiString Msg,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800" spc="-1" strike="noStrike">
                <a:solidFill>
                  <a:srgbClr val="ff3300"/>
                </a:solidFill>
                <a:latin typeface="Arial"/>
              </a:rPr>
              <a:t>(hay un stri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MsgDlgType DlgType,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800" spc="-1" strike="noStrike">
                <a:solidFill>
                  <a:srgbClr val="ff3300"/>
                </a:solidFill>
                <a:latin typeface="Arial"/>
              </a:rPr>
              <a:t>(de confirmació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MsgDlgButtons Buttons,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800" spc="-1" strike="noStrike">
                <a:solidFill>
                  <a:srgbClr val="ff3300"/>
                </a:solidFill>
                <a:latin typeface="Arial"/>
              </a:rPr>
              <a:t>(define los botones)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nt HelpCtx);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800" spc="-1" strike="noStrike">
                <a:solidFill>
                  <a:srgbClr val="ff3300"/>
                </a:solidFill>
                <a:latin typeface="Arial"/>
              </a:rPr>
              <a:t>(llama hel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Editor de Tex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50920" y="1268280"/>
            <a:ext cx="820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a función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MessageDlg entrega datos enteros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que permiten tomar una decis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Editor de Tex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24000" y="1773360"/>
            <a:ext cx="82803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cc33"/>
                </a:solidFill>
                <a:latin typeface="Arial"/>
              </a:rPr>
              <a:t>/-------------------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void __fastcall TfrmEditorDeTexto::Abrir1Click(TObject *Sen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f (OpenDialog1-&gt;Execute(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emo1-&gt;Lines-&gt;LoadFromFile(OpenDialog1-&gt;FileNam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NombreArchivo=OpenDialog1-&gt;FileNam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odificado = fals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cc33"/>
                </a:solidFill>
                <a:latin typeface="Arial"/>
              </a:rPr>
              <a:t>//-------------------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Editor de Tex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68360" y="1413000"/>
            <a:ext cx="835164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cc33"/>
                </a:solidFill>
                <a:latin typeface="Arial"/>
              </a:rPr>
              <a:t>//-------------------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void __fastcall TfrmEditorDeTexto::Guardar1Click(TObject *Sen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f (NombreArchivo==""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GuardarComo1Click(this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emo1-&gt;Lines-&gt;SaveToFile(NombreArchivo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odificado = fals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cc33"/>
                </a:solidFill>
                <a:latin typeface="Arial"/>
              </a:rPr>
              <a:t>//-------------------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struc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68360" y="1413000"/>
            <a:ext cx="822960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truct [&lt;identificador&gt;] { [&lt;tipo&gt; &lt;nombre_variable&gt;[,&lt;nombre_variable&gt;,...]]; . } [&lt;variable_estructura&gt;[,&lt;variable_estructura&gt;,...]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l nombre de la estructura es un nombre opcional para referirse a la estructur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s variables de estructura son variables declaradas del tipo de la estructura, y su inclusión también es opcional. Sin bien, al menos uno de estos elementos debe existir, aunque ambos sean opciona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Editor de Tex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0920" y="1844640"/>
            <a:ext cx="84247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cc33"/>
                </a:solidFill>
                <a:latin typeface="Arial"/>
              </a:rPr>
              <a:t>//-------------------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void __fastcall TfrmEditorDeTexto::GuardarComo1Click(TObject *Sen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f (SaveDialog1-&gt;Execute(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emo1-&gt;Lines-&gt;SaveToFile(SaveDialog1-&gt;FileNam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NombreArchivo=SaveDialog1-&gt;FileNam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odificado = fals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cc33"/>
                </a:solidFill>
                <a:latin typeface="Arial"/>
              </a:rPr>
              <a:t>//-------------------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Editor de Tex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24000" y="1916280"/>
            <a:ext cx="85690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cc33"/>
                </a:solidFill>
                <a:latin typeface="Arial"/>
              </a:rPr>
              <a:t>//-------------------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void __fastcall TfrmEditorDeTexto::Salir1Click(TObject *Sen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rmEditorDeTexto-&gt;Clos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cc33"/>
                </a:solidFill>
                <a:latin typeface="Arial"/>
              </a:rPr>
              <a:t>//-------------------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void __fastcall TfrmEditorDeTexto::Deshacer1Click(TObject *Sen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emo1-&gt;Undo();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cc33"/>
                </a:solidFill>
                <a:latin typeface="Arial"/>
              </a:rPr>
              <a:t>//-------------------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179280" y="1197000"/>
            <a:ext cx="864252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cc33"/>
                </a:solidFill>
                <a:latin typeface="Arial"/>
              </a:rPr>
              <a:t>//-------------------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void __fastcall TfrmEditorDeTexto::Cortar1Click(TObject *Sen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emo1-&gt;CutToClipboard();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cc33"/>
                </a:solidFill>
                <a:latin typeface="Arial"/>
              </a:rPr>
              <a:t>//-------------------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void __fastcall TfrmEditorDeTexto::Copiar1Click(TObject *Sen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emo1-&gt;CopyToClipboard();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cc33"/>
                </a:solidFill>
                <a:latin typeface="Arial"/>
              </a:rPr>
              <a:t>//-------------------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void __fastcall TfrmEditorDeTexto::Pegar1Click(TObject *Sen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emo1-&gt;PasteFromClipboard();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cc33"/>
                </a:solidFill>
                <a:latin typeface="Arial"/>
              </a:rPr>
              <a:t>//-------------------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Editor de Tex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Editor de Tex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50920" y="1125360"/>
            <a:ext cx="849636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cc33"/>
                </a:solidFill>
                <a:latin typeface="Arial"/>
              </a:rPr>
              <a:t>//-------------------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void __fastcall TfrmEditorDeTexto::Eliminar1Click(TObject *Sen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emo1-&gt;ClearSelection();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cc33"/>
                </a:solidFill>
                <a:latin typeface="Arial"/>
              </a:rPr>
              <a:t>//-------------------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void __fastcall TfrmEditorDeTexto::SeleccionarTodo1Click(TObject *Sen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emo1-&gt;SelectAll();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cc33"/>
                </a:solidFill>
                <a:latin typeface="Arial"/>
              </a:rPr>
              <a:t>//-------------------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void __fastcall TfrmEditorDeTexto::HorayFecha1Click(TObject *Sen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emo1-&gt;Lines-&gt;Add(DateTimeToStr(Now()));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cc33"/>
                </a:solidFill>
                <a:latin typeface="Arial"/>
              </a:rPr>
              <a:t>//-------------------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Editor de Tex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50920" y="1628640"/>
            <a:ext cx="84978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cc33"/>
                </a:solidFill>
                <a:latin typeface="Arial"/>
              </a:rPr>
              <a:t>//-------------------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void __fastcall TfrmEditorDeTexto::Fuente1Click(TObject *Sen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f (FontDialog1-&gt;Execute(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emo1-&gt;Font = FontDialog1-&gt;Fon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cc33"/>
                </a:solidFill>
                <a:latin typeface="Arial"/>
              </a:rPr>
              <a:t>//-------------------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Editor de Tex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95280" y="1413000"/>
            <a:ext cx="84978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cc33"/>
                </a:solidFill>
                <a:latin typeface="Arial"/>
              </a:rPr>
              <a:t>//-------------------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void __fastcall TfrmEditorDeTexto::AjustedeLnea1Click(TObject *Sen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emo1-&gt;WordWrap = !Memo1-&gt;WordWrap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f (Memo1-&gt;WordWra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emo1-&gt;ScrollBars = ssVertical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emo1-&gt;ScrollBars = ssBoth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cc33"/>
                </a:solidFill>
                <a:latin typeface="Arial"/>
              </a:rPr>
              <a:t>//-------------------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Editor de Tex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50920" y="1873080"/>
            <a:ext cx="79930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cc33"/>
                </a:solidFill>
                <a:latin typeface="Arial"/>
              </a:rPr>
              <a:t>//-------------------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id __fastcall TfrmEditorDeTexto::Memo1Change(TObject *Sen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ificado = tru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cc33"/>
                </a:solidFill>
                <a:latin typeface="Arial"/>
              </a:rPr>
              <a:t>//-------------------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Editor de Tex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50920" y="1916280"/>
            <a:ext cx="889308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void __fastcall TForm1::FormCloseQuery(TObject *Sender, bool &amp;CanClos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int resp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if (modificado==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resp = MessageDlg("¿Desea guardar los cambios?",mtConfirmation,TMsgDlgButtons() &lt;&lt; mbYes &lt;&lt; mbNo &lt;&lt; mbCancel,0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switch (res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case mrYes: if (NombreArchivo=="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if (SaveDialog1-&gt;Execute(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Memo1-&gt;Lines-&gt;SaveToFile(SaveDialog1-&gt;FileNam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CanClose=fals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Memo1-&gt;Lines-&gt;SaveToFile(NombreArchivo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reak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case mrCancel : CanClose=fals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reak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Editor de Tex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50920" y="1700280"/>
            <a:ext cx="8136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void __fastcall TfrmEditorDeTexto::AcercadeEditordeTexto1Click(TObject *Sen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boutBox-&gt;ShowModa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187280" y="450864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cc33"/>
                </a:solidFill>
                <a:latin typeface="Arial"/>
              </a:rPr>
              <a:t>Ojo en la parte de los inclu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cc33"/>
                </a:solidFill>
                <a:latin typeface="Arial"/>
              </a:rPr>
              <a:t>#include "UnitEditorTexto.h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cc33"/>
                </a:solidFill>
                <a:latin typeface="Arial"/>
              </a:rPr>
              <a:t>#include "ABOUT.h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Editor de Tex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1967040" y="1500120"/>
            <a:ext cx="5209920" cy="385776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755640" y="6093000"/>
            <a:ext cx="64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File New Other --- Abou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n el interior de una estructura, entre las llaves, se pueden definir todos los elementos que consideremos necesarios, del mismo modo que se declaran las variab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s estructuras pueden referenciarse completas, usando su nombre, como hacemos con las variables que ya conocemos, y también se puede acceder a los elementos en el interior de la estructura usando el operador de selección (.), un punt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struc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50920" y="1557360"/>
            <a:ext cx="5800680" cy="381960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6156360" y="2421000"/>
            <a:ext cx="2552760" cy="327636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Editor de Tex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68360" y="1847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También pueden declararse más variables del tipo de estructura en cualquier parte del programa, de la siguiente form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[struct] &lt;identificador&gt; &lt;variable_estructura&gt; [,&lt;variable_estructura&gt;...]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truct Persona { char Nombre[65]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har Direccion[65]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int AnyoNacimiento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}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ersona Fulanit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struc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struc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971640" y="1628640"/>
            <a:ext cx="3382920" cy="396108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4572000" y="299736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4716360" y="1412640"/>
            <a:ext cx="0" cy="158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716360" y="141300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356000" y="2133720"/>
            <a:ext cx="216000" cy="1726920"/>
          </a:xfrm>
          <a:custGeom>
            <a:avLst/>
            <a:gdLst>
              <a:gd name="textAreaLeft" fmla="*/ 0 w 216000"/>
              <a:gd name="textAreaRight" fmla="*/ 78120 w 216000"/>
              <a:gd name="textAreaTop" fmla="*/ 45000 h 1726920"/>
              <a:gd name="textAreaBottom" fmla="*/ 1681920 h 1726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219640" y="981000"/>
            <a:ext cx="316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Objetos TEdit o cajas de texto, seran nombrados txtMarca, txtModelo, txtPeso, txtCuerd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635280" y="3933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651640" y="3284640"/>
            <a:ext cx="2449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ste es el objeto ColorBox el cual será llamado cbColor. VColorBox está ubicado en Aditional en el Tool Pal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00720" y="4653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4643280" y="4652640"/>
            <a:ext cx="1800" cy="115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643280" y="580536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284720" y="4076640"/>
            <a:ext cx="216000" cy="1152720"/>
          </a:xfrm>
          <a:custGeom>
            <a:avLst/>
            <a:gdLst>
              <a:gd name="textAreaLeft" fmla="*/ 0 w 216000"/>
              <a:gd name="textAreaRight" fmla="*/ 78120 w 216000"/>
              <a:gd name="textAreaTop" fmla="*/ 29880 h 1152720"/>
              <a:gd name="textAreaBottom" fmla="*/ 1122840 h 115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003640" y="5373720"/>
            <a:ext cx="273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Objetos TButton llamados btnGuardar, btnLimpiar, btnCarg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struc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484360" y="585720"/>
            <a:ext cx="615636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nclude &lt;vcl.h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#pragma hdrs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#include "Programa011.h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-------------------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#pragma package(smart_ini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#pragma resource "*.dfm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cc33"/>
                </a:solidFill>
                <a:latin typeface="Arial"/>
              </a:rPr>
              <a:t>//declaración de stru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truct TGuitarra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nsiString Marca, Model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ouble Pes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nt Cuerda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Color Colo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frmGuitarra *frmGuitarr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cc33"/>
                </a:solidFill>
                <a:latin typeface="Arial"/>
              </a:rPr>
              <a:t>//declaración de la variable tipo struct TGuitar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Guitarra  UnaGuitarr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struc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9640" y="1844640"/>
            <a:ext cx="8064720" cy="35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void __fastcall TfrmGuitarra::btnGuardarClick(TObject *Sen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1800" spc="-1" strike="noStrike">
                <a:solidFill>
                  <a:srgbClr val="33cc33"/>
                </a:solidFill>
                <a:latin typeface="Arial"/>
              </a:rPr>
              <a:t>//en este punto guardar no significa un arch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33cc33"/>
                </a:solidFill>
                <a:latin typeface="Arial"/>
              </a:rPr>
              <a:t>	</a:t>
            </a:r>
            <a:r>
              <a:rPr b="0" sz="1800" spc="-1" strike="noStrike">
                <a:solidFill>
                  <a:srgbClr val="33cc33"/>
                </a:solidFill>
                <a:latin typeface="Arial"/>
              </a:rPr>
              <a:t>//significa que esos datos serán almacen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33cc33"/>
                </a:solidFill>
                <a:latin typeface="Arial"/>
              </a:rPr>
              <a:t>	</a:t>
            </a:r>
            <a:r>
              <a:rPr b="0" sz="1800" spc="-1" strike="noStrike">
                <a:solidFill>
                  <a:srgbClr val="33cc33"/>
                </a:solidFill>
                <a:latin typeface="Arial"/>
              </a:rPr>
              <a:t>//en la variable struct TGuitarra llamada UnaGuitar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UnaGuitarra.Marca   = txtMarca-&gt;Tex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UnaGuitarra.Modelo  = txtModelo-&gt;Tex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UnaGuitarra.Peso    = StrToFloat(txtPeso-&gt;Text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UnaGuitarra.Cuerdas = StrToInt(txtCuerdas-&gt;Text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UnaGuitarra.Color   = cbColor-&gt;Selecte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Archiv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ara poder leer desde o escribir en archivos o ficheros (lectura/escritura de datos en unidades de almacenamiento permanente como los disquetes, discos duros, etc.), se debe incluir la librer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fstream.h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&gt;. En esta librería se definen las clases necesarias para la utilización de ficheros, que son 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ifstream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ofstream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fstream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, que derivan de 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istream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ostream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, que a su vez derivan de la clase 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9T12:53:45Z</dcterms:created>
  <dc:creator>Eddie</dc:creator>
  <dc:description/>
  <dc:language>en-US</dc:language>
  <cp:lastModifiedBy>Eddie</cp:lastModifiedBy>
  <dcterms:modified xsi:type="dcterms:W3CDTF">2009-08-21T01:43:21Z</dcterms:modified>
  <cp:revision>169</cp:revision>
  <dc:subject/>
  <dc:title>Computación 1</dc:title>
</cp:coreProperties>
</file>