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5117B-2635-4B0D-9E22-81F2650A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5A8D2-F010-47F5-9784-67DF4DE4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C67CD-A327-4317-95E3-8E396680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3EFE-2FE2-409C-A9CB-27860564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FD83-EBD3-4BB7-AF79-5C92E48C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BBBC-843A-4C86-B661-E1D81272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CB8C-4491-41A2-AD5F-203EA39E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1053-844B-405F-9F0C-716BEF79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F627-4003-49EB-8ABD-EFEA53B9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0208-37B4-4729-BC23-D5CB57CA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8D4A-1582-44D6-9528-A61B967B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3B0DF-0532-4422-AB72-A77D3AC0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FFD2-5D1A-4188-81C8-83FE99BA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923A-290D-49D1-B1CE-64CB767D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15AB-CB46-4F64-8366-E3F2B82C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860E-8C30-4B89-BA9C-DDCA27E7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1882-FC37-4388-8A8E-4213A671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A092-8AAD-40E7-8770-4C648F17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7F69-2F72-4FDB-99E2-376F3928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1BBD-E241-4236-9582-A70FD76E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CAAA-CE8F-42BC-B830-8917E3FF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FF8B9-30D0-4CE2-A773-0FCE77E5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26933-B959-4DAF-90CB-27D5C8FD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9693D-51C5-4091-8773-16A5EE9A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4C5F-A00D-45BD-83C0-86F8700791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2E7D-9621-4DE0-AE79-F09416DD7F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3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000" y="54936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struct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ontiene los caracteres WAVE, a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 frecuencia de muestreo 441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549360"/>
            <a:ext cx="4270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frmFiltros *frmFilt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ncabezadoTipo enc, encpb, encpa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ncabe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son01[100000]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8000"/>
                </a:solidFill>
                <a:latin typeface="Arial"/>
              </a:rPr>
              <a:t>//arreglo de datos de 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__fastcall TfrmFiltros::TfrmFiltros(TComponent* Ow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oid __fastcall TfrmFiltros::btnLeerWavClick(TObject *Se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abre btnLeerWav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variables lo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int es de 32 bits (4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hort de 16 (2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unsigned char es de 8 bits (1by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d16b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de 1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 NTx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tamaño de datos d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culquier ejecucio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abre el archivo usando Open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ee las caracteristicas del archivo w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 prepara a gra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1-&gt;LeftAxis-&gt;Maximum =  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tamaño de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i=0; i&lt;=100000-1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(int i=1;i&lt;=NTx;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read((char *)&amp;d16b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activa media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el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btnLeerWav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oid __fastcall TfrmFiltros::btnPasaBajoClick(TObject *Se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fcpb;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recuencia de corte pasa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b0pb, b1pb, b2pb, a1pb, a2pb; 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oefi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pi = 3.141592653589793238462643383279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son02[10000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413000"/>
            <a:ext cx="83026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primer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b.ID_bloque_riff,"RIFF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nc.tamano_bloque_riff = fs*(16cuantizacion/8)*1canal*2segundos + 36 de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36 de offset se refiere al tamaño de los subchuncks RIFF_chunck y  fmt_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tamano_bloque_riff = 44100*2*1*2+3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b.formato_archivo_riff,"WAV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gundo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b.ID_bloque_fmt,"fmt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tamano_bloque_fmt = 1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formato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canales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fs = 44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bytes_por_segundo = 44100*2*1;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s*(16cuantizacion/8)*1c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alineacion = 2*1;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(16cuantizacion/8)*1c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bits_por_muestra = 1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tercer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b.ID_bloque_data,"data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tamano_bloque_data = 44100*2*1*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 fs*(cuantizacion/8)*1canal*2segu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filtros son sistemas que eliminan o realzan ciertas componentes de frecuencia. Se dividen en pasa bajos, pasa altos, pasa banda y elimina banda, resonadores y no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412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recuencia de corte pasa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cpb = StrToFloat(txtFrecPasaBajo-&gt;Tex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actor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 = tan(pi*fcpb/encpb.f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oeficientes del fi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0pb = K*K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1pb = 2*K*K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2pb = K*K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1pb = (2*(K*K-1))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2pb = (1 - sqrt(2)*K + K*K)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inicializacion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2[0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2[1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2[2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 prepara a gra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2-&gt;Series[0]-&gt;Cle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2-&gt;LeftAxis-&gt;Maximum =  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2-&gt;LeftAxis-&gt;Minimum = -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79280" y="2133720"/>
            <a:ext cx="8675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rea y abre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open("Sound011.wav",ios::out|ios::binar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scribe el encabezado usa sizeof para determinar el tam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write((char *)&amp;encpb,sizeof(encpb));    //e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8000" y="1413000"/>
            <a:ext cx="878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n = 2; n &lt;= 44100*2-1; n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2[n] = b0pb*son01[n] + b1pb*son01[n-1]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2pb*son01[n-2] - a1pb*son02[n-1] - a2pb*son02[n-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n = 0; n &lt;= 44100*2-1; n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16b = son02[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write((char *)&amp;d16b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2-&gt;Series[0]-&gt;Add(son02[n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oid __fastcall TfrmFiltros::btnPasaAltoClick(TObject *Se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fcp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b0pa, b1pa, b2pa, a1pa, a2p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pi = 3.141592653589793238462643383279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son03[10000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primer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a.ID_bloque_riff,"RIFF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nc.tamano_bloque_riff = fs*(16cuantizacion/8)*1canal*2segundos + 36 de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36 de offset se refiere al tamaño de los subchuncks RIFF_chunck y  fmt_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tamano_bloque_riff = 44100*2*1*2+3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a.formato_archivo_riff,"WAV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1413000"/>
            <a:ext cx="8964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gundo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a.ID_bloque_fmt,"fmt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tamano_bloque_fmt = 1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formato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canales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fs = 44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bytes_por_segundo = 44100*2*1; 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s*(16cuantizacion/8)*1c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alineacion = 2*1;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(16cuantizacion/8)*1c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bits_por_muestra = 1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tercer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a.ID_bloque_data,"data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tamano_bloque_data = 44100*2*1*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 fs*(cuantizacion/8)*1canal*2segu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recuencia de corte pasa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cpa = StrToFloat(txtFrecPasaAlto-&gt;Tex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actor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 = tan(pi*fcpa/encpa.f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oeficientes del fi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0pa = 1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1pa = -2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2pa = 1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1pa = (2*(K*K-1))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2pa = (1 - sqrt(2)*K + K*K)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inicializacion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3[0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3[1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3[2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 prepara a gra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3-&gt;Series[0]-&gt;Cle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3-&gt;LeftAxis-&gt;Maximum =  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3-&gt;LeftAxis-&gt;Minimum = -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nuestro caso examinaremos filtros digitales de segundo orden, estos están dados por la siguiente ec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8000" y="3716280"/>
            <a:ext cx="4867560" cy="283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8360" y="2997360"/>
                <a:ext cx="8218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rea y abre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open("Sound111.wav",ios::out|ios::binar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scribe el encabezado usa sizeof para determinar el tam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write((char *)&amp;encpb,sizeof(encp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n = 2; n &lt;= 44100*2-1; n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3[n] = b0pa*son01[n] + b1pa*son01[n-1]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2pa*son01[n-2] - a1pa*son03[n-1] - a2pa*son03[n-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n = 0; n &lt;= 44100*2-1; n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16b = son03[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write((char *)&amp;d16b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3-&gt;Series[0]-&gt;Add(son03[n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be notar que sus resultados están expresados como una sucesión de carácter recur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68360" y="2997360"/>
                <a:ext cx="8218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8360" y="3789360"/>
                <a:ext cx="6634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68360" y="4508640"/>
                <a:ext cx="692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9640" y="5300640"/>
                <a:ext cx="19908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277164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45450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1640" y="5264280"/>
            <a:ext cx="53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eficientes del filtro, estos determinan su compor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 Pasa 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eficient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11280" y="1916280"/>
                <a:ext cx="19908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84360" y="3141720"/>
                <a:ext cx="26827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93720" y="4149720"/>
                <a:ext cx="26542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6960" y="5227560"/>
                <a:ext cx="26827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208400" y="4149720"/>
                <a:ext cx="2683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179960" y="5214960"/>
                <a:ext cx="27129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95640" y="1989000"/>
                <a:ext cx="37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995640" y="2637000"/>
                <a:ext cx="37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716360" y="20606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de C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267192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de Muest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 Pasa Al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eficient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11280" y="1916280"/>
                <a:ext cx="19908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4360" y="3170160"/>
                <a:ext cx="26827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84360" y="4178160"/>
                <a:ext cx="2654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84360" y="5257800"/>
                <a:ext cx="2682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208400" y="4149720"/>
                <a:ext cx="2683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179960" y="5214960"/>
                <a:ext cx="27129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995640" y="1989000"/>
                <a:ext cx="37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95640" y="2637000"/>
                <a:ext cx="37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4716360" y="20606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de C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16360" y="267192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de Muest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24000" y="1052640"/>
            <a:ext cx="4200480" cy="5514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869080" y="1341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99360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frmFil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tion: Fil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834920" y="537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0" y="472428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btnLeer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tion: L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276720" y="4220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6328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933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PManif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7640" y="6021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58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n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16720" y="2781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btnPas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tion: Pasa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3789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btnPasa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tion: Pasa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780000" y="29973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80000" y="299736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284720" y="422100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4221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0720" y="479736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txtFrecPas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xt: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566100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txtFrecPasa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xt: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24360" y="5373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1143000"/>
            <a:ext cx="6408720" cy="5526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48360" y="5084640"/>
            <a:ext cx="374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ximun = 32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imun = -32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2720" y="1413000"/>
            <a:ext cx="2087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Show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Title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Legend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include "UnitFiltros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include "fstream.h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para abrir arch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include "math.h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para operaciones mate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9-25T15:44:44Z</dcterms:modified>
  <cp:revision>229</cp:revision>
  <dc:subject/>
  <dc:title>Computación 1</dc:title>
</cp:coreProperties>
</file>