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4E944-E466-4E61-AA55-7FEA362A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32005-579E-455E-A444-CA81B9BD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CB428-1FA3-406D-8364-212F59E6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57EF9-FAEF-46FA-8AE6-9303D373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E7D3-FB6F-49E6-BDAC-FB4F29F9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B220-24BC-4577-9C9D-6695D5EF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CFA8-967C-418E-9EF8-C23BAED6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C3A4-6111-4B13-A4C0-7B0CC5D1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DEBC-91BC-46C2-A0A8-55795517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1C35-E1AE-4B18-ADFB-26CCC873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CFAC-6341-49F7-B63E-B6BA338D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ABEF0-8456-4747-9992-1E402C1B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9E77-E2B0-43B1-9F1D-97523652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630A-8C22-48F3-A7AA-92269E19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CE53-259A-4A78-8A86-39E717AD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172A-8FDB-4489-855E-256DAF72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88DF-780D-4BF0-B9DC-821CBF96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93A13-D9A2-4E40-9038-3384FDC3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8D582-4950-4FCD-8747-AC78C34F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91A43-049E-4D57-ABE8-F2E27E43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7AB90-D058-47C2-9ED6-03197EB0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065FD-2213-43C4-A84F-CCE5972B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5A655-EE7D-4E90-A4D5-B05B6C18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27795-D971-49BE-810D-4AF952AD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B236-EAF9-4763-B049-57EDFBFA38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4B2A-6B2F-48AA-90DB-BCAAEB4765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3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4000" y="54936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struct del archiv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Encabezad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ontiene los caracteres "RIFF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ri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formato_archivo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ontiene los caracteres WAVE, a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fmt[4]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"fmt " &lt;--ojo con el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fmt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16 (largo de bloque de aquí en adel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formato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1: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canales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1:mono    2:ste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fs;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 frecuencia de muestreo 44100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bytes_por_segundo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byte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lineacion;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aline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its_por_muestra;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8, 16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data[4];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aqui es "dat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data;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tamano bloqu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549360"/>
            <a:ext cx="4270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frmFiltros *frmFiltr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ncabezadoTipo enc, encpb, encpa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ncabe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stream F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 son01[100000]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8000"/>
                </a:solidFill>
                <a:latin typeface="Arial"/>
              </a:rPr>
              <a:t>//arreglo de datos de 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__fastcall TfrmFiltros::TfrmFiltros(TComponent* Ow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oid __fastcall TfrmFiltros::btnLeerWavClick(TObject *Sen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abre btnLeerWav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variables lo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int es de 32 bits (4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short de 16 (2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unsigned char es de 8 bits (1by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 d16b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de 1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 NTx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tamaño de datos del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ierra culquier ejecucio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diaPlayer1-&gt;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abre el archivo usando OpenDi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open(OpenDialog1-&gt;FileName.c_str(),ios::in|ios::binar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lee las caracteristicas del archivo w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read((char *)&amp;enc,sizeof(enc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se prepara a gra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1-&gt;LeftAxis-&gt;Maximum =  327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tamaño de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(int i=0; i&lt;=100000-1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1[i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Tx = enc.tamano_bloque_data/(enc.bits_por_muestra/8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(int i=1;i&lt;=NTx;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read((char *)&amp;d16b,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01[i-1] = d16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ierra el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activa mediap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diaPlayer1-&gt;FileName = OpenDialog1-&gt;File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diaPlayer1-&gt;Ope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ierra el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ierra btnLeerWav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oid __fastcall TfrmFiltros::btnPasaBajoClick(TObject *Sen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fcpb;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recuencia de corte pasa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b0pb, b1pb, b2pb, a1pb, a2pb; 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oefi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pi = 3.141592653589793238462643383279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 son02[10000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1413000"/>
            <a:ext cx="83026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primer sub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la funcion strcpy copia un string en o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b.ID_bloque_riff,"RIFF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nc.tamano_bloque_riff = fs*(16cuantizacion/8)*1canal*2segundos + 36 de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36 de offset se refiere al tamaño de los subchuncks RIFF_chunck y  fmt_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tamano_bloque_riff = 44100*2*1*2+3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la funcion strcpy copia un string en o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b.formato_archivo_riff,"WAV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413000"/>
            <a:ext cx="87854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segundo sub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b.ID_bloque_fmt,"fmt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tamano_bloque_fmt = 1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formato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canales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fs = 441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bytes_por_segundo = 44100*2*1;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s*(16cuantizacion/8)*1ca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alineacion = 2*1;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(16cuantizacion/8)*1ca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bits_por_muestra = 1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tercer sub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b.ID_bloque_data,"data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tamano_bloque_data = 44100*2*1*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 fs*(cuantizacion/8)*1canal*2segu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filtros son sistemas que eliminan o realzan ciertas componentes de frecuencia. Se dividen en pasa bajos, pasa altos, pasa banda y elimina banda, resonadores y no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8412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recuencia de corte pasa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cpb = StrToFloat(txtFrecPasaBajo-&gt;Tex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actor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 = tan(pi*fcpb/encpb.f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oeficientes del fil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0pb = K*K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1pb = 2*K*K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2pb = K*K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1pb = (2*(K*K-1))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2pb = (1 - sqrt(2)*K + K*K)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inicializacion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2[0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2[1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2[2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se prepara a gra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2-&gt;Series[0]-&gt;Clea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2-&gt;LeftAxis-&gt;Maximum =  327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2-&gt;LeftAxis-&gt;Minimum = -327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79280" y="2133720"/>
            <a:ext cx="8675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rea y abre el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open("Sound011.wav",ios::out|ios::binar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scribe el encabezado usa sizeof para determinar el tam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write((char *)&amp;encpb,sizeof(encpb));    //e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8000" y="1413000"/>
            <a:ext cx="8785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(int n = 2; n &lt;= 44100*2-1; n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2[n] = b0pb*son01[n] + b1pb*son01[n-1]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2pb*son01[n-2] - a1pb*son02[n-1] - a2pb*son02[n-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(int n = 0; n &lt;= 44100*2-1; n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16b = son02[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write((char *)&amp;d16b,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2-&gt;Series[0]-&gt;Add(son02[n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ierra el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oid __fastcall TfrmFiltros::btnPasaAltoClick(TObject *Sen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fcp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b0pa, b1pa, b2pa, a1pa, a2p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pi = 3.141592653589793238462643383279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 son03[10000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primer sub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la funcion strcpy copia un string en o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a.ID_bloque_riff,"RIFF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nc.tamano_bloque_riff = fs*(16cuantizacion/8)*1canal*2segundos + 36 de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36 de offset se refiere al tamaño de los subchuncks RIFF_chunck y  fmt_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tamano_bloque_riff = 44100*2*1*2+3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la funcion strcpy copia un string en o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a.formato_archivo_riff,"WAV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1413000"/>
            <a:ext cx="8964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segundo sub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a.ID_bloque_fmt,"fmt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tamano_bloque_fmt = 1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formato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canales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fs = 441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bytes_por_segundo = 44100*2*1; 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s*(16cuantizacion/8)*1ca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alineacion = 2*1;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(16cuantizacion/8)*1ca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bits_por_muestra = 1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tercer sub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a.ID_bloque_data,"data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tamano_bloque_data = 44100*2*1*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 fs*(cuantizacion/8)*1canal*2segu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recuencia de corte pasa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cpa = StrToFloat(txtFrecPasaAlto-&gt;Tex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actor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 = tan(pi*fcpa/encpa.f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oeficientes del fil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0pa = 1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1pa = -2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2pa = 1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1pa = (2*(K*K-1))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2pa = (1 - sqrt(2)*K + K*K)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inicializacion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3[0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3[1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3[2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se prepara a gra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3-&gt;Series[0]-&gt;Clea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3-&gt;LeftAxis-&gt;Maximum =  327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3-&gt;LeftAxis-&gt;Minimum = -327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nuestro caso examinaremos filtros digitales de segundo orden, estos están dados por la siguiente ec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8000" y="3716280"/>
            <a:ext cx="4867560" cy="283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68360" y="2997360"/>
                <a:ext cx="82184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rea y abre el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open("Sound111.wav",ios::out|ios::binar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scribe el encabezado usa sizeof para determinar el tam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write((char *)&amp;encpb,sizeof(encpa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(int n = 2; n &lt;= 44100*2-1; n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3[n] = b0pa*son01[n] + b1pa*son01[n-1]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2pa*son01[n-2] - a1pa*son03[n-1] - a2pa*son03[n-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(int n = 0; n &lt;= 44100*2-1; n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16b = son03[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write((char *)&amp;d16b,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3-&gt;Series[0]-&gt;Add(son03[n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ierra el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ebe notar que sus resultados están expresados como una sucesión de carácter recur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68360" y="2997360"/>
                <a:ext cx="82184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68360" y="3789360"/>
                <a:ext cx="6634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68360" y="4508640"/>
                <a:ext cx="692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39640" y="5300640"/>
                <a:ext cx="19908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2771640" y="3860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e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71640" y="454500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S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71640" y="5264280"/>
            <a:ext cx="53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eficientes del filtro, estos determinan su compor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 Pasa Ba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coeficient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11280" y="1916280"/>
                <a:ext cx="19908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84360" y="3141720"/>
                <a:ext cx="268272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93720" y="4149720"/>
                <a:ext cx="26542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96960" y="5227560"/>
                <a:ext cx="26827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208400" y="4149720"/>
                <a:ext cx="26830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179960" y="5214960"/>
                <a:ext cx="27129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95640" y="1989000"/>
                <a:ext cx="37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995640" y="2637000"/>
                <a:ext cx="37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716360" y="20606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de C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267192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de Muest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 Pasa Al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coeficient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11280" y="1916280"/>
                <a:ext cx="19908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4360" y="3170160"/>
                <a:ext cx="26827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84360" y="4178160"/>
                <a:ext cx="26542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84360" y="5257800"/>
                <a:ext cx="2682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208400" y="4149720"/>
                <a:ext cx="26830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179960" y="5214960"/>
                <a:ext cx="27129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995640" y="1989000"/>
                <a:ext cx="37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95640" y="2637000"/>
                <a:ext cx="37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4716360" y="20606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de C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16360" y="267192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de Muest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124000" y="1052640"/>
            <a:ext cx="4200480" cy="5514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869080" y="1341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993600"/>
            <a:ext cx="21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me: frmFil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tion: Fil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834920" y="5373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0" y="4724280"/>
            <a:ext cx="21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me: btnLeer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tion: L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276720" y="4220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6328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933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PManif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907640" y="6021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5805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nDialo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16720" y="278136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me: btnPas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tion: Pasa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378936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me: btnPasa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tion: Pasa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780000" y="299736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80000" y="299736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284720" y="422100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84720" y="4221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00720" y="479736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me: txtFrecPas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xt: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0720" y="566100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me: txtFrecPasa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xt: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24360" y="5373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600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1143000"/>
            <a:ext cx="6408720" cy="5526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148360" y="5084640"/>
            <a:ext cx="374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ximun = 327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nimun = -327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2720" y="1413000"/>
            <a:ext cx="2087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Show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Title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Legend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/$$---- Form CPP 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include "UnitFiltros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include "fstream.h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para abrir arch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include "math.h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para operaciones matemá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9-25T15:44:44Z</dcterms:modified>
  <cp:revision>229</cp:revision>
  <dc:subject/>
  <dc:title>Computación 1</dc:title>
</cp:coreProperties>
</file>