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BB6E-68B5-4719-88FB-05492B62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DEA4-3F48-4F49-AC97-32B4BC3C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265D-6F1E-455D-87F9-CEE68CF3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66E8-2F2B-49A8-8D17-A77B60BC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604F-C33F-425C-B963-95A83080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A373-400C-4771-B6D9-9D71184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D8AD-30AB-4915-8487-C52FD5D9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E69E-661D-46EE-BAF0-1A21D355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4AA6-1396-42D4-94CC-4745BA86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B835-D558-4BA0-8210-340D11E3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CFBC-686E-401F-9D91-BD36724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9AE6-39C0-4D52-9201-11FBC901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D85B-81B8-4A79-A172-A9A2A6D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1D85-A19A-455B-9D79-F00542B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DC6F-9F20-4B7D-8BA5-D71E217F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166-ABA4-4AA4-A302-5C231D3F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353E-5640-4345-A4AE-16A2A5FF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05D8-4BA7-4CFF-B0D5-E7E2D470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7F05-63FE-42B9-B663-403D0CC1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CE05-DEC5-4546-928E-EB15EAAF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5704-912F-4F4D-A136-28C58C2C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B142-F9DE-429B-96ED-E520BFC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1581-A433-4993-92A5-DA0CA83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53B1-60F8-4CCA-BDBC-6FCEE32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2B62-C523-4D5E-9A8C-EAD0B8CBC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635D-B2B7-4113-80AA-72021615E9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3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4000" y="54936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struct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contiene los caracteres WAVE, a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 frecuencia de muestreo 441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549360"/>
            <a:ext cx="4270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frmFiltros *frmFilt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cabezadoTipo enc, encpb, encpa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abe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1[100000]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8000"/>
                </a:solidFill>
                <a:latin typeface="Arial"/>
              </a:rPr>
              <a:t>//arreglo de datos de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__fastcall TfrmFiltros::TfrmFiltros(TComponent* 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LeerWav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bre btnLeerWav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variables 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t es de 32 bits (4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hort de 16 (2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unsigned char es de 8 bits (1by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de 1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 NTx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amaño de datos d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culquier ejecucio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bre el archivo usando Open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ee las caracteristicas del archivo w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amaño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i=0; i&lt;=100000-1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(int i=1;i&lt;=NTx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read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activa media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btnLeerWav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PasaBajo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fcpb;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b0pb, b1pb, b2pb, a1pb, a2pb;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2[100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1413000"/>
            <a:ext cx="8302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rim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riff,"RIFF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.tamano_bloque_riff = fs*(16cuantizacion/8)*1canal*2segundos + 36 d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riff = 44100*2*1*2+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formato_archivo_riff,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fmt,"fm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fmt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format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canales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fs = 44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bytes_por_segundo = 44100*2*1;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alineacion = 2*1;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bits_por_muestra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b.ID_bloque_data,"dat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b.tamano_bloque_data = 44100*2*1*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 fs*(cuantizacion/8)*1canal*2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filtros son sistemas que eliminan o realzan ciertas componentes de frecuencia. Se dividen en pasa bajos, pasa altos, pasa banda y elimina banda, resonadores y no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412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pb = StrToFloat(txtFrecPasaBajo-&gt;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actor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tan(pi*fcpb/encpb.f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 del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0pb = 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1pb = 2*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b = K*K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1pb = (2*(K*K-1)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2pb = (1 - sqrt(2)*K + K*K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icializacio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0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1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2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9280" y="2133720"/>
            <a:ext cx="86756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"Sound011.wav",ios::out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encpb,sizeof(encpb));    //e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000" y="1413000"/>
            <a:ext cx="8785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2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2[n] = b0pb*son01[n] + b1pb*son01[n-1]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b*son01[n-2] - a1pb*son02[n-1] - a2pb*son02[n-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0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16b = son02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2-&gt;Series[0]-&gt;Add(son02[n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id __fastcall TfrmFiltros::btnPasaAltoClick(TObject *Sen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fc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b0pa, b1pa, b2pa, a1pa, a2p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son03[10000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rim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riff,"RIFF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nc.tamano_bloque_riff = fs*(16cuantizacion/8)*1canal*2segundos + 36 d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36 de offset se refiere al tamaño de los subchuncks RIFF_chunck y  fmt_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riff = 44100*2*1*2+3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la funcion strcpy copia un string en o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formato_archivo_riff,"WAV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gundo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fmt,"fm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fmt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formato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canales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fs = 44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bytes_por_segundo = 44100*2*1; 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s*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alineacion = 2*1;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(16cuantizacion/8)*1c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bits_por_muestra = 1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tercer subchun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cpy(encpa.ID_bloque_data,"data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pa.tamano_bloque_data = 44100*2*1*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 fs*(cuantizacion/8)*1canal*2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recuencia de corte pasa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pa = StrToFloat(txtFrecPasaAlto-&gt;Tex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factor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 = tan(pi*fcpa/encpa.f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oeficientes del fi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0pa = 1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1pa = -2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a = 1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1pa = (2*(K*K-1)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2pa = (1 - sqrt(2)*K + K*K)/(1 + sqrt(2)*K + K*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inicializacio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0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1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2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se prepara a gra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Series[0]-&gt;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LeftAxis-&gt;Maximum =  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LeftAxis-&gt;Minimum = -3276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nuestro caso examinaremos filtros digitales de segundo orden, estos están dados por la siguiente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3716280"/>
            <a:ext cx="4867560" cy="283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8360" y="2997360"/>
                <a:ext cx="8218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rea y abre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open("Sound111.wav",ios::out|ios::binar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escribe el encabezado usa sizeof para determinar el tam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encpb,sizeof(encp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2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03[n] = b0pa*son01[n] + b1pa*son01[n-1]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2pa*son01[n-2] - a1pa*son03[n-1] - a2pa*son03[n-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r(int n = 0; n &lt;= 44100*2-1; n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16b = son03[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write((char *)&amp;d16b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t3-&gt;Series[0]-&gt;Add(son03[n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cierra el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be notar que sus resultados están expresados como una sucesión de carácter recur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68360" y="2997360"/>
                <a:ext cx="8218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3789360"/>
                <a:ext cx="6634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8360" y="4508640"/>
                <a:ext cx="692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5300640"/>
                <a:ext cx="1990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77164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4545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ñal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1640" y="5264280"/>
            <a:ext cx="53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eficientes del filtro, estos determinan su compor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 Pasa 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eficie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11280" y="1916280"/>
                <a:ext cx="19908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4360" y="3141720"/>
                <a:ext cx="2682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93720" y="4149720"/>
                <a:ext cx="26542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6960" y="5227560"/>
                <a:ext cx="26827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08400" y="4149720"/>
                <a:ext cx="268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79960" y="5214960"/>
                <a:ext cx="2712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95640" y="1989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95640" y="2637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716360" y="206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26719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 Pasa A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eficient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11280" y="1916280"/>
                <a:ext cx="19908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4360" y="3170160"/>
                <a:ext cx="2682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84360" y="4178160"/>
                <a:ext cx="2654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5257800"/>
                <a:ext cx="268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208400" y="4149720"/>
                <a:ext cx="2683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179960" y="5214960"/>
                <a:ext cx="2712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95640" y="1989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95640" y="2637000"/>
                <a:ext cx="37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716360" y="206064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26719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de Muest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24000" y="1052640"/>
            <a:ext cx="4200480" cy="5514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869080" y="134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99360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frmFil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Fil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834920" y="537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4724280"/>
            <a:ext cx="21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Leer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76720" y="4220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6328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9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PManif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7640" y="602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2781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Pas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Pasa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3789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btnPasa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tion: Pasa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80000" y="2997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80000" y="299736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84720" y="4221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221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4797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txtFrecPas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: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566100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me: txtFrecPasa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: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537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5950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143000"/>
            <a:ext cx="6408720" cy="5526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48360" y="5084640"/>
            <a:ext cx="37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imun = 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imun = -327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1413000"/>
            <a:ext cx="2087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how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Title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Legend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UnitFiltros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fstream.h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ara abrir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include "math.h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para operaciones ma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Arial"/>
              </a:rPr>
              <a:t>//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9-25T15:44:44Z</dcterms:modified>
  <cp:revision>229</cp:revision>
  <dc:subject/>
  <dc:title>Computación 1</dc:title>
</cp:coreProperties>
</file>