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2221-A91D-4853-9994-81889105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4BF1-A3A7-4D74-A80D-2EB1A4D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90D0-C397-4081-9D93-372E13A0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58FA-0C86-45EE-9D00-7535725D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D34-207C-4F10-B9E4-E99318F6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45C-9DB3-4512-9FEB-08F22CC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C781-01C4-4B0E-92B7-C1D5448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EC7-F472-4A0E-8A44-1A105F0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40DB-F478-407A-AF73-908252D5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253-C780-47BB-BED2-DC98853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1B3E-F3E1-4EB0-8BD1-2756F2F4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4BB0-8B58-45CA-A006-6CD05A6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3B07-4DFC-476A-8E03-BC8A1DD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115-DB6E-4AF0-95BE-F4AFB01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39D8-CE68-4BDC-9B0E-E8AC1EC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E912-BBAA-4F19-9E98-86B319A1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83C1-2135-40FF-B428-2861131C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3BE0-6E6B-4205-BE25-2313103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07A61-1DE1-42DB-AA10-DD2BA9A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23D5-49C9-41B6-B3B5-E5D2078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E0F1-4F9C-474C-8A65-F8D8ED9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EF84-50F8-4305-82B3-F460997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5EBE-6025-4795-BD41-0B3031B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B466-A453-40E1-BC11-054D104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8E6-E30E-45D9-8195-47F39597C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CFC-F1CF-4D31-B309-001AA6E3D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484280"/>
            <a:ext cx="87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 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 &gt; 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197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lang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 de maximo de retar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1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MaxDelay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maxim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nflanger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l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rec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86421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268280"/>
            <a:ext cx="8424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26828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flanger = StrToFloat(txtFrec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flanger = StrToFloat(txtProf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 de muest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Delay = encd1.fs*profflanger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nflanger = StrToFloat(txtGan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341360"/>
            <a:ext cx="856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NTx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1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1 = MaxDelay*sin(2*M_PI*frecflanger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anflanger*son02[n - NDelay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2[n]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d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341360"/>
            <a:ext cx="87138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324400" cy="386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190800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292428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1636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33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4292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70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Frec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141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Prof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4005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Ga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5877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465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57340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352840" cy="4209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407664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lang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26828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55736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, encd2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con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3413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d16b;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31:57Z</dcterms:modified>
  <cp:revision>261</cp:revision>
  <dc:subject/>
  <dc:title>Computación 1</dc:title>
</cp:coreProperties>
</file>