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BD38-B8C3-4FC0-815B-F5D710BA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1376-8E5E-422C-8148-8850677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6B63-74B0-4397-9EB9-10712475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5BD1-410E-4151-BCCC-A28E28BD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EC96-2323-4680-BEB7-677AD85A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0669-D949-4866-B389-A068A23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4FD7-B572-4C2A-9266-249BB2E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AA54-E500-4429-91C5-CB5C8E8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9B92-0695-4463-BCF8-F6E6991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483A-9191-4451-B5BD-C6DA66D4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57A-A7E1-4D6A-99E6-9CFDDB4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19A8-5C68-460A-85BF-6D3E4B74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C0A-7E66-4056-95C5-C04E818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83A-7DF7-4261-815F-D48DF99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F06E-11DF-4B19-AB2D-7E606235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E3DA-C836-4408-AC2D-08DA6406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DC3-B878-48BD-A45F-E763D6EC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A81D-3423-40D1-8B11-4D03480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C19C-F322-4FBD-BD4E-D94A940F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D734-EEEA-4CD5-B2B5-3A4CF16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9803-243A-4C77-950A-9999275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31E0-D6A5-4E2A-B7CC-D15AE59E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CDAF-B0BF-4D02-84C5-FAA096B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C54F-4DB4-43BF-BB88-E63BA3D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F2E-2FD6-4D52-A508-266ABF0D1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EDF-52D4-4553-A97D-EE54E07F7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484280"/>
            <a:ext cx="87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 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 &gt; 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197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lang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 de maximo de retar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1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MaxDelay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maxim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nflanger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l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rec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86421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268280"/>
            <a:ext cx="8424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26828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flanger = StrToFloat(txtFrec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flanger = StrToFloat(txtProf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 de muest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Delay = encd1.fs*profflanger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nflanger = StrToFloat(txtGan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341360"/>
            <a:ext cx="856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NTx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1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1 = MaxDelay*sin(2*M_PI*frecflanger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anflanger*son02[n - NDelay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2[n]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d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341360"/>
            <a:ext cx="87138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324400" cy="386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190800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292428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1636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33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4292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70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Frec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141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Prof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4005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Ga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5877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465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57340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352840" cy="4209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407664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lang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26828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55736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, encd2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con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3413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d16b;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31:57Z</dcterms:modified>
  <cp:revision>261</cp:revision>
  <dc:subject/>
  <dc:title>Computación 1</dc:title>
</cp:coreProperties>
</file>