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A0C8-2314-424B-9A4B-49B38DE8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E62F-D7BD-4BAF-90EB-7D5C229D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F457B-211D-456D-9943-01304D58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E2BC-B16B-495B-BB8E-A541129A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978B-E5BA-4D05-9765-D2549E50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6615-08C5-49A0-A670-8A1B2E7A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BD9C-91C4-4BBC-868D-37208F51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576F-B017-45B0-A885-E6DF45A7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AC45-0607-4920-B174-532A2B52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E60B-7C2A-4276-B4C6-56FBF07C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4469-C63C-427F-9E71-62A86A8E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901D-4165-4A62-A3B4-B46E24E5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0257-9BB9-4425-A505-CBC85902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0E36-C869-4C47-85ED-2D70612B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9071-622F-4182-B423-A6860841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BD5B-7540-48C8-A8FF-3DA13B9B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8BCA-1BEB-4155-BAF9-8CCA6D15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9E9A6-4902-47F0-9DF9-AB7D4EB6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0E2AD-9519-4529-9341-7FDF9271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57CFB-D0CE-453A-9E90-43D8A9F0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4ED2-8563-4B32-8C00-353EE6BB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9DF5-5628-4EFB-A876-F9C39286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7C722-C162-484D-8227-B975C1A1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392A1-6A4C-490C-8CC7-35754C37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FE46-E4B1-4D82-A891-ECB903D447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F5DE-9135-42DF-A809-F7898E721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5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1484280"/>
            <a:ext cx="87138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 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 &gt; 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19700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NTx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41300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Flang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rofflanger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iempo de maximo de retard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Delay1;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retardo de las muestras 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MaxDelay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retardo maximo de las muestras 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ganflanger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ganancia del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recflanger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frecuencia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t;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d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eriodo de muestreo = 1/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628640"/>
            <a:ext cx="86421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enc.tamano_bloque_riff = fs*(16cuantizacion/8)*1canal*11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36 de offset se refiere al tamaño de los subchuncks RIFF_chunck y  fmt_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riff = 44100*2*1*11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268280"/>
            <a:ext cx="842472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data = 44100*2*1*11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 fs*(cuantizacion/8)*1canal*11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268280"/>
            <a:ext cx="8642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ectura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frecuencia de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ecflanger = StrToFloat(txtFrecFlanger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rofundidad de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flanger = StrToFloat(txtProfFlanger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rofundidad de flanger de muestr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xDelay = encd1.fs*profflanger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ganancia de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nflanger = StrToFloat(txtGanFlanger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rocesamiento principal inicial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341360"/>
            <a:ext cx="856908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pia de señal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NTx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i] = son01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  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t   = 1.0/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NDelay1; n &lt;= 485100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Delay1 = MaxDelay*sin(2*M_PI*frecflanger*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n] = son01[n] + ganflanger*son02[n - NDelay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n] = son02[n]/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d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1268280"/>
            <a:ext cx="878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Sound002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d1,sizeof(encd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341360"/>
            <a:ext cx="871380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n = 0; n &lt;= 485100-1; 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son02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Add(son02[n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 partir de un delay de tiempo mediano a corto usando una alta ganancia en la retroali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79232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delay es el más simple y corresponde al fenómeno de múltiples reflex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971640" y="2492280"/>
                <a:ext cx="3259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479920" y="2492280"/>
                <a:ext cx="1182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41400" y="3860640"/>
                <a:ext cx="692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042920" y="4638600"/>
                <a:ext cx="3175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835280" y="3357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6560" y="393372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58136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anancia de la reflexión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941400" y="3141720"/>
                <a:ext cx="6634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69840" y="5229360"/>
                <a:ext cx="2890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835280" y="5157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tardo de tiempo  máxi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28800" y="5719680"/>
                <a:ext cx="403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835280" y="57340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tardo de mues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5324400" cy="386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1908000" y="2924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2924280"/>
            <a:ext cx="45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16360" y="3357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3357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4292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2708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xtFrec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3141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xtProf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4005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xtGan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45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5877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Ab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465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458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4292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57340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n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4292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6237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PManif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5352840" cy="4209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32720" y="1413000"/>
            <a:ext cx="2087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Show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Title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Legend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27640" y="4076640"/>
            <a:ext cx="25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imun = 32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imun = -32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557360"/>
            <a:ext cx="835164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Flanger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26828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6 (largo de bloque de aquí en adela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 frecuencia de muestreo 441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557360"/>
            <a:ext cx="8424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variables 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, encd1, encd2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4851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2[485100];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sonido con f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longitud inicial de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34136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d16b;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0-23T11:31:57Z</dcterms:modified>
  <cp:revision>261</cp:revision>
  <dc:subject/>
  <dc:title>Computación 1</dc:title>
</cp:coreProperties>
</file>