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864D-FA0B-4B30-97DF-04375636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0F0A-03B2-41B9-B6F6-6481DA7B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57C4-D813-4105-AD1B-69C9C0E9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55CD-14B6-4734-B4D6-23BCCE0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E77E-7548-4EB6-A08F-AA126E0C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21D-53C9-426B-8052-751AD452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D0D1-08A2-4F19-84BA-20EEF5E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E556-7965-4225-A724-AD7B561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4167-464B-4EC0-A1DA-4528D0E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B56-EE60-41EF-9A24-1C4799D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216-7167-4D8E-9453-ADA899C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9404-73D1-4080-BEFA-DC9A633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A6B-19A7-40EF-9587-CDA5F41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AFB8-23EA-4152-A252-0D2DFD4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070B-AC98-4E1A-A66B-F5F364E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FB48-0AAA-46A8-83C8-4F1AF7D7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280-3B58-4183-A72A-4D4CB5F8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5D02-583C-467E-AC64-33617193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BCE7-3945-4C67-97B6-CB7E3E21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5F50-96AF-40F9-989F-1AA6F4D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E3E3-9DA3-4F50-AE11-20D5AB1E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1F63-1BB2-4BB6-B67C-77478B0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A360-7152-49A9-9A09-F343C8B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348F-1A72-4DB2-AB98-0586C25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0BA7-9548-44A3-9804-DFC8DFEA3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FCA0-BFDA-431D-9A62-AE8D38962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6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13000"/>
            <a:ext cx="86421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628640"/>
            <a:ext cx="8353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628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424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Delay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ardo de las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 del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b0pb, b1pb, b2pb, a1pb, a2pb,mix;  //co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00280"/>
            <a:ext cx="89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3302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3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557360"/>
            <a:ext cx="8280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iempo de del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Delay = StrToFloat(txtDelay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retraso de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 = encd.fs*TDel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d = StrToFloat(txtGa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recuencia de corte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cpb = StrToFloat(txtFrecCorte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 = StrToFloat(txtMix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55736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4100*11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d*son02[n - NDelay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484280"/>
            <a:ext cx="8424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actor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 = tan(pi*fcpb/enc.f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eficientes del 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cio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628640"/>
            <a:ext cx="8496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2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b0pb*son02[n] + b1pb*son02[n-1]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2pb*son02[n-2] - a1pb*son03[n-1] - a2pb*son03[n-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3[n] = (1-mix)*son01[n] + mix*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557360"/>
            <a:ext cx="849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,sizeof(encd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4100*11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3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 produce un sonido demasiado metálico, esto se debe que al simular una sala la absorción del sonido aumenta con l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olución es utilizar un delay y luego un filtro pasa ba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6200" y="4508640"/>
            <a:ext cx="2376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4508640"/>
            <a:ext cx="2376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084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084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429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484280"/>
            <a:ext cx="8064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Rev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62864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3[485100];                //sonido con rever +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84280"/>
            <a:ext cx="849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41:35Z</dcterms:modified>
  <cp:revision>265</cp:revision>
  <dc:subject/>
  <dc:title>Computación 1</dc:title>
</cp:coreProperties>
</file>