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5822A-C113-4B6A-A0CE-47FE10FB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095F7-D0E4-4118-98E0-5C7B0A81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ADA63-DF14-4C23-BB41-9D7E01E5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2D3CF-56B9-44F1-BAE1-1120937E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0D35-6D19-45EB-843C-8A8719AF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D78B-AAB6-4964-BA82-0D89D679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4B67-D9B9-4C9A-9E46-CF3F4D04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AC9E-7E57-4615-B13A-850B999D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51B0-2263-45BD-A67D-3F6BD16A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E59D-9DC0-470E-B9D7-53289507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6950-6327-4A88-974A-5A263710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7890F-E93D-4D78-BF19-43B5676C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0D2A-D26F-4864-B4C9-5B66ACA5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0369-0D32-47BB-9CFE-3CBE69C6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6B18-8FDC-4D3D-9489-CA6F9A13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4CAA-4603-4768-BB4F-BDDB3442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D768-D2EA-4AC7-80D7-4EF0F99C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8F437-D2E0-4660-B717-4482DBB0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39F45-B8B6-45CF-A490-E9BB20D5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0E4DA-F8CB-42E5-969F-54803824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A849A-DAB9-4FA1-8E79-09AB78D3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86921-ED62-42F4-BA5D-38A477C2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A2F54-AD47-4F09-A79B-0ECC8AC7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7448F-00A3-48CF-B8F8-D2D560A2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D7F1-716E-4E8E-BF2A-90C7D7AD65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CDB4-E7E0-4FF5-8B8D-B051FED14B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2 - 6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13000"/>
            <a:ext cx="864216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e las caracteristicas del archiv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 *)&amp;enc,sizeof(en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justalos 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inicializa el arre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 485100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628640"/>
            <a:ext cx="835344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amaño de lo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Tx = enc.tamano_bloque_data/(enc.bits_por_muestra/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e el archivo de audio y lo gra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1; i &lt;=NTx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*)&amp;d16b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-1] =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162864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ctiva media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FileName = OpenDialog1-&gt;File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Op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//cierra el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557360"/>
            <a:ext cx="842472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Reve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variabl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TDelay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iempo de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Delay;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retardo de las mues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gd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ganancia del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fcpb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frecuencia de corte pasa 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b0pb, b1pb, b2pb, a1pb, a2pb,mix;  //coefic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i = 3.141592653589793238462643383279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700280"/>
            <a:ext cx="89647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im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.ID_bloque_riff,"RIFF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nc.tamano_bloque_riff = fs*(16cuantizacion/8)*1canal*11segundos + 36 d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36 de offset se refiere al tamaño de los subchuncks RIFF_chunck y  fmt_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.tamano_bloque_riff = 44100*2*1*11+3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.formato_archivo_riff,"WAVE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330200"/>
            <a:ext cx="9144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egundo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.ID_bloque_fmt,"fmt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.tamano_bloque_fmt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.formato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.canales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.fs = 44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.bytes_por_segundo = 44100*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fs*(16cuantizacion/8)*1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.alineacion = 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(16cuantizacion/8)*1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.bits_por_muestra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erc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.ID_bloque_data,"data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.tamano_bloque_data = 44100*2*1*11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 fs*(cuantizacion/8)*1canal*3seg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1557360"/>
            <a:ext cx="828036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ctura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iempo de dela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Delay = StrToFloat(txtDelay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retraso de mues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Delay = encd.fs*TDela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gan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d = StrToFloat(txtGan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frecuencia de corte pasa 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cpb = StrToFloat(txtFrecCorte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x = StrToFloat(txtMix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557360"/>
            <a:ext cx="849600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ocesamiento principal inicializ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 44100*11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2[i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pia de señal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 44100*11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2[i] = son01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n = NDelay; n &lt;= 44100*11-1; n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2[n] = son01[n] + gd*son02[n - NDelay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1484280"/>
            <a:ext cx="84247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factor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 = tan(pi*fcpb/enc.f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eficientes del fil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0pb = K*K/(1 + sqrt(2)*K + K*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1pb = 2*K*K/(1 + sqrt(2)*K + K*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2pb = K*K/(1 + sqrt(2)*K + K*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1pb = (2*(K*K-1))/(1 + sqrt(2)*K + K*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2pb = (1 - sqrt(2)*K + K*K)/(1 + sqrt(2)*K + K*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inicializacion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3[0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3[1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3[2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1628640"/>
            <a:ext cx="849600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n = 2; n &lt;= 44100*11-1; n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3[n] = b0pb*son02[n] + b1pb*son02[n-1]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2pb*son02[n-2] - a1pb*son03[n-1] - a2pb*son03[n-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n = 0; n &lt;= 44100*11-1; n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3[n] = (1-mix)*son01[n] + mix*son03[n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LeftAxis-&gt;Max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LeftAxis-&gt;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puede partir de un delay de tiempo mediano a corto usando una alta ganancia en la retroali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3645000"/>
            <a:ext cx="79232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557360"/>
            <a:ext cx="8496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rea y abre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pen("Sound002.wav",ios::out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scribe el encabezado usa sizeof para determinar el tam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encd,sizeof(encd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n = 0; n &lt;= 44100*11-1; n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16b = son03[n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d16b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Series[0]-&gt;Add(son03[n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e delay es el más simple y corresponde al fenómeno de múltiples reflex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971640" y="2492280"/>
                <a:ext cx="32590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g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479920" y="2492280"/>
                <a:ext cx="11829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941400" y="3860640"/>
                <a:ext cx="692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042920" y="4638600"/>
                <a:ext cx="3175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835280" y="335772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ñal de e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6560" y="393372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ñal de Sal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458136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anancia de la reflexión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941400" y="3141720"/>
                <a:ext cx="66348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969840" y="5229360"/>
                <a:ext cx="2890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835280" y="515772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tardo de tiempo  máxi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28800" y="5719680"/>
                <a:ext cx="403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1835280" y="573408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tardo de mues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n embargo produce un sonido demasiado metálico, esto se debe que al simular una sala la absorción del sonido aumenta con la frecue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solución es utilizar un delay y luego un filtro pasa baj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6200" y="4508640"/>
            <a:ext cx="237636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3280" y="4508640"/>
            <a:ext cx="237672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L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508464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084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20000" y="501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54291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1484280"/>
            <a:ext cx="806436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$$---- Form CPP 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&lt;vcl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UnitRever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math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fstream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70028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struc de encabezad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uct TEncabezado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ntiene los caracteres "RIFF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rif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formato_archivo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ntiene los caracteres WAVE, avi u 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fmt[4]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"fmt " &lt;--ojo con el espa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fmt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6 (largo de bloque de aquí en adel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formato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:P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canales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:mono    2:ste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fs;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 frecuencia de muestreo 44100, 48000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bytes_por_segundo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bytes por seg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alineacion;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line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bits_por_muestra;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8, 16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data[4];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qui es "dat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data;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amano bloqu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1628640"/>
            <a:ext cx="84247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orm1 *Form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variables glob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cabezadoTipo enc, encd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ncabe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stream F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son01[485100]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onido sin proce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son02[485100];                //sonido con r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son03[485100];                //sonido con rever + pasa 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Tx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ongitud inicial de la señ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fastcall TForm1::TForm1(TComponent* 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1484280"/>
            <a:ext cx="849636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Abri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variabl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int es de 32 bits (4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hort de 16 (2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unsigned char es de 8 bits (1by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d16b;                //de 16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OpenDialog1-&gt;Execu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culquier ejecucion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bre el archivo usando OpenDi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pen(OpenDialog1-&gt;FileName.c_str(),ios::in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10-23T11:41:35Z</dcterms:modified>
  <cp:revision>265</cp:revision>
  <dc:subject/>
  <dc:title>Computación 1</dc:title>
</cp:coreProperties>
</file>