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38C21-0B60-4E11-9D1A-F7B3B78F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C0A39-ACFB-426C-BC04-DA4BB942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501C5-845B-40B0-837B-EB2F680C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0D86E-D1AB-400E-8793-97E720A4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512B-DD34-4BD1-AF64-CDAD7972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B969-0B94-4311-9FEE-FE33F398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2836-EEAD-4453-AD49-9DA93658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31C6-F633-4FF2-A6EC-913CB781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EC7A-B592-4163-BF38-34DF5CA9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EC24-DC10-47B7-B39C-6245F70B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CC93-97AB-4E22-BF16-48F4D679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4129-6240-4CDA-B573-2F1866B6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315F-E442-4973-B9B2-F73E89F7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65B1-30B2-44B5-955E-BD6516CF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E7BD-2E2B-4D8C-8FAC-5C051064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C2CA-C1E4-4739-96D0-5605604C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C53F-0EAA-41B3-875F-F9E5FE59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650F-1FE7-4430-89B8-CC153E2D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95A29-7CC8-4716-92EF-47770767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28E66-03ED-4657-AC6B-43288838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B2B87-B8EF-4CBA-8B85-CCF2D366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3E0D9-7D98-475C-96E8-B26B72F4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0180-F4A9-457F-AD90-9D80F030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82D1A-E8C5-4CE5-B18F-8CDC7112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60A7-8C84-41C0-9545-484241C324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9620-9D12-4BEA-90A4-4DA5714B9A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6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13000"/>
            <a:ext cx="86421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628640"/>
            <a:ext cx="835344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NTx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62864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557360"/>
            <a:ext cx="84247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Rev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TDelay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iempo d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Delay;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retardo de las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gd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ganancia del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cpb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recuencia de corte pasa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b0pb, b1pb, b2pb, a1pb, a2pb,mix;  //coefi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2653589793238462643383279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700280"/>
            <a:ext cx="8964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.tamano_bloque_riff = fs*(16cuantizacion/8)*1canal*11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36 de offset se refiere al tamaño de los subchuncks RIFF_chunck y  fmt_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tamano_bloque_riff = 44100*2*1*11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330200"/>
            <a:ext cx="9144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tamano_bloque_data = 44100*2*1*11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s*(cuantizacion/8)*1canal*3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557360"/>
            <a:ext cx="82803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ctura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iempo de del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Delay = StrToFloat(txtDelay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retraso de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Delay = encd.fs*TDel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gan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d = StrToFloat(txtGan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recuencia de corte pasa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cpb = StrToFloat(txtFrecCorte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x = StrToFloat(txtMix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557360"/>
            <a:ext cx="84960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ocesamiento principal inicial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4100*11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pia de señal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4100*11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i] = son01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NDelay; n &lt;= 44100*11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n] = son01[n] + gd*son02[n - NDelay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484280"/>
            <a:ext cx="84247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actor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 = tan(pi*fcpb/enc.f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eficientes del fi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0pb = K*K/(1 + sqrt(2)*K + K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1pb = 2*K*K/(1 + sqrt(2)*K + K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2pb = K*K/(1 + sqrt(2)*K + K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1pb = (2*(K*K-1))/(1 + sqrt(2)*K + K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2pb = (1 - sqrt(2)*K + K*K)/(1 + sqrt(2)*K + K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cion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3[0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3[1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3[2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628640"/>
            <a:ext cx="84960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2; n &lt;= 44100*11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3[n] = b0pb*son02[n] + b1pb*son02[n-1]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2pb*son02[n-2] - a1pb*son03[n-1] - a2pb*son03[n-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0; n &lt;= 44100*11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3[n] = (1-mix)*son01[n] + mix*son03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 partir de un delay de tiempo mediano a corto usando una alta ganancia en la retroali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79232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557360"/>
            <a:ext cx="8496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Sound002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d,sizeof(encd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0; n &lt;= 44100*11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son03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Add(son03[n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delay es el más simple y corresponde al fenómeno de múltiples reflex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971640" y="2492280"/>
                <a:ext cx="3259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479920" y="2492280"/>
                <a:ext cx="1182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41400" y="3860640"/>
                <a:ext cx="692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042920" y="4638600"/>
                <a:ext cx="3175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835280" y="3357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6560" y="393372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58136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anancia de la reflexión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941400" y="3141720"/>
                <a:ext cx="6634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69840" y="5229360"/>
                <a:ext cx="2890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835280" y="5157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tardo de tiempo  máxi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28800" y="5719680"/>
                <a:ext cx="403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835280" y="57340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tardo de mues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 produce un sonido demasiado metálico, esto se debe que al simular una sala la absorción del sonido aumenta con la frecu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solución es utilizar un delay y luego un filtro pasa baj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6200" y="4508640"/>
            <a:ext cx="2376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4508640"/>
            <a:ext cx="237672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08464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084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20000" y="501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429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484280"/>
            <a:ext cx="806436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Rever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7002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 frecuencia de muestreo 44100, 480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628640"/>
            <a:ext cx="8424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, encd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4851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2[485100];                //sonido con 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3[485100];                //sonido con rever + pasa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ongitud inicial de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484280"/>
            <a:ext cx="8496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                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0-23T11:41:35Z</dcterms:modified>
  <cp:revision>265</cp:revision>
  <dc:subject/>
  <dc:title>Computación 1</dc:title>
</cp:coreProperties>
</file>