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7A9A5-7E25-4E1C-93BF-13D9CA99A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CBDCF-00B1-47F0-8FBB-26C5AAAC4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B152D-4ECB-42D8-A929-646B30CC2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7C82B-5512-42DE-A722-B3483009B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F8A2D-4593-4810-83F7-F9CF1EAA3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EBD46-693B-42DF-AB87-CA1DB243C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5C433-10AA-4695-AC78-C6179B99D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7F53B-FEED-4B9E-93CE-9C2843475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67EA9-896A-42BA-AFB2-A109A5906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36CE3-2E64-4484-8B92-1FBFD0F64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5B416-C94A-4899-80C7-EE945509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F08CC-6882-4CE4-A7E7-D5F5668BB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3179E-09CB-4E68-BC13-5720CF2C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AA574-29D7-4F2D-A3FD-69E1B542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D428C-C4A7-4062-BD05-8F1625740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FCEED-6B13-48CD-AEB3-AE67B03C7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CC212-35E4-4741-B8BE-325FE4445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B4A13-B99B-4F85-863A-9F50F704E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E1EC5-0710-4179-9275-1FD5F882D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64F05-E7C2-4BE7-9CC2-33DD6461E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34D0C-407C-491D-AA6A-1F120A562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17BAF-9CD8-4DDC-AE8F-09730066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93F83-2C1D-4D0B-A086-60F74953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C40DC-6848-4E2B-9C41-57B71EE2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99E30-9E83-40B3-83EB-9AEE2A1D22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4595B-C6BE-4175-A166-8AD8E35327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600" spc="-1" strike="noStrike">
                <a:solidFill>
                  <a:srgbClr val="ffffff"/>
                </a:solidFill>
                <a:latin typeface="Arial"/>
              </a:rPr>
              <a:t>Computación 2 - 7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000000"/>
                </a:solidFill>
                <a:latin typeface="Arial"/>
              </a:rPr>
              <a:t>Sergio Flood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Distors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1474920"/>
            <a:ext cx="86421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prepara para grafi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0]-&gt;Clea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ajustalos ej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LeftAxis-&gt;Minimum =  32768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LeftAxis-&gt;Minimum = -32768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inicializa el arreg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(int i = 0; i &lt;= 485100-1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01[i]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tamaño de los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Tx = enc.tamano_bloque_data/(enc.bits_por_muestra/8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Distors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4360" y="1484280"/>
            <a:ext cx="806436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lee el archivo de audio y lo graf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(int i = 1; i &lt;=NTx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read((char*)&amp;d16b,2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0]-&gt;Add(d16b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01[i-1] = d16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(int i = 0; i &lt;=485100-1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x[i] = son01[i]/(32768.0*1.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Distors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1557360"/>
            <a:ext cx="835164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cierra el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clos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activa mediap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diaPlayer1-&gt;FileName = OpenDialog1-&gt;File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diaPlayer1-&gt;Op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//cierra el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Distors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8360" y="1287360"/>
            <a:ext cx="8424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Fuzz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variables lo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d16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max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gai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primer subchun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la funcion strcpy copia un string en o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trcpy(encd1.ID_bloque_riff,"RIFF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enc.tamano_bloque_riff = fs*(16cuantizacion/8)*1canal*11segundos + 36 de off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d1.tamano_bloque_riff = 44100*2*1*11+36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la funcion strcpy copia un string en o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trcpy(encd1.formato_archivo_riff,"WAVE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Distors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1413000"/>
            <a:ext cx="8424720" cy="57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segundo subchun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trcpy(encd1.ID_bloque_fmt,"fmt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d1.tamano_bloque_fmt = 16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d1.formato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d1.canales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d1.fs = 441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d1.bytes_por_segundo = 44100*2*1;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fs*(16cuantizacion/8)*1ca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d1.alineacion = 2*1;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(16cuantizacion/8)*1ca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d1.bits_por_muestra = 16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tercer subchun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trcpy(encd1.ID_bloque_data,"data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d1.tamano_bloque_data = 44100*2*1*11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 fs*(cuantizacion/8)*1canal*11segun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ain = StrToFloat(txtGain-&gt;Tex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Distors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1197000"/>
            <a:ext cx="8785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fuz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(int i = 0; i &lt;=485100-1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x[i] ==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[i]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x[i] &gt;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[i] = gain*(1 - exp(x[i]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[i] = -gain*(1 - exp(-x[i]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y[i] &gt;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[i] = 0.99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y[i] &lt; -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[i] = -0.99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Distors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1484280"/>
            <a:ext cx="842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(int i = 0; i &lt;=485100-1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02[i] = 32768*y[i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prepara para grafi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2-&gt;Series[0]-&gt;Clea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ajustalos ej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2-&gt;LeftAxis-&gt;Minimum =  32768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2-&gt;LeftAxis-&gt;Minimum = -32768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crea y abre el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open("Sound002.wav",ios::out|ios::binar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escribe el encabezado usa sizeof para determinar el tama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write((char *)&amp;encd1,sizeof(encd1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Distors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4360" y="1557360"/>
            <a:ext cx="7775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(int i = 0; i &lt;=485100-1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2-&gt;Series[0]-&gt;Add(son02[i]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16b = son02[i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write((char *)&amp;d16b,2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cierra el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clos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Distors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Distors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Distors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sponde a procesamiento no lineal del sonido. Este tipo de procesamiento, crea intencionalmente distorsión armónica , es decir una mayor cantidad de componentes espect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55640" y="2417760"/>
            <a:ext cx="768492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Distors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distorsion tipo fuzz es dada p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835280" y="5157720"/>
            <a:ext cx="53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ñal de ent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5805360"/>
            <a:ext cx="53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ñal de Sal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Distors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258920" y="2637000"/>
                <a:ext cx="6141960" cy="20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m>
                                <m:mr>
                                  <m:e/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&lt;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g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xp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−</m:t>
                                      </m:r>
                                      <m:r>
                                        <m:t xml:space="preserve">x</m:t>
                                      </m:r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n</m:t>
                                          </m:r>
                                        </m:e>
                                      </m:d>
                                    </m:e>
                                  </m:d>
                                </m:e>
                              </m:d>
                              <m:m>
                                <m:mr>
                                  <m:e/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≤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≤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r>
                                <m:t xml:space="preserve">g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xp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x</m:t>
                                      </m:r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n</m:t>
                                          </m:r>
                                        </m:e>
                                      </m:d>
                                    </m:e>
                                  </m:d>
                                </m:e>
                              </m:d>
                              <m:m>
                                <m:mr>
                                  <m:e/>
                                  <m:e>
                                    <m:r>
                                      <m:t xml:space="preserve">0</m:t>
                                    </m:r>
                                    <m:r>
                                      <m:t xml:space="preserve">≤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≤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  <m:m>
                                <m:mr>
                                  <m:e/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&gt;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4608360" cy="44276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Distors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881360" y="1595520"/>
            <a:ext cx="5381280" cy="36669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Distors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Distors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1557360"/>
            <a:ext cx="792000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$$---- Form CPP 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include &lt;vcl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hdr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include "UnitFuzz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include "math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include "fstream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package(smart_in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resource "*.dfm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Distors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9640" y="1268280"/>
            <a:ext cx="8136000" cy="54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estruc de encabezado 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truct TEncabezadoT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 ID_bloque_riff[4]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contiene los caracteres "RIFF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tamano_bloque_riff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 formato_archivo_riff[4]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contiene los caracteres WAVE, avi u o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 ID_bloque_fmt[4];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"fmt " &lt;--ojo con el espa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tamano_bloque_fmt;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16 (largo de bloque de aquí en adela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formato;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1:P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canales;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1:mono    2:ster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fs;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 frecuencia de muestreo 44100, 48000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bytes_por_segundo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bytes por segu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alineacion;             //aline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bits_por_muestra;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8, 16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 ID_bloque_data[4];       //aqui es "data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tamano_bloque_data;       //tamano bloqu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Distors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1557360"/>
            <a:ext cx="8281800" cy="54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Form1 *Form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variables glob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EncabezadoTipo enc, encd1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encabez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stream F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son01[485100];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sonido sin proces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son02[485100];                //sonido con fuz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x[48510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y[48510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NTx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longitud inicial de la señ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__fastcall TForm1::TForm1(TComponent* Ow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TForm(Ow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Distors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9640" y="1413000"/>
            <a:ext cx="8209080" cy="57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Abrir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variables lo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int es de 32 bits (4by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short de 16 (2by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unsigned char es de 8 bits (1by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d16b;                //de 16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f (OpenDialog1-&gt;Execute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cierra culquier ejecucion a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diaPlayer1-&gt;Clos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abre el archivo usando OpenDia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open(OpenDialog1-&gt;FileName.c_str(),ios::in|ios::binar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lee las caracteristicas del archivo 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read((char *)&amp;enc,sizeof(enc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2:53:45Z</dcterms:created>
  <dc:creator>Eddie</dc:creator>
  <dc:description/>
  <dc:language>en-US</dc:language>
  <cp:lastModifiedBy>Eddie</cp:lastModifiedBy>
  <dcterms:modified xsi:type="dcterms:W3CDTF">2009-10-30T15:25:54Z</dcterms:modified>
  <cp:revision>267</cp:revision>
  <dc:subject/>
  <dc:title>Computación 1</dc:title>
</cp:coreProperties>
</file>