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AE7C-9AD9-4AF3-8A4A-45FF704C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90EA-D586-4B2E-9D11-41C97730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1C57-D121-4797-99EA-E5D247A0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05D0-683C-48EB-8B32-8D9FB46A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475F-448C-4D6B-B9D1-28A3B12C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88D8-231B-4A2D-8E45-C1AB0619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AF48-369D-4B52-8DCD-F07D3106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0743-D504-41E5-B13E-83EC179F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8F9A-5F8B-4815-B6D1-77A12AC9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0053-73B7-4F47-B17D-44392E9C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01D5-F3D0-41D0-A15A-F874B29A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26A01-D517-42E5-A4C4-15CC325B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93B3-A9F8-4C33-A260-99760D0D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6F49-D8DD-475E-9424-650B0420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D269-E170-4BCB-9F68-CB54F06C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8991-59D9-4791-AAA8-458383CA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F663-6872-4C4D-9800-2EAB2AAF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67E6-BBB7-46C8-9944-F45D2CE2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EEE26-075F-4147-B28E-031C7175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A549-0D32-43B1-A129-79038070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DCDA-525A-43A3-981D-539A31DE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93CA-4CF7-4E54-9345-7F8C1F96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A57E-A6DE-47A9-A073-063994B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41AF-DC8C-4ED8-8B82-060D1BAC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6F4A-B773-40B5-BD3B-156FE6A9D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BEE1-EF96-45B0-8C72-7F6971203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7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474920"/>
            <a:ext cx="8642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1484280"/>
            <a:ext cx="806436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NTx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[i] = son01[i]/(32768.0*1.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557360"/>
            <a:ext cx="835164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28736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Fuzz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max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ga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1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riff = 44100*2*1*11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413000"/>
            <a:ext cx="8424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data = 44100*2*1*1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s*(cuantizacion/8)*1canal*11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in = StrToFloat(txtGain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19700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fu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int i = 0; i &lt;=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x[i] =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x[i]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gain*(1 - exp(x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-gain*(1 - exp(-x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y[i] &gt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0.9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y[i] &lt;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-0.9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4842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32768*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Sound002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d1,sizeof(encd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557360"/>
            <a:ext cx="777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Add(son02[i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son02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e a procesamiento no lineal del sonido. Este tipo de procesamiento, crea intencionalmente distorsión armónica , es decir una mayor cantidad de componentes espect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2417760"/>
            <a:ext cx="76849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istorsion tipo fuzz es dada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51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5805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58920" y="2637000"/>
                <a:ext cx="614196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x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</m:d>
                                    </m:e>
                                  </m:d>
                                </m:e>
                              </m:d>
                              <m:m>
                                <m:mr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</m:d>
                                    </m:e>
                                  </m:d>
                                </m:e>
                              </m:d>
                              <m:m>
                                <m:mr>
                                  <m:e/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4608360" cy="4427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81360" y="1595520"/>
            <a:ext cx="5381280" cy="3666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557360"/>
            <a:ext cx="7920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Fuzz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268280"/>
            <a:ext cx="81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557360"/>
            <a:ext cx="82818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, encd1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4851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2[485100];                //sonido con fu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x[4851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y[4851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ongitud inicial de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413000"/>
            <a:ext cx="820908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0-30T15:25:54Z</dcterms:modified>
  <cp:revision>267</cp:revision>
  <dc:subject/>
  <dc:title>Computación 1</dc:title>
</cp:coreProperties>
</file>