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B4A2-D71D-4EA4-8AD0-6E6A9B08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226C-8B7D-4A43-8D36-AD1A618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3438-0932-4FF7-9E53-836D3DC1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6880-FAED-4D01-9CAE-156A6D8E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EF36-4C6B-491B-8C6C-7AE9ADCD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3A6E-9DEE-4B0A-A403-42B03280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AE88-A196-49E8-BC31-26943860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017F-E5E6-4F9E-9956-2F47576D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A960-21A4-4EE1-A6C2-7EFCEE7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B495-624E-4DE6-ADA1-B46B961B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0FD0-3207-4C8D-847A-091FCB15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9040-B804-4B0D-893F-6C1F9FAC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1DC0-30A2-457F-A015-1FC6CBBF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EEA5-9C91-404F-93F4-D696806D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8964-4D3A-48C2-A8EA-30A1175B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5369-650B-4649-87BE-2A806C22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DD41-93BF-40C9-809E-94E5EE5B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799A-E19D-4984-9458-75EC607C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D31C-98AA-4FA4-9F2E-58C866B4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C332-ECC4-4DB5-AB16-0F472DE2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51D6-03F2-4EE9-AED2-E3FD5B6F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6089-FF57-4AFC-8DF6-A364C28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D05D-733A-4C40-8ED7-B357B059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67FF-59CF-4C28-930E-0AD2CBBC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E448-5E92-4246-8881-E86EDF1DB5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859E-E993-47E2-A348-9E6A897BE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7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47492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1484280"/>
            <a:ext cx="806436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NTx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[i] = son01[i]/(32768.0*1.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557360"/>
            <a:ext cx="83516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28736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Fuzz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max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ga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1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riff = 44100*2*1*11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413000"/>
            <a:ext cx="8424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d1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d1.tamano_bloque_data = 44100*2*1*1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s*(cuantizacion/8)*1canal*11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in = StrToFloat(txtGain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19700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fu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x[i]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x[i]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gain*(1 - exp(x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-gain*(1 - exp(-x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y[i] &gt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0.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y[i] &lt;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[i] = -0.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2[i] = 32768*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Sound002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d1,sizeof(encd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55736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4851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2-&gt;Series[0]-&gt;Add(son02[i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son02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e a procesamiento no lineal del sonido. Este tipo de procesamiento, crea intencionalmente distorsión armónica , es decir una mayor cantidad de componentes espec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2417760"/>
            <a:ext cx="76849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storsion tipo fuzz es dada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5157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5805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58920" y="2637000"/>
                <a:ext cx="614196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x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</m:d>
                              <m:m>
                                <m:mr>
                                  <m:e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</m:d>
                                    </m:e>
                                  </m:d>
                                </m:e>
                              </m:d>
                              <m:m>
                                <m:mr>
                                  <m:e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4608360" cy="442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81360" y="1595520"/>
            <a:ext cx="5381280" cy="3666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557360"/>
            <a:ext cx="7920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Fuzz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268280"/>
            <a:ext cx="8136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2818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, encd1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4851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2[485100];                //sonido con fu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x[4851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y[48510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ongitud inicial de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stor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413000"/>
            <a:ext cx="82090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0-30T15:25:54Z</dcterms:modified>
  <cp:revision>267</cp:revision>
  <dc:subject/>
  <dc:title>Computación 1</dc:title>
</cp:coreProperties>
</file>