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4EB5-F081-463C-A6D4-CB781608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F0DD-1039-4BE7-99FC-59F5FD8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51C3-7215-4318-AAB2-E2A97A7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6428-C589-4253-9ED8-78BC125E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4698-DD87-480D-9FE0-2310B5CE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321-5533-487F-9C37-5809A00D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D92-7F6B-4E6E-8EDF-4A8590C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F48-0631-474C-9760-8346DB6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93B-3C2A-466D-8DB4-357FF96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CDB5-97DA-4671-B42C-6DB68B2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385-BFF0-4EA4-B6B0-1881C1C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7396-3465-42FD-8536-2B4B0C5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845B-5F8C-459E-91A5-2E01BE2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B64-829E-4DC6-AA9F-7D9A104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AB40-84AB-4ADA-9175-530D20E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459D-37FB-44DC-B595-B7F3E77E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90E4-6668-46DF-891C-E565045E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F215-AB18-4E00-A697-26E64A3F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0307-DD94-42AC-9832-351E0DE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0810-FF4F-4F1E-89D2-BDEAFB5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E111-780B-44A1-952F-2C87ADA8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FFB8-B3E9-4A7D-BA10-8E6A9B1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097B-C2F2-4DE6-9C3A-5A6E9B5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1A6C-A8C2-44D3-A328-6B60BBA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679-1462-4131-A542-A50FFD3AA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999-1984-48B9-846B-759ED3C03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6T16:35:33Z</dcterms:modified>
  <cp:revision>275</cp:revision>
  <dc:subject/>
  <dc:title>Computación 1</dc:title>
</cp:coreProperties>
</file>