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B7284-FE67-4A84-A7BB-183E5F643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DAFE7-26B2-4B6D-BF12-E6192CA9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8BCE4-33FC-49F8-8C05-D90953620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C4628-F106-4ADB-A416-7A8E60119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780A-14CE-4AA8-AEE8-E9FC63851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5DDAD-6136-41D5-93E4-47454591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6467-DDB1-445F-A302-09F8A5F1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C1060-080C-4DC3-AB56-2CB20284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90EF-6D9C-4F9C-B280-1E4A1452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8FA2-3A85-456C-8DED-E642B8D3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CA61-69FF-44C3-A726-F777E256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85EBE-3A17-4D8D-804A-C3090B78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D63B-0C49-4E2E-A951-9AEDC8A5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AC32-0F4E-45D3-ACD1-D7422501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E6AB-221D-437A-8DC1-47357DB9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0F9F-C923-4661-8F1B-FF1B9318C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5E2A-BD2D-46EB-BCA5-AB3B3D457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D4646-83BD-41F9-ABD8-F79D4AC1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FAF53-617B-4753-9C34-02976046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D9F04-B048-49BC-9EEA-0EC34B49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B599D-29E6-4AE0-845A-948431C7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297E8-0428-452B-861B-69F53CCF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D9D3E-2361-426C-9EA9-D504128E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9636D-5EFC-4304-BFF3-578BA0F2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01D6-478B-4310-AD72-972C0E99F8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3812-E361-40A8-8C0C-01DF8199E0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600" spc="-1" strike="noStrike">
                <a:solidFill>
                  <a:srgbClr val="ffffff"/>
                </a:solidFill>
                <a:latin typeface="Arial"/>
              </a:rPr>
              <a:t>Computación 2 - 8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1413000"/>
            <a:ext cx="856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ee el archivo de audio y lo gra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1; i &lt;=749700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read((char*)&amp;d16b,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Add(d16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1[i-1] = d16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ierra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ctiva mediap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aPlayer1-&gt;FileName = OpenDialog1-&gt;File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aPlayer1-&gt;Op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//cierra el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1268280"/>
            <a:ext cx="820908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GenerarAM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d16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fpo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fmo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t;     //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dt;    //periodo de muestreo = 1/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pro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Amax;   //de 16 bits (2by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primer subchun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a funcion strcpy copia un string en o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.ID_bloque_riff,"RIFF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0920" y="1197000"/>
            <a:ext cx="871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enc.tamano_bloque_riff = fs*(16cuantizacion/8)*1canal*17segundos + 36 de 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36 de offset se refiere al tamaño de los subchuncks RIFF_chunck y  fmt_chun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tamano_bloque_riff = 44100*2*1*17+3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a funcion strcpy copia un string en o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.formato_archivo_riff,"WAVE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segundo subchun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.ID_bloque_fmt,"fmt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tamano_bloque_fmt = 1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formato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canales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fs = 441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bytes_por_segundo = 44100*2*1;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fs*(16cuantizacion/8)*1ca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alineacion = 2*1;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(16cuantizacion/8)*ca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bits_por_muestra = 1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1484280"/>
            <a:ext cx="842472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tercer subchun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.ID_bloque_data,"data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tamano_bloque_data = 44100*2*1*17; // fs*(cuantizacion/8)*1canal*17segun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ectura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port = StrToFloat(txtPortadora-&gt;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mod = StrToFloat(txtModuladora-&gt;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p = StrToFloat(txtAmplitudFinal-&gt;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f = StrToFloat(txtProfMod-&gt;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ax = 10000*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   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t   = 1.0/441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ax = 100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1413000"/>
            <a:ext cx="8496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rea y abre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open("am.wav",ios::out|ios::binar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escribe el encabezado usa sizeof para determinar el tama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write((char *)&amp;enc,sizeof(enc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prepara para graf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Cle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justalos e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LeftAxis-&gt;Minimum =  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LeftAxis-&gt;Minimum = -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1484280"/>
            <a:ext cx="792180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 (int i = 1; i &lt;= 44100*17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16b = Amax*(1 - prof + prof*cos(2*M_PI*fmod*t)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*sin(2*M_PI*fport*t);  //crea una muestra a la v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write((char *)&amp;d16b,2);     //escribe una muestra a la v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 += dt;                      // t = t + 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Add(d16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ierra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1341360"/>
            <a:ext cx="79200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 (int i = 1; i &lt;= 44100*17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16b = Amax*sin(2*M_PI*fport*t + prof*sin(2*M_PI*fmod*t)       );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write((char *)&amp;d16b,2);     //escribe una muestra a la v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 += dt;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Add(d16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ierra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5084640"/>
            <a:ext cx="81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resto es igual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are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1341360"/>
            <a:ext cx="734544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sar una señal de audio como una voz para realizar amplitud modulada en una onda senoid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sar una señal de audio como una voz para realizar frecuencia modulada en una onda senoid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arrollar un chorus, su funcionamiento es similar al flanger pero los retardos de tiempo son generados por una señal aleatorea que ha sido filtrada por un pasa baj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Amplitud Modulada corresponde a la multiplicación de una señal por otra. En general en la música se refiere a ella como trem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08000" y="328464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recuencia portad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08000" y="386064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recuencia modulad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042920" y="2565360"/>
                <a:ext cx="50180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f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476360" y="3213000"/>
                <a:ext cx="4316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403280" y="3860640"/>
                <a:ext cx="4334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Frecuencia Modulada corresponde a la modificación de la fase de una señal por otra. En general en la música se refiere a ella como vib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08000" y="328464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recuencia portad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08000" y="386064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recuencia modulad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712800" y="2492280"/>
                <a:ext cx="43545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f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476360" y="3213000"/>
                <a:ext cx="4316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403280" y="3860640"/>
                <a:ext cx="4334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655164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1557360"/>
            <a:ext cx="849780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$$---- Form CPP 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&lt;vcl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hdr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UnitAMFM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math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fstream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package(smart_in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resource "*.dfm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1268280"/>
            <a:ext cx="849780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estruc de encabezado 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uct TEncabezadoT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ID_bloque_riff[4]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ontiene los caracteres "RIFF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tamano_bloque_rif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formato_archivo_riff[4]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ontiene los caracteres WAVE, avi u o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ID_bloque_fmt[4];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"fmt " &lt;--ojo con el espa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tamano_bloque_fmt;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16 (largo de bloque de aquí en adela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formato;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1:P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canales;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1:mono    2:ste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fs;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 frecuencia de muestreo 44100, 48000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bytes_por_segundo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bytes por seg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alineacion;             //aline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bits_por_muestra;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8, 16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ID_bloque_data[4];       //aqui es "data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tamano_bloque_data;       //tamano bloqu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1413000"/>
            <a:ext cx="849600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Form1 *Form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ncabezadoTipo enc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encabez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stream F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son01[749700];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sonido sin proces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NT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__fastcall TForm1::TForm1(TComponent* Ow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TForm(Ow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1413000"/>
            <a:ext cx="8496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Abrir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variables lo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int es de 32 bits (4by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short de 16 (2by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unsigned char es de 8 bits (1by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d16b;                //de 16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f (OpenDialog1-&gt;Execute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ierra culquier ejecucion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aPlayer1-&gt;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bre el archivo usando OpenDi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open(OpenDialog1-&gt;FileName.c_str(),ios::in|ios::binar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ee las caracteristicas del archivo 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read((char *)&amp;enc,sizeof(enc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1413000"/>
            <a:ext cx="828036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prepara para graf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Cle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justalos e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LeftAxis-&gt;Maximum =  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LeftAxis-&gt;Minimum = -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inicializa el arreg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0; i &lt;= 749700-1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1[i]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tamaño de los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Tx = enc.tamano_bloque_data/(enc.bits_por_muestra/8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53:45Z</dcterms:created>
  <dc:creator>Eddie</dc:creator>
  <dc:description/>
  <dc:language>en-US</dc:language>
  <cp:lastModifiedBy>Eddie</cp:lastModifiedBy>
  <dcterms:modified xsi:type="dcterms:W3CDTF">2009-11-06T16:35:33Z</dcterms:modified>
  <cp:revision>275</cp:revision>
  <dc:subject/>
  <dc:title>Computación 1</dc:title>
</cp:coreProperties>
</file>