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57DC-59E2-483A-84CF-C7FEFBA1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1F7F-3E34-488C-A309-4736F48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6884-EEB9-44B9-AA88-50C62C2D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481B-2D2B-4C66-A34A-4119F1F8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1DAB-2E34-41ED-A46A-73A93624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E4E7-A443-495A-AA97-863F221B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E4E9-5AE7-4A1C-A5F4-17D32A9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D91-F004-44DC-9529-E7DA1AE9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D600-618B-40FA-9802-983C6BE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C542-8645-4DCC-BF64-88CDB71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F2E-AA45-464B-AC68-9FDE2DB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24D3-AB12-4C47-815D-8919835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96B-8731-43D7-82C1-6BAEE78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84F4-5ED9-426A-8399-B30A9F3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B0D3-9C69-4CCD-8385-5B0044F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1C7-7229-4AAB-A550-EE244388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218-103D-4BEE-8D02-99F89158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391C-09A7-41CB-B50B-8D6A79DB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282D-5890-45BE-B5EF-80A5B960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7729-CE36-44CC-8967-4A61B3E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BD7C-538B-40A2-A805-4F2FD41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53AA-6C3F-475B-9D43-DC94910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4432-2A4B-450F-B609-D2134E7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6A64-E245-4A6C-8373-51D0A51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1ED-FCB6-407B-ACAE-A9C147C4A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609-7686-4937-9429-A9FA4A3F3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6T16:35:33Z</dcterms:modified>
  <cp:revision>275</cp:revision>
  <dc:subject/>
  <dc:title>Computación 1</dc:title>
</cp:coreProperties>
</file>