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3AF6-4B65-4BAD-8AE5-667233F3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3BE7-C046-4CA9-8E9B-90733872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FEDF-9663-41F8-B447-35A73E7D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3626-70F9-46CC-AD60-93B80276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637E-D2C6-4E5F-9A2B-B1E5C053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33D0-48F3-4BAB-9229-22495DC7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2B27-D9DE-40B7-93A5-86129263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F415-12AB-43E3-BE47-DB2C7272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A88B-0492-4906-9D12-52C65459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317D-B8D7-45DD-8810-29E7EEA6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8E57-0888-46EA-BD56-D6839365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4570-B285-4D25-ACAA-F227CD1E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CB45-6E1C-46F0-84F9-AFB97C0B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DCD7-4651-4A7C-81CF-31B0B4B8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5598-B50E-4576-B97C-018F109C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E9E5-5C79-4754-A61D-6C26D437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0509-F625-4CDA-988A-3FDD7786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F5F5-19AB-4D12-9926-44BA5BD2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35B5-1DDF-4AAB-8D43-EF64F0C6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2F2F-0C78-4FA8-854E-80E6E008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E26E-FECB-4A56-936A-0356ADE1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5E0D-25F5-4E48-A68A-793F2823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DFFF-B900-42DE-9AD2-9FA37E4B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8459-EFE0-4BA9-9414-2F678B70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F9E8-1D73-4BCE-8333-B87DE105F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D61A-EE2C-4194-9E3F-254E0E45A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41300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749700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268280"/>
            <a:ext cx="8209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GenerarAM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po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;     //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dt;    //periodo de muestreo = 1/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ro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max;   //de 16 bits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19700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7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riff = 44100*2*1*17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484280"/>
            <a:ext cx="842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data = 44100*2*1*17; // fs*(cuantizacion/8)*1canal*17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ctura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port = StrToFloat(txtPort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mod = StrToFloat(txtModul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 = StrToFloat(txtAmplitudFinal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 = StrToFloat(txtProfMod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*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t   = 1.0/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am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484280"/>
            <a:ext cx="79218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(1 - prof + prof*cos(2*M_PI*fmod*t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sin(2*M_PI*fport*t);  //crea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                     // t = t +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341360"/>
            <a:ext cx="7920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sin(2*M_PI*fport*t + prof*sin(2*M_PI*fmod*t)       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08464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to es igual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341360"/>
            <a:ext cx="73454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amplitud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frecuencia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chorus, su funcionamiento es similar al flanger pero los retardos de tiempo son generados por una señal aleatorea que ha sido filtrada por un pasa 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filtro pasa banda cuya frecuencia central varie senoid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mplitud Modulada corresponde a la multiplicación de una señal por otra. En general en la música se refiere a ella como trem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42920" y="2565360"/>
                <a:ext cx="5018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recuencia Modulada corresponde a la modificación de la fase de una señal por otra. En general en la música se refiere a ella como vib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12800" y="2492280"/>
                <a:ext cx="4354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55164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557360"/>
            <a:ext cx="84978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AMF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268280"/>
            <a:ext cx="84978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496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7497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413000"/>
            <a:ext cx="8496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13000"/>
            <a:ext cx="8280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7497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10-06-24T21:41:56Z</dcterms:modified>
  <cp:revision>276</cp:revision>
  <dc:subject/>
  <dc:title>Computación 1</dc:title>
</cp:coreProperties>
</file>