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EB41-FCD8-40C9-9528-7F73956D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7ED3-C9A9-49C6-9E6E-8B882BDC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CCB0-8ABA-4319-85DE-674813CF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A9E3-DE04-4EAE-805C-49EDA037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04EF-C5C1-4251-BAE3-CA9823E6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6F9C-BEFF-4E02-93FD-6CDB7A35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013A-5871-45D2-92D9-C7E2059B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886B-EB33-4572-A655-35284B5F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AF0D-7505-4501-9922-CC818877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A439-E54A-4A29-B725-6EC273E4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6A82-0B5C-4BEB-9873-B5FE2585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436E-39D2-49D5-834B-813B0283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1F10-5C65-4662-B8BB-C09F17DC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230D-209B-414C-A4F9-6B356851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8119-FFA2-46AD-AB4D-F0124DEE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A50A-F85E-4F76-AFEB-5135FD2E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3620-B7F0-41C3-A8F8-7677F9B0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4621-5DB8-49A5-960C-A8E41C58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504E-998B-4CD8-AFC3-D5175470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BDCB-1AAD-43B6-8182-4EC934C8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5D86-A8EA-461E-A801-92539B75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164E-7BC4-43A7-86CE-9D75C1EE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DD69-5580-4E80-A78C-442B0695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0B96-E363-4712-ACC6-B8B9CFE6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4D2A-1BB3-4C08-AF66-54C95C9B4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1B46-A947-45ED-A641-DE0AFE655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41300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749700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268280"/>
            <a:ext cx="820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GenerarAM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po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;     //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dt;    //periodo de muestreo = 1/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ro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max;   //de 16 bits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19700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7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riff = 44100*2*1*17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484280"/>
            <a:ext cx="842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data = 44100*2*1*17; // fs*(cuantizacion/8)*1canal*17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ctura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port = StrToFloat(txtPort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mod = StrToFloat(txtModul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 = StrToFloat(txtAmplitudFinal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 = StrToFloat(txtProfMod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*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t   = 1.0/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am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484280"/>
            <a:ext cx="79218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(1 - prof + prof*cos(2*M_PI*fmod*t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sin(2*M_PI*fport*t);  //crea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                     // t = t +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341360"/>
            <a:ext cx="7920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sin(2*M_PI*fport*t + prof*sin(2*M_PI*fmod*t)       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08464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to es igual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341360"/>
            <a:ext cx="7345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amplitud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frecuencia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chorus, su funcionamiento es similar al flanger pero los retardos de tiempo son generados por una señal aleatorea que ha sido filtrada por un pasa 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filtro pasa banda cuya frecuencia central varie senoid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mplitud Modulada corresponde a la multiplicación de una señal por otra. En general en la música se refiere a ella como trem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42920" y="2565360"/>
                <a:ext cx="5018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recuencia Modulada corresponde a la modificación de la fase de una señal por otra. En general en la música se refiere a ella como vib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12800" y="2492280"/>
                <a:ext cx="435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5516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557360"/>
            <a:ext cx="84978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AMF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268280"/>
            <a:ext cx="84978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496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7497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13000"/>
            <a:ext cx="849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13000"/>
            <a:ext cx="8280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7497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10-06-24T21:41:56Z</dcterms:modified>
  <cp:revision>276</cp:revision>
  <dc:subject/>
  <dc:title>Computación 1</dc:title>
</cp:coreProperties>
</file>