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E107-16CB-44C4-A144-CAFD5CE8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FE19F-0E41-4316-99AF-2F6CD4FC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64A7D-F2CB-4DFE-AF02-39F39662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75426-7A5D-4F5B-8DF3-B4CD7F41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EB42-B760-4DFD-83B3-04726C12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BD84-D9B2-4532-924E-A70C5631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8106-00B5-4AD2-A4B0-EFA58A4A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95A7-A8F8-4745-80E9-7C0AA034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AB14-EF29-4F16-B3F3-06257F71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23F3-BF52-4773-98A3-8900A250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CC68-7414-47BB-99CE-C2C71123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57F89-167D-489B-9A1C-0D58DE39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051A-5327-4E09-B884-E71807F6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FC8F-4689-47E8-BB63-4011F97C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9F0D-5E75-4460-AF37-CE90B6C1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51EF-332F-4D6C-B915-8F35ABD1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FBFF-646B-4719-9B97-AA862FD5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3E28B-81FF-4146-B523-DF454C65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778F-BC5F-49CA-8538-CF9C9DEA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47E8A-B43E-41B4-97DA-0B38B9CF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1784F-A40B-4733-842A-20ADC192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3052F-A030-4121-8B3A-690997D4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8CDD4-3ADC-4910-86E0-69854956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84125-D538-4CE4-847F-D6EBC79F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65D9-0873-4C87-85CB-67847F13EE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8950-5952-43E6-A477-9E9908955F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8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413000"/>
            <a:ext cx="85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el archivo de audio y lo 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1; i &lt;=749700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-1] =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ctiva media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FileName = Open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Op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//cierra el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268280"/>
            <a:ext cx="82090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GenerarAM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fpo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fmo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t;     //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dt;    //periodo de muestreo = 1/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ro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max;   //de 16 bits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im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riff,"RIFF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19700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.tamano_bloque_riff = fs*(16cuantizacion/8)*1canal*17segundos + 36 d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36 de offset se refiere al tamaño de los subchuncks RIFF_chunck y  fmt_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riff = 44100*2*1*17+3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formato_archivo_riff,"WAV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egundo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fmt,"fmt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fmt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formato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canales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fs = 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bytes_por_segundo = 44100*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s*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alineacion = 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(16cuantizacion/8)*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bits_por_muestra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484280"/>
            <a:ext cx="84247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erc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data,"dat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data = 44100*2*1*17; // fs*(cuantizacion/8)*1canal*17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ctura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port = StrToFloat(txtPortadora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mod = StrToFloat(txtModuladora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p = StrToFloat(txtAmplitudFinal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 = StrToFloat(txtProfMod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ax = 10000*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  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t   = 1.0/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ax = 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413000"/>
            <a:ext cx="84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rea y abre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"am.wav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cribe el encabezado usa sizeof para determinar el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484280"/>
            <a:ext cx="79218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int i = 1; i &lt;= 44100*17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Amax*(1 - prof + prof*cos(2*M_PI*fmod*t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sin(2*M_PI*fport*t);  //crea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     //escribe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+= dt;                      // t = t + 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341360"/>
            <a:ext cx="7920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int i = 1; i &lt;= 44100*17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Amax*sin(2*M_PI*fport*t + prof*sin(2*M_PI*fmod*t)       )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     //escribe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+= dt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5084640"/>
            <a:ext cx="81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esto es igual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r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1341360"/>
            <a:ext cx="73454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una señal de audio como una voz para realizar amplitud modulada en una onda senoi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una señal de audio como una voz para realizar frecuencia modulada en una onda senoi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ar un chorus, su funcionamiento es similar al flanger pero los retardos de tiempo son generados por una señal aleatorea que ha sido filtrada por un pasa 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ar un filtro pasa banda cuya frecuencia central varie senoid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mplitud Modulada corresponde a la multiplicación de una señal por otra. En general en la música se refiere a ella como trem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3284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por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386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modul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42920" y="2565360"/>
                <a:ext cx="50180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476360" y="3213000"/>
                <a:ext cx="431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403280" y="3860640"/>
                <a:ext cx="433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Frecuencia Modulada corresponde a la modificación de la fase de una señal por otra. En general en la música se refiere a ella como vib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3284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por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386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modul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12800" y="2492280"/>
                <a:ext cx="43545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476360" y="3213000"/>
                <a:ext cx="431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403280" y="3860640"/>
                <a:ext cx="433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655164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557360"/>
            <a:ext cx="84978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$$---- Form CPP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AMF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math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268280"/>
            <a:ext cx="849780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truc de encabezad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Encabezad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"RIFF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ri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formato_archivo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WAVE, avi u 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fmt[4]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"fmt " &lt;--ojo con el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fm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6 (largo de bloque de aquí en adel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formato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canales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mono    2:st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fs;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 frecuencia de muestreo 44100, 48000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bytes_por_segund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byte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lineacion;             //ali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its_por_muestra;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8, 16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data[4];       //aqui es "dat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data;       //tamano bloqu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13000"/>
            <a:ext cx="84960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abezadoTipo enc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abe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F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1[749700]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onido sin proc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T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413000"/>
            <a:ext cx="8496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bri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t es de 32 bits (4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hort de 16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unsigned char es de 8 bits (1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                //de 16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culquier ejecucion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bre el archivo usando Open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OpenDialog1-&gt;FileName.c_str()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las caracteristicas del archiv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413000"/>
            <a:ext cx="828036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ax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icializa el 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7497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amaño de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Tx = enc.tamano_bloque_data/(enc.bits_por_muestra/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10-06-24T21:41:56Z</dcterms:modified>
  <cp:revision>276</cp:revision>
  <dc:subject/>
  <dc:title>Computación 1</dc:title>
</cp:coreProperties>
</file>