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2573-58B3-416A-8D29-9BC6C13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BE42-83C1-4CD7-ADBE-C76E991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EC9E-9120-499F-983D-D3ABCC02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C519-0133-4FA7-85F2-FB196A42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D66-3CBE-48ED-B14D-24274C77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B6FB-AAD8-4D27-A017-BADB4822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E3B3-C9C8-4BF6-92B2-B3B35D1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61B6-0A10-491D-A0DD-94FB8096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C8E-A269-4765-8FD5-C9FAFF9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20F-7869-4F40-8C7C-0D28AEEE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DC1-EB61-4D49-AFB8-75DFBAC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59F8-EB0E-457E-9D4D-BDFA453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811-AC09-4723-977B-440A1E4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B0EA-D48C-4533-AEDA-A679B73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6A11-B8AB-423A-B3B0-FA3158E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15D-27FA-4D55-8D9C-A827AFDB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F9AE-B897-43D9-AB06-20B9510F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5946-E6AE-4E9E-B27B-8A3849D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3F47-0FA5-4BD3-BF3C-B67FDFDA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CD6A-A5BC-42F1-9EE7-AF41032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FCC2-6481-4800-A0D8-7F2DE85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2EE1-7830-4665-9A88-D0E7C7A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82A4-9694-4692-8B0C-98A9625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991F-E680-46AB-86F9-D838E12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7C0-79CD-43F7-BF14-581265EDF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4C1E-1A60-4217-A5C9-BF5F8CF9C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filtro pasa banda cuya frecuencia central varie senoid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10-06-24T21:41:56Z</dcterms:modified>
  <cp:revision>276</cp:revision>
  <dc:subject/>
  <dc:title>Computación 1</dc:title>
</cp:coreProperties>
</file>