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94BF-BB3B-4048-8083-F614E5CF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5EFC-6CC8-4483-B861-3730FF14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88AC-8673-4CA8-9617-2E97FC8C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799F6-0AD9-474E-8A28-9271B84A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C122-9A90-4A56-BE00-ED8FE04A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A649-494E-43D7-8E3A-6802158E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A853-7DD4-4DD8-872D-14723D38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F5E0-236E-4F6B-A164-20E4CBE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3D5-39CA-41C3-844C-A1AB2F2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13EB-0245-4102-AACA-0747D58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8925-769A-4624-B4CE-D4DAC3D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E3BF-10D4-47EE-8C62-0F29C69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A3B-448C-4125-A2E5-5BAC9DD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7ABD-6092-48F9-8AED-906F2ED5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FF86-B85A-42E9-A240-9515650C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91DC-B9A2-406A-BB85-8A656E54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855-BE21-4EF5-8760-6D15291F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CDF3B-53C4-45E1-9AA3-AF3A42E6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87A9-7B59-4AA5-ADA3-1F3DBD1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C094-57F2-494B-A674-0CEAF4C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9EE3-92A2-453E-8805-39712D2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69DE-9C8D-4ECE-B441-CE4BCAE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34C1-B3E2-44D2-AC08-2405C394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A8CE-E894-43AC-9964-F12A8F7B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C402-7865-4274-A69D-1B712C72C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2E8-91AF-484A-805A-67C28CB10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2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413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el archivo de audio y lo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1; i &lt;=749700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*)&amp;d16b,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-1] =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ctiva media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FileName = OpenDialog1-&gt;File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Op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//cierra el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268280"/>
            <a:ext cx="820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GenerarAM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po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fmo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t;     //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dt;    //periodo de muestreo = 1/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ro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max;   //de 16 bits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im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riff,"RIFF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9700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.tamano_bloque_riff = fs*(16cuantizacion/8)*1canal*17segundos + 36 d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36 de offset se refiere al tamaño de los subchuncks RIFF_chunck y  fmt_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riff = 44100*2*1*17+3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a funcion strcpy copia un string en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formato_archivo_riff,"WAV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gundo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fmt,"fmt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fmt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ormato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canales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fs = 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ytes_por_segundo = 44100*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fs*(16cuantizacion/8)*1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alineacion = 2*1;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(16cuantizacion/8)*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bits_por_muestra = 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484280"/>
            <a:ext cx="842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ercer subchun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cpy(enc.ID_bloque_data,"data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.tamano_bloque_data = 44100*2*1*17; // fs*(cuantizacion/8)*1canal*17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ctura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port = StrToFloat(txtPort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mod = StrToFloat(txtModuladora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 = StrToFloat(txtAmplitudFinal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 = StrToFloat(txtProfMod-&gt;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*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  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t   = 1.0/44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ax = 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13000"/>
            <a:ext cx="84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rea y abre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"am.wav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cribe el encabezado usa sizeof para determinar el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484280"/>
            <a:ext cx="79218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(1 - prof + prof*cos(2*M_PI*fmod*t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sin(2*M_PI*fport*t);  //crea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                     // t = t + 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341360"/>
            <a:ext cx="7920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int i = 1; i &lt;= 44100*17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16b = Amax*sin(2*M_PI*fport*t + prof*sin(2*M_PI*fmod*t)       )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write((char *)&amp;d16b,2);     //escribe una muestra a l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 += dt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d16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5084640"/>
            <a:ext cx="81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esto es igual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1341360"/>
            <a:ext cx="73454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amplitud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ar una señal de audio como una voz para realizar frecuencia modulada en una onda senoi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chorus, su funcionamiento es similar al flanger pero los retardos de tiempo son generados por una señal aleatorea que ha sido filtrada por un pasa 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ar un filtro pasa banda cuya frecuencia central varie senoid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mplitud Modulada corresponde a la multiplicación de una señal por otra. En general en la música se refiere a ella como trem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42920" y="2565360"/>
                <a:ext cx="50180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recuencia Modulada corresponde a la modificación de la fase de una señal por otra. En general en la música se refiere a ella como vib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84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port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3860640"/>
            <a:ext cx="53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ecuencia modul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12800" y="2492280"/>
                <a:ext cx="43545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76360" y="3213000"/>
                <a:ext cx="431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403280" y="3860640"/>
                <a:ext cx="433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655164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557360"/>
            <a:ext cx="84978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$$---- Form CPP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AMF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math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268280"/>
            <a:ext cx="84978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struc de encabezad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truct TEncabezado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"RIFF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ri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formato_archivo_riff[4]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ontiene los caracteres WAVE, avi u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fmt[4]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"fmt " &lt;--ojo con el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fmt;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6 (largo de bloque de aquí en adel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formato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canales;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1:mono    2:ste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fs;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 frecuencia de muestreo 44100, 48000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bytes_por_segund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bytes por seg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alineacion;             //aline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its_por_muestra;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8, 16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 ID_bloque_data[4];       //aqui es "data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tamano_bloque_data;       //tamano bloqu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496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ncabezadoTipo enc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encabe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F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son01[749700];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onido sin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T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413000"/>
            <a:ext cx="849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bri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variable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t es de 32 bits (4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hort de 16 (2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unsigned char es de 8 bits (1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d16b;                //de 16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(OpenDialog1-&gt;Execu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cierra culquier ejecucion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Player1-&gt;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bre el archivo usando OpenDi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pen(OpenDialog1-&gt;FileName.c_str()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lee las caracteristicas del archivo 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read((char *)&amp;enc,sizeof(en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M-F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13000"/>
            <a:ext cx="8280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prepara para gra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ajustalos e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aximum =  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LeftAxis-&gt;Minimum = -3276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inicializa el arre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 i &lt;= 749700-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01[i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tamaño de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Tx = enc.tamano_bloque_data/(enc.bits_por_muestra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10-06-24T21:41:56Z</dcterms:modified>
  <cp:revision>276</cp:revision>
  <dc:subject/>
  <dc:title>Computación 1</dc:title>
</cp:coreProperties>
</file>