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8945-63D0-4774-90B2-1108B090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78FC-74A9-458B-A0DB-C3BD1407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1E7ED-2A50-4A89-B7AE-20C9811A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9717-7DF0-408B-AD7C-38097C58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B562-D7D8-4958-8792-8FE4687C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7ED0-BDC4-4386-942A-256EF031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E090-37BA-4FEE-9066-7D5A2287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7803-C52E-41B4-8AA0-9655FDBC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6C7E-9055-4066-BEF7-F1DE31A9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514F-C881-48F2-BF6E-C79E051E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AAA0-BA0D-4DFE-B361-FCAA073E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4D1B5-B0AB-44A7-A5E6-0375CDFF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3AD3-6487-49DC-A11F-A67EACC9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8F36-1BE8-487E-8F02-009AAFB4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4D6F-2DE3-4FB2-AEC6-AADEE737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EF19-AA6E-48B7-A3D3-A16956AE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C86B-9626-4DD0-9B0F-77349D21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C345-5B64-47A4-BB1E-7A8C54CF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1F23-A382-4AE3-8B4A-B1DEF931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9999-6E21-4D2F-AEAE-12B346D7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BEC8-EED9-435A-8BD1-D68CC2D7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A5E1-71E0-4410-BBD5-4DE5CF30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72FD5-B755-4EAE-B1E3-47EBD8D4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7756-5F2D-4B70-9554-6DF55110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5531-7C2B-4BCC-BAB1-DC200D943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A6EB-151B-4555-9E18-65D396F21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2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emoria posee en cada celda dos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rección – Indica su posición relativa en la memoria  y mediante la cual se puede acceder para  almacenar o recuperar su conte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enido  – Tambien llamadas palabras ( 8, 16, 32, 64 bit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386064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3860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010110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23396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42339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0101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528480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528480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010110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566100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566100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111111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603396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60339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1111110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450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450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" y="429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000" y="429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d Onl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moria de sólo lectura – Contiene las  instrucciones fundamentales que no se pueden modificar o borrar accidentalmente por 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Auxili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D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V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k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cos D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n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ware son los programas indispensables para que la máquina funcione se divid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ftware de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ftware de a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ware se puden organizar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s ope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iladores / Intérpr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s Utili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rve esencialmente para facilitar la escritura y el uso de los programas. Dirige las operaciones globales de la computadora e instruye al computador para ejecutar otros programas y controla el almacenamiento de datos y la recuperación de arch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ivid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o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ltiusuarios o de tiempo compar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o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lti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onentes del sistema 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Kernel del sistem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componente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stema de administración de memori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asigna un área de memoria para cada programa que se está ejecuta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dministrador de sistemas de archiv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organiza y controla los discos d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troladores de dispositiv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organizan y controlan los dispositivos de hardware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ibliotecas del sistema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tiene todos los programas utilitarios que se pueden llamar por programas de usu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es un conjunto de instrucciones que controlan y dirigen a una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ribir un programa o software se denomina progra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7640" y="3645000"/>
            <a:ext cx="3097080" cy="252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1080" y="39258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4005360"/>
            <a:ext cx="223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157720"/>
            <a:ext cx="223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153040"/>
            <a:ext cx="223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2360" y="5157720"/>
            <a:ext cx="223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4360" y="5373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entre programas de aplicación y de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730240" cy="1973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340000" y="3645000"/>
            <a:ext cx="4967280" cy="26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2421000"/>
            <a:ext cx="64090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2924280"/>
            <a:ext cx="540072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314172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s d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24922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s de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nguajes de Programación Permitir la comunicación entre la persona y la máquina. Poseen instru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Lengu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nguaje de Bajo Nivel (Assembl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nguaje de Alto Nivel ( Fortran, C, C++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de Entrada y S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Aritmético – Ló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on aquellos que están escritos en lenguajes directamente inteligibles por la computadora. Sus Instrucciones son cadenas binarias, cadenas de caracteres-números 0 y 1, que especifican la operación y posiciones de memoria implicadas en la operación. El código de máquina es el código binario. Dependen de la computad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transfieren directamente a la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más rá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icultad y lentitud en la cod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ca 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icultad de poner a punto y verificar los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solo ejecutables en el computador espec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997360"/>
            <a:ext cx="1655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299736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u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2997360"/>
            <a:ext cx="2592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860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86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nguaje Ensambladores o Assemble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Son más faciles de usar que el lenguaje de máquina pero dependen del computador en particular. Usan instrucciones nemo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D, M, N,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 sumar el número contenido en la posición M al número almacenado en la posición N y situar el resultado en la posició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110    1001    1010     1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 lo mismo escrito en lenguaje de máqu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4724280"/>
            <a:ext cx="2448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Fuente en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581360"/>
            <a:ext cx="208908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ENSAMB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724280"/>
            <a:ext cx="2448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Objeto en Código de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5084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501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nguaje de Alto Nivel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n diseñados para que las personas escriban y entiendan los programas de manera más fácil. Son independientes de la máquina, es decir son por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entaj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mucho más corto de progra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scritura se basa en reglas sintácticas similares a los lenguaj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modificaciones y la depuración del código es más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ucción de co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portab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uesta a punto es más demor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e aprovechan todos lo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en la ocupación de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de ejecución más 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terprete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ma una instrucción en el lenguaje fuente , la traduce y a continuación lo ejecuta (Basic, Matl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7957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F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87640" y="39322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p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2960" y="5299200"/>
            <a:ext cx="259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ducción y Ejecución Línea a L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720" y="3141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29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mpilado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lenguaje de alto nivel no es comprendido directamente por la máquina, esta traducción se hace a través de un compil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2349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F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7640" y="31258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87640" y="5599080"/>
            <a:ext cx="2592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ejecutable en lenguaje de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393372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926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2708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350532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84720" y="436896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84720" y="5153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96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95920" y="3822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nguaje de baj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pacidades de una 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ptar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r y presentar la 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acenar la información en un formato lógicamente consis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cutar operaciones aritméticas y lógicas sobre los datos de entrada y 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zar, controlar y dirigir las operaciones globales y de secuencia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997360"/>
            <a:ext cx="1656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997360"/>
            <a:ext cx="2592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860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6237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1484280"/>
            <a:ext cx="3168360" cy="453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3243240"/>
            <a:ext cx="1655640" cy="133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ad Aritmética 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4813200"/>
            <a:ext cx="165564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ad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1844640"/>
            <a:ext cx="27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ad Central de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551664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5445000"/>
            <a:ext cx="2195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mient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57340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7340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PU Unidad Central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positivo que ejecuta las instrucciones de programa. Ejecuta procesos muy simples, tales como cálculos aritméticos, o desplazamientos de números por diferentes posiciones. Sin embargo o puede hacer con gran rapid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C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rige controla el proceso de información en la memoria (datos e instruc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macena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Contr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coordina actividades, determina que actividades y el orden en que se deben rea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Aritmético Lógica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ealiza operaciones aritm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PU Unidad Central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11352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La memoria principal almacena la información de modo consistente. Las instrucciones y los datos están en secciones separ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Memoria Principal – RAM  Random Acess Memory – Voláti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Memoria Auxiliar – Almacenamiento Secundario – Permanen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Un  programa esta en la memoria secundaria, cuando se ejecuta pasa ala memoria princip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Memoria Cache Almacenamiento intermedio CPU y R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3810240" cy="2238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211640" y="270828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fundamental BIT  - (0  - 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YTE = 8 Bits – Unidad fundamental de la mem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Kilobyte (KB)  =  1024 Bytes (2^1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gabyte (MB)  =  1024 KB (2^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igabyte (GB)  =  1024 MB (2^3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abyte (TB)  =  1024 GB (2^4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taByte (PB)  =  1024TB (2^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53Z</dcterms:modified>
  <cp:revision>57</cp:revision>
  <dc:subject/>
  <dc:title>Computación 1</dc:title>
</cp:coreProperties>
</file>