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47B0-E87F-4309-BD85-81543E4C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CF85-8669-440F-8356-2725E74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6314-7484-4DAE-A967-8E4BD2A7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9012-6978-4082-8C0F-007EE853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A725-B619-4DAF-BD82-AB1D99D0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147-28F6-4BD8-80EE-2F4347DC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1DF-312F-4378-B248-8DDA8BF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2C9-E633-4512-8905-A4F89F9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751-1777-4049-92A7-CA51D941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3492-B48A-4DA1-AD79-8A77DE7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6C5-787D-4F50-A991-9463EE8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8440-E2E8-4BE3-BFE1-B2002D4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5DEA-6048-4549-8563-E570BB3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A44-2D37-41F0-9B76-FF876AE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182E-0D14-4B92-8EF4-A2B2063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6EB-20C3-4CE8-9D2D-BF569889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79B9-4097-42A0-AF7E-59851B81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1854-483C-4A1A-AF0E-0A90628A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A906-3167-47E0-BB15-5B1B7263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13C0-CB43-4A44-83C1-EA1B4483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7C54-2FB0-4394-B5B9-F34FD00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D4A7-76FC-4FC8-9C9F-340236B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8593-B05B-488D-8CB3-DDC2AEE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BB2B-38F5-4FA1-B2BA-C9E38394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03C2-99C3-4E27-B9FF-135A696CF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68D-C44E-4AB3-B607-8B968CF08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2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moria posee en cada celda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rección – Indica su posición relativa en la memoria  y mediante la cual se puede acceder para  almacenar o recuperar su con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enido  – Tambien llamadas palabras ( 8, 16, 32, 64 bi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386064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2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2848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2848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56610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56610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0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60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50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50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moria de sólo lectura – Contiene las  instrucciones fundamentales que no se pueden modificar o borrar accidentalmente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Aux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k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on los programas indispensables para que la máquina funcione 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e puden organiz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op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iladores / Intérp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Util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ve esencialmente para facilitar la escritura y el uso de los programas. Dirige las operaciones globales de la computadora e instruye al computador para ejecutar otros programas y controla el almacenamiento de datos y la recuperación de arch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usuarios o de tiempo compa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onentes del sistema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ernel del sistem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componente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stema de administración de memo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asigna un área de memoria para cada programa que se está ejecu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dministrador de sistemas de arch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 y controla los discos d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adores de disposit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n y controlan los dispositivos de hardwar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ibliotecas del sistem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 todos los programas utilitarios que se pueden llamar por programas de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es un conjunto de instrucciones que controlan y dirigen a un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ribir un programa o software se denomina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3645000"/>
            <a:ext cx="3097080" cy="25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39258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400536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153040"/>
            <a:ext cx="22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entre programas de aplicación y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730240" cy="197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40000" y="3645000"/>
            <a:ext cx="496728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421000"/>
            <a:ext cx="64090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924280"/>
            <a:ext cx="540072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14172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2492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jes de Programación Permitir la comunicación entre la persona y la máquina. Poseen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Bajo Nivel (Assemb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Alto Nivel ( Fortran, C, C++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de Entrada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Aritmético – 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on aquellos que están escritos en lenguajes directamente inteligibles por la computadora. Sus Instrucciones son cadenas binarias, cadenas de caracteres-números 0 y 1, que especifican la operación y posiciones de memoria implicadas en la operación. El código de máquina es el código binario. Dependen de l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ransfieren directamente a la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más rá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y lentitud en la cod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ca 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de poner a punto y verific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solo ejecutables en el computador 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997360"/>
            <a:ext cx="165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99736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Ensambladores o Assemble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Son más faciles de usar que el lenguaje de máquina pero dependen del computador en particular. Usan instrucciones nemo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D, M, N,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sumar el número contenido en la posición M al número almacenado en la posición N y situar el resultado en la posició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110    1001    1010     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lo mismo escrito en lenguaje de máqu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 en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581360"/>
            <a:ext cx="208908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NSAMB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 en Código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08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Alto Nive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diseñados para que las personas escriban y entiendan los programas de manera más fácil. Son independientes de la máquina, es decir son por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enta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mucho más corto 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scritura se basa en reglas sintácticas similares a los lenguaj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modificaciones y la depuración del código es más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ucción de c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portab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uesta a punto es más demo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 aprovechan todos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en la ocupación de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 ejecución más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rpret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una instrucción en el lenguaje fuente , la traduce y a continuación lo ejecuta (Basic, Mat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7957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39322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2960" y="5299200"/>
            <a:ext cx="259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ducción y Ejecución Línea 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ilado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lenguaje de alto nivel no es comprendido directamente por la máquina, esta traducción se hace a través de un compi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349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31258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5599080"/>
            <a:ext cx="259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jecutable en 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393372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26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2708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5053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89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5153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95920" y="3822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nguaje de baj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pacidades de un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ptar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y presentar la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cenar la información en un formato lógicamente con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utar operaciones aritméticas y lógicas sobre los datos de entrada y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r, controlar y dirigir las operaciones globales y de secuencia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997360"/>
            <a:ext cx="165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23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484280"/>
            <a:ext cx="316836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3243240"/>
            <a:ext cx="165564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Aritmétic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4813200"/>
            <a:ext cx="165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844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Central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51664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5445000"/>
            <a:ext cx="21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mient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734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 que ejecuta las instrucciones de programa. Ejecuta procesos muy simples, tales como cálculos aritméticos, o desplazamientos de números por diferentes posiciones. Sin embargo o puede hacer con gran rap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C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rige controla el proceso de información en la memoria (datos e instruc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Contr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oordina actividades, determina que actividades y el orden en que se deben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Aritmético Lógica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aliza operaciones aritm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35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La memoria principal almacena la información de modo consistente. Las instrucciones y los datos están en secciones sepa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Principal – RAM  Random Acess Memory – Volát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Auxiliar – Almacenamiento Secundario – Per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Un  programa esta en la memoria secundaria, cuando se ejecuta pasa ala memoria princip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Cache Almacenamiento intermedio CPU y 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810240" cy="22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fundamental BIT  - (0  - 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YTE = 8 Bits – Unidad fundamental de la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ilobyte (KB)  =  1024 Bytes (2^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gabyte (MB)  =  1024 KB (2^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igabyte (GB)  =  1024 MB (2^3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abyte (TB)  =  1024 GB (2^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taByte (PB)  =  1024TB (2^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3Z</dcterms:modified>
  <cp:revision>57</cp:revision>
  <dc:subject/>
  <dc:title>Computación 1</dc:title>
</cp:coreProperties>
</file>