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423CA4-BA9B-499C-A82E-86FCF62BB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A61206-1223-4F7E-91F1-25267FD3C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85565F-A59A-4527-AD32-DD7240F6D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C389BD-6F52-4666-BF88-5089A49C4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9C91E-1C6F-4C01-A649-E6A2677F0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24C41-1EC1-4CE8-A76F-1476F44C0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604D8-9BA5-41E1-80E7-840174261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98BCE-8716-462E-8680-C80F11C9F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26800-06BC-46D6-98CE-78B1B5AE9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246DD-5B55-438F-9CD9-6F30910D4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7F622-F67C-4CDB-98B4-72BFA46E0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C95E7C-7B18-4EB7-B1BC-59B32EC3B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88803-A1F1-4126-9D28-69EEBC2EB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EC5CD-812A-4299-B4CE-03399E0F6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82A5B-7A61-4A6F-B8E4-24878722F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5D9A0-4673-449E-A12C-108E40158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215EE-BAB4-415F-916B-123C2AD2C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EE3A89-0CEC-4111-AAF4-72C9732AF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B08289-2D9E-4870-A7F8-D762BEC9A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3589FA-9E51-4950-A50F-DDEDD8B83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5343C1-5A08-412C-929A-36CEE69F5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303778-E316-4BB7-9FB2-BFE99D3B0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DE4F21-AA0F-4019-B113-238BD3D51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1300A3-7695-4DC5-BC07-4D6457F62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1F700-A763-4E11-A94C-1C51AF024C8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CEDBA-B308-469E-82A6-BDC644439F7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600" spc="-1" strike="noStrike">
                <a:solidFill>
                  <a:srgbClr val="ffffff"/>
                </a:solidFill>
                <a:latin typeface="Arial"/>
              </a:rPr>
              <a:t>Computación 1 - 2</a:t>
            </a:r>
            <a:endParaRPr b="0" lang="en-US" sz="5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900" spc="-1" strike="noStrike">
                <a:solidFill>
                  <a:srgbClr val="000000"/>
                </a:solidFill>
                <a:latin typeface="Arial"/>
              </a:rPr>
              <a:t>Sergio Floody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Memoria R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68360" y="1413000"/>
            <a:ext cx="82296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a memoria posee en cada celda dos atribu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irección – Indica su posición relativa en la memoria  y mediante la cual se puede acceder para  almacenar o recuperar su conteni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ontenido  – Tambien llamadas palabras ( 8, 16, 32, 64 bits 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484360" y="3860640"/>
            <a:ext cx="5749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9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059280" y="3860640"/>
            <a:ext cx="25923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001010110001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484360" y="4233960"/>
            <a:ext cx="5749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99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059280" y="4233960"/>
            <a:ext cx="25923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00101011000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484360" y="5284800"/>
            <a:ext cx="5749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059280" y="5284800"/>
            <a:ext cx="25923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001010110001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484360" y="5661000"/>
            <a:ext cx="5749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059280" y="5661000"/>
            <a:ext cx="25923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001111111001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484360" y="6033960"/>
            <a:ext cx="5749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059280" y="6033960"/>
            <a:ext cx="25923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00111111100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47640" y="450864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651640" y="4508640"/>
            <a:ext cx="93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6560" y="4292640"/>
            <a:ext cx="13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ire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588000" y="4292640"/>
            <a:ext cx="13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nteni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Memoria RO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68360" y="1413000"/>
            <a:ext cx="82296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Read Only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Memoria de sólo lectura – Contiene las  instrucciones fundamentales que no se pueden modificar o borrar accidentalmente por el usu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Memoria Auxili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68360" y="1413000"/>
            <a:ext cx="82296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D R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V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isket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iscos Du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endr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68360" y="1413000"/>
            <a:ext cx="82296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oftware son los programas indispensables para que la máquina funcione se dividen 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oftware de Siste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oftware de aplic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oftware se puden organizar 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istemas operativ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ompiladores / Intérpre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rogramas Utilita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Sistema Operativ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8360" y="1413000"/>
            <a:ext cx="82296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irve esencialmente para facilitar la escritura y el uso de los programas. Dirige las operaciones globales de la computadora e instruye al computador para ejecutar otros programas y controla el almacenamiento de datos y la recuperación de archiv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e dividen 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Monousua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Multiusuarios o de tiempo comparti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Monot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Multit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Sistema Operativ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68360" y="1413000"/>
            <a:ext cx="82296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omponentes del sistema Opera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Kernel del sistema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: componente centr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Sistema de administración de memoria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: asigna un área de memoria para cada programa que se está ejecutan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Administrador de sistemas de archivos: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organiza y controla los discos dur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Controladores de dispositivos: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organizan y controlan los dispositivos de hardware conectad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Bibliotecas del sistema: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contiene todos los programas utilitarios que se pueden llamar por programas de usuari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Program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68360" y="1413000"/>
            <a:ext cx="82296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rograma es un conjunto de instrucciones que controlan y dirigen a una computado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scribir un programa o software se denomina program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87640" y="3645000"/>
            <a:ext cx="3097080" cy="2520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421080" y="3925800"/>
            <a:ext cx="237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492360" y="4005360"/>
            <a:ext cx="2233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ogra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92360" y="5157720"/>
            <a:ext cx="2233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mputado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659640" y="5153040"/>
            <a:ext cx="22334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mputado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52360" y="5157720"/>
            <a:ext cx="2233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mputado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573440" y="436572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484360" y="5373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724360" y="537372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Program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68360" y="1413000"/>
            <a:ext cx="82296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Relación entre programas de aplicación y de siste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3276720" y="4149720"/>
            <a:ext cx="2730240" cy="197316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2340000" y="3645000"/>
            <a:ext cx="4967280" cy="266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547640" y="2421000"/>
            <a:ext cx="6409080" cy="403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4000" y="2924280"/>
            <a:ext cx="5400720" cy="345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124000" y="3141720"/>
            <a:ext cx="532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ogramas del Sist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547640" y="2492280"/>
            <a:ext cx="633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ogramas de Aplic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Lenguajes de Program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68360" y="1413000"/>
            <a:ext cx="82296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enguajes de Programación Permitir la comunicación entre la persona y la máquina. Poseen instruccio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Tipos de Lenguaj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enguaje de Máqu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enguaje de Bajo Nivel (Assembler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enguaje de Alto Nivel ( Fortran, C, C++,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Tipos de Instruc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Instrucciones de Entrada y Salid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Instrucciones Aritmético – Lógic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Instrucciones Selectiv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Instrucciones Repetitiv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Lenguajes de Program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68360" y="1413000"/>
            <a:ext cx="82296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Lenguaje de Máquina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son aquellos que están escritos en lenguajes directamente inteligibles por la computadora. Sus Instrucciones son cadenas binarias, cadenas de caracteres-números 0 y 1, que especifican la operación y posiciones de memoria implicadas en la operación. El código de máquina es el código binario. Dependen de la computado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Ventaj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e transfieren directamente a la memo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on más rápi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esventaj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ificultad y lentitud en la codific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oca fiabil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ificultad de poner a punto y verificar los program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on solo ejecutables en el computador específ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Organiz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68360" y="2997360"/>
            <a:ext cx="165564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Da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916360" y="2997360"/>
            <a:ext cx="244764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omputad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156360" y="2997360"/>
            <a:ext cx="259236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124000" y="328464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364000" y="328464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84360" y="3860640"/>
            <a:ext cx="12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ntr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348000" y="386064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oce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659640" y="386064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al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Lenguajes de Program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68360" y="1413000"/>
            <a:ext cx="82296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Lenguaje Ensambladores o Assembler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. Son más faciles de usar que el lenguaje de máquina pero dependen del computador en particular. Usan instrucciones nemotécn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DD, M, N, 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ignifica sumar el número contenido en la posición M al número almacenado en la posición N y situar el resultado en la posición 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0110    1001    1010     1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ignifica lo mismo escrito en lenguaje de máqui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95280" y="4724280"/>
            <a:ext cx="24480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ograma Fuente en Assemb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276720" y="4581360"/>
            <a:ext cx="208908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ograma ENSAMBLA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semb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867280" y="4724280"/>
            <a:ext cx="24480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ograma Objeto en Código de Máqu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3280" y="508464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364000" y="501336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Lenguajes de Program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68360" y="1413000"/>
            <a:ext cx="82296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Lenguaje de Alto Nivel: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stán diseñados para que las personas escriban y entiendan los programas de manera más fácil. Son independientes de la máquina, es decir son port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Ventaj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iempo mucho más corto de program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 escritura se basa en reglas sintácticas similares a los lenguajes huma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s modificaciones y la depuración del código es más simp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ducción de cost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ransportablid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Desventaj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 puesta a punto es más demoros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o se aprovechan todos los recurs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umento en la ocupación de memo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iempo de ejecución más lar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Lenguajes de Program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68360" y="1413000"/>
            <a:ext cx="82296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Interpretes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Toma una instrucción en el lenguaje fuente , la traduce y a continuación lo ejecuta (Basic, Matla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987640" y="2795760"/>
            <a:ext cx="25923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ograma Fu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987640" y="3932280"/>
            <a:ext cx="25923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terpr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982960" y="5299200"/>
            <a:ext cx="25923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raducción y Ejecución Línea a Lín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284720" y="314172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29264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Lenguajes de Program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68360" y="1413000"/>
            <a:ext cx="82296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Compilador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Un lenguaje de alto nivel no es comprendido directamente por la máquina, esta traducción se hace a través de un compilad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987640" y="2349360"/>
            <a:ext cx="25923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ograma Fu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987640" y="3125880"/>
            <a:ext cx="25923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mpila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987640" y="5599080"/>
            <a:ext cx="25923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ograma ejecutable en lenguaje de máqu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987640" y="3933720"/>
            <a:ext cx="25923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ograma Obje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987640" y="4792680"/>
            <a:ext cx="25923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in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270828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284720" y="3505320"/>
            <a:ext cx="0" cy="42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84720" y="4368960"/>
            <a:ext cx="0" cy="42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284720" y="515304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796000" y="414972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595920" y="3822840"/>
            <a:ext cx="16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enguaje de bajo ni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Capacidades de una Computador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68360" y="1413000"/>
            <a:ext cx="82296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eptar la entra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sualizar y presentar la sali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macenar la información en un formato lógicamente consist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jecutar operaciones aritméticas y lógicas sobre los datos de entrada y sali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itorizar, controlar y dirigir las operaciones globales y de secuencia del sistem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Hardwa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39640" y="2997360"/>
            <a:ext cx="165600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Da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012000" y="2997360"/>
            <a:ext cx="259236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124000" y="328464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364000" y="328464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84360" y="3860640"/>
            <a:ext cx="12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ntr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276720" y="623736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oce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659640" y="386064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al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556000" y="1484280"/>
            <a:ext cx="3168360" cy="453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48000" y="3243240"/>
            <a:ext cx="1655640" cy="133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AL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Unidad Aritmética Lóg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48000" y="4813200"/>
            <a:ext cx="165564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Unidad de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771640" y="1844640"/>
            <a:ext cx="27370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Unidad Central de Proce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84360" y="5516640"/>
            <a:ext cx="129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emo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300720" y="5445000"/>
            <a:ext cx="219564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lmacenamiento Secunda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835280" y="573408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59280" y="5734080"/>
            <a:ext cx="165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CPU Unidad Central de Proces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68360" y="1413000"/>
            <a:ext cx="82296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ispositivo que ejecuta las instrucciones de programa. Ejecuta procesos muy simples, tales como cálculos aritméticos, o desplazamientos de números por diferentes posiciones. Sin embargo o puede hacer con gran rapidez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UCP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dirige controla el proceso de información en la memoria (datos e instruccione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lmacena Da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Unidad de Control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CU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, coordina actividades, determina que actividades y el orden en que se deben realiz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Unidad Aritmético Lógica 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ALU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realiza operaciones aritmétic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CPU Unidad Central de Proces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68360" y="1413000"/>
            <a:ext cx="82296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692360" y="1916280"/>
            <a:ext cx="6113520" cy="40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Memor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68360" y="1413000"/>
            <a:ext cx="82296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5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000000"/>
                </a:solidFill>
                <a:latin typeface="Arial"/>
              </a:rPr>
              <a:t>La memoria principal almacena la información de modo consistente. Las instrucciones y los datos están en secciones separada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5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5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000000"/>
                </a:solidFill>
                <a:latin typeface="Arial"/>
              </a:rPr>
              <a:t>Memoria Principal – RAM  Random Acess Memory – Volátil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5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5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000000"/>
                </a:solidFill>
                <a:latin typeface="Arial"/>
              </a:rPr>
              <a:t>Memoria Auxiliar – Almacenamiento Secundario – Permanente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5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5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000000"/>
                </a:solidFill>
                <a:latin typeface="Arial"/>
              </a:rPr>
              <a:t>Un  programa esta en la memoria secundaria, cuando se ejecuta pasa ala memoria principal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5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5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000000"/>
                </a:solidFill>
                <a:latin typeface="Arial"/>
              </a:rPr>
              <a:t>Memoria Cache Almacenamiento intermedio CPU y RAM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Memoria R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68360" y="1413000"/>
            <a:ext cx="82296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539640" y="2276640"/>
            <a:ext cx="3810240" cy="223812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4211640" y="2708280"/>
            <a:ext cx="4216320" cy="31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Memoria R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8360" y="1413000"/>
            <a:ext cx="82296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Unidad fundamental BIT  - (0  -  1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BYTE = 8 Bits – Unidad fundamental de la memor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Kilobyte (KB)  =  1024 Bytes (2^10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Megabyte (MB)  =  1024 KB (2^20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Gigabyte (GB)  =  1024 MB (2^30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Terabyte (TB)  =  1024 GB (2^40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etaByte (PB)  =  1024TB (2^50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9T12:53:45Z</dcterms:created>
  <dc:creator>Eddie</dc:creator>
  <dc:description/>
  <dc:language>en-US</dc:language>
  <cp:lastModifiedBy>Eddie</cp:lastModifiedBy>
  <dcterms:modified xsi:type="dcterms:W3CDTF">2009-08-04T14:36:53Z</dcterms:modified>
  <cp:revision>57</cp:revision>
  <dc:subject/>
  <dc:title>Computación 1</dc:title>
</cp:coreProperties>
</file>