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9F96-5CDB-4969-8F11-7801DA73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DEFD-95C4-473B-BFD7-B678F9AE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8438-D3FC-43AA-82E2-DBCFAF0B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312D-C6A3-4FC8-B600-E904436E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F3D8-584F-4362-8D4F-C9463F5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D5B-8974-4962-98BD-A6F5FB8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459F-DE53-43B1-A56E-2C3D026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FD79-DF4E-4E4D-BAAB-30215CA8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9953-C505-4EE3-9D72-F694D15F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6A7E-535B-4742-953D-4ECDA01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42E3-0FBE-4D6F-8E0F-24E264F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0579-9072-4FC6-898A-379D938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5958-7D57-4B01-BF1E-C9ECAFA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F016-2B55-4F29-8C9B-333C939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A60C-F54E-4BAE-A2CA-892E8D0B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869F-6AE0-42EE-8AE1-222DCCD9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6340-DEBE-456E-B919-AC7456F0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4021-C30B-4524-85BA-526C4AA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3C1D-D4DB-42F3-B7C7-E084E8F6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F330-1DD6-4181-9E9B-E8ED337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1FBE-3B8C-4143-8BDA-1290EFCF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EB5C-D846-4D71-AAA6-FF34224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7046-2BFC-4D70-B70C-FA83E87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650E-93EE-4BCB-96C0-3C74330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125-BCA5-4254-ACDE-7736EEDF1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DEB-BD26-4960-BA6F-F5976680B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2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emoria posee en cada celda dos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rección – Indica su posición relativa en la memoria  y mediante la cual se puede acceder para  almacenar o recuperar su conte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enido  – Tambien llamadas palabras ( 8, 16, 32, 64 bit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386064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9280" y="3860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42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52848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52848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010110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566100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566100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6033960"/>
            <a:ext cx="574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60339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0111111100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450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450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429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d 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moria de sólo lectura – Contiene las  instrucciones fundamentales que no se pueden modificar o borrar accidentalmente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Aux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k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cos D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n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on los programas indispensables para que la máquina funcione 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ftware de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ftware se puden organiz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s oper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iladores / Intérpr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s Util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rve esencialmente para facilitar la escritura y el uso de los programas. Dirige las operaciones globales de la computadora e instruye al computador para ejecutar otros programas y controla el almacenamiento de datos y la recuperación de arch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usuarios o de tiempo compar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o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t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onentes del sistema Op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ernel del sistem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componente 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stema de administración de memori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asigna un área de memoria para cada programa que se está ejecuta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dministrador de sistemas de arch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 y controla los discos d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troladores de dispositivo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organizan y controlan los dispositivos de hardware 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ibliotecas del sistema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 todos los programas utilitarios que se pueden llamar por programas de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es un conjunto de instrucciones que controlan y dirigen a un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ribir un programa o software se denomina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3645000"/>
            <a:ext cx="3097080" cy="25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1080" y="39258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400536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153040"/>
            <a:ext cx="22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5157720"/>
            <a:ext cx="223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u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24360" y="537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entre programas de aplicación y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730240" cy="19731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340000" y="3645000"/>
            <a:ext cx="4967280" cy="26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2421000"/>
            <a:ext cx="64090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2924280"/>
            <a:ext cx="540072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314172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2492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s 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jes de Programación Permitir la comunicación entre la persona y la máquina. Poseen instru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Lengu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Bajo Nivel (Assembl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nguaje de Alto Nivel ( Fortran, C, C++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de Entrada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Aritmético – Ló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truccione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on aquellos que están escritos en lenguajes directamente inteligibles por la computadora. Sus Instrucciones son cadenas binarias, cadenas de caracteres-números 0 y 1, que especifican la operación y posiciones de memoria implicadas en la operación. El código de máquina es el código binario. Dependen de la computad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transfieren directamente a la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más ráp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y lentitud en la cod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ca f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icultad de poner a punto y verificar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solo ejecutables en el computador especí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997360"/>
            <a:ext cx="165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997360"/>
            <a:ext cx="2447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86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Ensambladores o Assemble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Son más faciles de usar que el lenguaje de máquina pero dependen del computador en particular. Usan instrucciones nemo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D, M, N,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sumar el número contenido en la posición M al número almacenado en la posición N y situar el resultado en la posició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110    1001    1010     1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 lo mismo escrito en lenguaje de máqu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 en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581360"/>
            <a:ext cx="208908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NSAMB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724280"/>
            <a:ext cx="2448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 en Código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5084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01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enguaje de Alto Nive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diseñados para que las personas escriban y entiendan los programas de manera más fácil. Son independientes de la máquina, es decir son por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entaj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mucho más corto de progra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scritura se basa en reglas sintácticas similares a los lenguaj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modificaciones y la depuración del código es más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ucción de c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portab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vent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uesta a punto es más demor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se aprovechan todos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en la ocupación de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 ejecución más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terprete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ma una instrucción en el lenguaje fuente , la traduce y a continuación lo ejecuta (Basic, Matl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27957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39322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2960" y="5299200"/>
            <a:ext cx="2592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ducción y Ejecución Línea a Lí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nguajes de Progr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mpilado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lenguaje de alto nivel no es comprendido directamente por la máquina, esta traducción se hace a través de un compi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349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31258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i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5599080"/>
            <a:ext cx="259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ejecutable en lenguaje de máqu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393372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26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27082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350532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36896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51530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95920" y="38228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nguaje de bajo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pacidades de un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ptar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y presentar la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acenar la información en un formato lógicamente con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utar operaciones aritméticas y lógicas sobre los datos de entrada y 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zar, controlar y dirigir las operaciones globales y de secuencia de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997360"/>
            <a:ext cx="1656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2997360"/>
            <a:ext cx="2592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328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60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237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1484280"/>
            <a:ext cx="3168360" cy="453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3243240"/>
            <a:ext cx="165564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Aritmética 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4813200"/>
            <a:ext cx="165564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844640"/>
            <a:ext cx="27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ad Central de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551664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5445000"/>
            <a:ext cx="2195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miento 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7340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 que ejecuta las instrucciones de programa. Ejecuta procesos muy simples, tales como cálculos aritméticos, o desplazamientos de números por diferentes posiciones. Sin embargo o puede hacer con gran rap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C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rige controla el proceso de información en la memoria (datos e instruc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Contr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oordina actividades, determina que actividades y el orden en que se deben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Aritmético Lógica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realiza operaciones aritmé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PU Unidad Central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135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La memoria principal almacena la información de modo consistente. Las instrucciones y los datos están en secciones separad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Principal – RAM  Random Acess Memory – Voláti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Auxiliar – Almacenamiento Secundario – Perman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Un  programa esta en la memoria secundaria, cuando se ejecuta pasa ala memoria princip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Memoria Cache Almacenamiento intermedio CPU y 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810240" cy="223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moria 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fundamental BIT  - (0  - 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YTE = 8 Bits – Unidad fundamental de la mem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ilobyte (KB)  =  1024 Bytes (2^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gabyte (MB)  =  1024 KB (2^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igabyte (GB)  =  1024 MB (2^3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abyte (TB)  =  1024 GB (2^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taByte (PB)  =  1024TB (2^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3Z</dcterms:modified>
  <cp:revision>57</cp:revision>
  <dc:subject/>
  <dc:title>Computación 1</dc:title>
</cp:coreProperties>
</file>