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B2543B-CED9-4A1C-8A0F-D91D2DE05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AE04F4-C9B0-4EF1-89A3-FA6E99439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42FA1F-F62A-45BD-9B74-EF4D6780C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00DBF2-E8FB-44B2-A0E8-1DDADF3F5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7FDF9-895B-4386-B632-86B82E3A4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84222-10C6-4CEA-AD3B-EAF4667F1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64D0D-3C97-4685-A23D-FE796ADEE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14437-B764-4CB9-8B7A-A82032BC8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E560F-A2D6-4E2C-9CA1-BB7A00A37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DFF4F-A564-48A0-A6BD-F2E14A16D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C99C1-63E7-41E8-9A22-4B7ED125E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3B7FCF-F125-42FA-AAFA-F85EAF09D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B24C6-F37F-4C74-A0AC-C50C84C37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97DC6-79CC-4F58-AAAB-47CD3D6C2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E7B2C-6580-4559-A90A-884650AF2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F0C15-1734-4A96-91B8-1728DEBAC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5CBA2-2300-42BC-8CB7-446E1E395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72AE3E-24B0-432E-8166-B217760E3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62AE72-1BB7-4877-BB25-C39B60120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9FF97F-1B22-476D-B351-E6F417810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B58C43-5C5E-4637-8881-5A1B52D17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3EBA48-D2A5-4F42-8566-BCAEA53A1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9205D2-DF7C-4666-9521-4192950B3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0943F9-E44A-40B6-87FF-CC73ED630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A5872-A168-4C6F-B0AE-BCFB66CE189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88AA3-B350-410E-BA2E-A9435331F5D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600" spc="-1" strike="noStrike">
                <a:solidFill>
                  <a:srgbClr val="ffffff"/>
                </a:solidFill>
                <a:latin typeface="Arial"/>
              </a:rPr>
              <a:t>Computación 1 - 3</a:t>
            </a:r>
            <a:endParaRPr b="0" lang="en-US" sz="5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900" spc="-1" strike="noStrike">
                <a:solidFill>
                  <a:srgbClr val="000000"/>
                </a:solidFill>
                <a:latin typeface="Arial"/>
              </a:rPr>
              <a:t>Sergio Floody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rogramación Estructur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68360" y="1413000"/>
            <a:ext cx="828036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rograma de diseño modul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Módulos en orden descend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structuras de control básic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structuras secuenci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structuras selectiv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structuras repetitiv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rograma Prop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Un solo punto de entrada y uno de salida o f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xisten caminos desde la entrada a la salida que pasan por todos los puntos del progra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Todas las instrucciones de un programa son ejecutables y no existen lazos infini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lgorít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68360" y="1413000"/>
            <a:ext cx="828036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lgoritmo: método para resolver un proble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lgoritmo + Estructura de Datos = Progra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aracterístic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reciso, debe indicar orden paso a pas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finido, si se sigue el algoritmo 2 veces se debe obtener el mismo result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inito, debe terminar en algún momen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jemplo determinar si un número es primo o 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jemplo determinar el área y la circunferencia de un círcul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iagrama de Fluj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84360" y="1341360"/>
            <a:ext cx="914400" cy="304920"/>
          </a:xfrm>
          <a:prstGeom prst="flowChartTerminator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1280" y="2133720"/>
            <a:ext cx="914400" cy="609480"/>
          </a:xfrm>
          <a:prstGeom prst="flowChartInputOutpu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39640" y="3214800"/>
            <a:ext cx="914400" cy="609480"/>
          </a:xfrm>
          <a:prstGeom prst="flowChart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39640" y="4149720"/>
            <a:ext cx="914400" cy="609480"/>
          </a:xfrm>
          <a:prstGeom prst="flowChartDecision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68360" y="5157720"/>
            <a:ext cx="914400" cy="609840"/>
          </a:xfrm>
          <a:prstGeom prst="flowChartPredefined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835280" y="134136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icio/F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8000" y="220500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ntrada/sal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979640" y="328608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ce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835280" y="436572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cis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35280" y="5157720"/>
            <a:ext cx="12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ubru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148360" y="2098800"/>
            <a:ext cx="457200" cy="457200"/>
          </a:xfrm>
          <a:prstGeom prst="flowChartConnector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19640" y="3106800"/>
            <a:ext cx="609840" cy="609480"/>
          </a:xfrm>
          <a:prstGeom prst="flowChartOffpageConnector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227640" y="217188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nector dentro de una pag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227640" y="304164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nector fuera de una pag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076720" y="411480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443640" y="397188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íneas conecto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003640" y="4475160"/>
            <a:ext cx="914400" cy="609480"/>
          </a:xfrm>
          <a:prstGeom prst="flowChartDocumen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03640" y="5338800"/>
            <a:ext cx="914400" cy="457200"/>
          </a:xfrm>
          <a:prstGeom prst="flowChartManualInpu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03640" y="6059520"/>
            <a:ext cx="914400" cy="609480"/>
          </a:xfrm>
          <a:prstGeom prst="flowChartDisplay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516720" y="454644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mpreso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443640" y="54118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ecl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372360" y="620388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ntal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95280" y="6021360"/>
            <a:ext cx="914400" cy="609480"/>
          </a:xfrm>
          <a:prstGeom prst="flowChartMagneticDisk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474920" y="616572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sco du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932360" y="1268280"/>
            <a:ext cx="1062000" cy="609840"/>
          </a:xfrm>
          <a:prstGeom prst="flowChartPreparation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00720" y="1268280"/>
            <a:ext cx="19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peti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635280" y="4365720"/>
            <a:ext cx="609840" cy="609480"/>
          </a:xfrm>
          <a:prstGeom prst="flowChartMagneticTap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Fases en la resolución de Problem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68360" y="1413000"/>
            <a:ext cx="82296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nálisis del proble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iseño del algoritm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dificación en lenguaj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mpilación y ejecu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Verific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epuración (bug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Mantenimi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ocument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Análisis del proble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68360" y="1413000"/>
            <a:ext cx="82296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lara definición que contemple exactamente lo que debe hacer el programa, el resultado y la solución desea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¿Qué entradas requieren – Tipo y cantida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¿Qué salidas son las deseadas  - Tipo y cantida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¿Que método produce la salida desead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jemplo de depreciación de un Auto – Determin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preciación – Depreciación Acumulada – Valor An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1116000" y="4941720"/>
                <a:ext cx="6516720" cy="92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preciación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to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Taza</m:t>
                    </m:r>
                    <m:m>
                      <m:mr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Diseño del Algoritm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68360" y="1413000"/>
            <a:ext cx="82296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iseño Modular  - Dividir y Ven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iseño descend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efinamiento sucesiv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rograma Princip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ubprogram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os módulos deben s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lanific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dific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mprob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rogramados separadam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pur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64000" y="4941720"/>
            <a:ext cx="18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paradam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076720" y="4365720"/>
            <a:ext cx="142920" cy="1655640"/>
          </a:xfrm>
          <a:custGeom>
            <a:avLst/>
            <a:gdLst>
              <a:gd name="textAreaLeft" fmla="*/ 0 w 142920"/>
              <a:gd name="textAreaRight" fmla="*/ 51480 w 142920"/>
              <a:gd name="textAreaTop" fmla="*/ 42840 h 1655640"/>
              <a:gd name="textAreaBottom" fmla="*/ 1612800 h 165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Herramientas de Program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68360" y="1413000"/>
            <a:ext cx="82296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seudocódigo: Las instrucciones se escriben en palabras similares al castellano., es un lenguaje de especificación para algorit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iagrama de Flujo: es una notación gráfica que representa el flujo de información y los diferentes proces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580000" y="3933720"/>
            <a:ext cx="2592360" cy="609840"/>
          </a:xfrm>
          <a:prstGeom prst="flowChart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580000" y="4835520"/>
            <a:ext cx="2592360" cy="609480"/>
          </a:xfrm>
          <a:prstGeom prst="flowChartAlternate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796000" y="5699160"/>
            <a:ext cx="2521080" cy="609480"/>
          </a:xfrm>
          <a:prstGeom prst="flowChartDecision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47640" y="3860640"/>
            <a:ext cx="2592720" cy="609840"/>
          </a:xfrm>
          <a:prstGeom prst="flowChartPredefined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476360" y="4764240"/>
            <a:ext cx="2592360" cy="609480"/>
          </a:xfrm>
          <a:prstGeom prst="flowChartInputOutpu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013440" y="407664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ce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372360" y="4979880"/>
            <a:ext cx="18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erm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981080" y="393228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ubprogra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906560" y="4835520"/>
            <a:ext cx="201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ntrada/Sal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372360" y="584352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cis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476360" y="5589720"/>
            <a:ext cx="1944720" cy="576000"/>
          </a:xfrm>
          <a:prstGeom prst="flowChartTerminator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835280" y="573408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icio/F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Codific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68360" y="1413000"/>
            <a:ext cx="82296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n la practica corresponde a la substitución de las palabras reservadas de un lenguaje de programación en el algoritmo escrito en pseudocódig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5280" y="3357720"/>
            <a:ext cx="84978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#pragma package(smart_in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#pragma resource "*.dfm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Form1 *Form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__fastcall TForm1::TForm1(TComponent* Own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TForm(Own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oid __fastc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Documentación Inter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68360" y="1413000"/>
            <a:ext cx="82296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e divide en Documentación Interna y Exter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ocumentación Interna: Corresponde a los comentarios que sirven para aclarar el proce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ocumentación Externa: manuales, diagramas de flujo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68360" y="3860640"/>
            <a:ext cx="82296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ompilación y Ejecución de un progra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68360" y="4724280"/>
            <a:ext cx="822960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rograma Fu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mpilación -  Programa Obje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inker – Programa Ejecu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Verificación y Depuración de un progra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68360" y="1413000"/>
            <a:ext cx="82296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rrores de Compilación  - Errores de sintaxis del lenguaje de program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rrores de Ejecución – Comprende instrucción pero no tiene sentido llevarla a cabo, ejemplo dividir por ce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rrores Lógicos -  Aquello programado no corresponde con el diseño inicial requeri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68360" y="364500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ocumentación y Mantenimi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68360" y="4508640"/>
            <a:ext cx="82296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s vital para corregir y mejorar un progra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rogramación Modu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348000" y="1484280"/>
            <a:ext cx="18716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ai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68360" y="2565360"/>
            <a:ext cx="18716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od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348000" y="2565360"/>
            <a:ext cx="18716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od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588000" y="2565360"/>
            <a:ext cx="18716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od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95280" y="3357720"/>
            <a:ext cx="18716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od 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411280" y="3357720"/>
            <a:ext cx="18716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od 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140360" y="4005360"/>
            <a:ext cx="18716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od 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132000" y="4924440"/>
            <a:ext cx="18716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od 2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76720" y="4924440"/>
            <a:ext cx="18716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od 2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227640" y="3989520"/>
            <a:ext cx="18716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od 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619280" y="2133720"/>
            <a:ext cx="619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619280" y="213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284720" y="213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812000" y="213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141720"/>
            <a:ext cx="30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258920" y="2924280"/>
            <a:ext cx="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1417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492360" y="31417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500720" y="3789360"/>
            <a:ext cx="295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500720" y="3789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451640" y="3789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859280" y="2924280"/>
            <a:ext cx="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780000" y="4653000"/>
            <a:ext cx="26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003640" y="4365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780000" y="465300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443640" y="465300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219640" y="6093000"/>
            <a:ext cx="18716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od 2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164360" y="6093000"/>
            <a:ext cx="18716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od 2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867280" y="5821200"/>
            <a:ext cx="266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308720" y="4365720"/>
            <a:ext cx="0" cy="1438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867280" y="582120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8531280" y="582120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284720" y="1844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9T12:53:45Z</dcterms:created>
  <dc:creator>Eddie</dc:creator>
  <dc:description/>
  <dc:language>en-US</dc:language>
  <cp:lastModifiedBy>Eddie</cp:lastModifiedBy>
  <dcterms:modified xsi:type="dcterms:W3CDTF">2009-08-04T14:36:50Z</dcterms:modified>
  <cp:revision>65</cp:revision>
  <dc:subject/>
  <dc:title>Computación 1</dc:title>
</cp:coreProperties>
</file>