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36DB-7FEC-4594-96AA-C36E9499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05D7-549A-4DE4-89E2-75365E6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CB2E-E6A6-484C-A170-3CFABAE7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2AD9-8670-49B1-9B89-EA52FEDE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F4F-C1E8-4155-913C-7A39BA56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59AA-A907-4C5A-8259-CD5A15F5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C3D-EC2F-4A6C-AED4-4660242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A1A8-AAE4-4785-9D40-DA24334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AF36-C98F-47D0-A903-4ED8449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242-90F8-464C-B10F-4329A81F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D11-CB6B-45D0-B396-14B08C5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DBB0-4C2D-405C-BF75-8060CDAC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A826-4930-4D2D-94AD-D71D809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F60-411E-407F-9C02-BDB3CD8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D16F-F199-4777-97AA-E3C8E697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3288-F23B-4711-96EF-2AB8749A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DFA-3857-4EFD-8662-CFFC7F55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08CF-E9B2-446A-9328-738A28C7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DC74-EA63-4947-A091-28552C9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6672-F0AA-445D-94D2-AB0D4D6A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A53C-7716-4A4D-B1AB-AC13F23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8C9A-DBEF-402F-AABA-A110D61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CB46-F5F6-429D-B825-478B221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116D-3D6E-4E83-AEB2-B3B0A5F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31E-A662-4B8E-BFDF-347D761C5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7298-EA09-4126-A020-974D9D080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34136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33720"/>
            <a:ext cx="91440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2148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149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157720"/>
            <a:ext cx="91440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20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3286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5157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u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09880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3106800"/>
            <a:ext cx="609840" cy="60948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171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dentro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041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fuera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1148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3971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neas conec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475160"/>
            <a:ext cx="914400" cy="60948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5338800"/>
            <a:ext cx="914400" cy="457200"/>
          </a:xfrm>
          <a:prstGeom prst="flowChartManualIn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6059520"/>
            <a:ext cx="91440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546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411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6203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021360"/>
            <a:ext cx="914400" cy="60948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492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126828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26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4365720"/>
            <a:ext cx="609840" cy="609480"/>
          </a:xfrm>
          <a:prstGeom prst="flowChartMagnetic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ases en la resolución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l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l algorit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dificación en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y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uración (bu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nálisis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ra definición que contemple exactamente lo que debe hacer el programa, el resultado y la solución dese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entradas requieren –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salidas son las deseadas  -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e método produce la salida des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 depreciación de un Auto –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ciación – Depreciación Acumulada – Valor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16000" y="4941720"/>
                <a:ext cx="6516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preciació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za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seño del Algorit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odular  - Dividir y V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finamiento suc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ódulos deben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d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ro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para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4365720"/>
            <a:ext cx="142920" cy="1655640"/>
          </a:xfrm>
          <a:custGeom>
            <a:avLst/>
            <a:gdLst>
              <a:gd name="textAreaLeft" fmla="*/ 0 w 142920"/>
              <a:gd name="textAreaRight" fmla="*/ 51480 w 142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rogr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eudocódigo: Las instrucciones se escriben en palabras similares al castellano., es un lenguaje de especificación para 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agrama de Flujo: es una notación gráfica que representa el flujo de información y los diferente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933720"/>
            <a:ext cx="259236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835520"/>
            <a:ext cx="259236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5699160"/>
            <a:ext cx="252108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3860640"/>
            <a:ext cx="259272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64240"/>
            <a:ext cx="259236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344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49798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932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6560" y="48355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5843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589720"/>
            <a:ext cx="1944720" cy="57600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practica corresponde a la substitución de las palabras reservadas de un lenguaje de programación en el algoritmo escrito en pseudo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35772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cument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 en Documentación Interna y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Interna: Corresponde a los comentarios que sirven para aclarar 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Externa: manuales, diagramas de fluj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60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ilación y Ejecu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F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-  Programa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nker – Programa Ej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ificación y Depura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1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Compilación  - Errores de sintaxis del lenguaje de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Ejecución – Comprende instrucción pero no tiene sentido llevarla a cabo, ejemplo dividir por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Lógicos -  Aquello programado no corresponde con el diseño inicial requ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cumentación y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vital para corregir y mejorar un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484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00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39895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21337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141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789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92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65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58212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1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0Z</dcterms:modified>
  <cp:revision>65</cp:revision>
  <dc:subject/>
  <dc:title>Computación 1</dc:title>
</cp:coreProperties>
</file>