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5580B-F796-4275-8C8C-E56128BE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BBFFC-5D6A-4A05-BFCD-D6FA4EFE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528EF-B15A-4FDE-B499-9B5D56F7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B66CA-4B1E-4C39-96C3-8D9598EF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B4D5-02B1-4263-B9EF-3E2FAF9B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1A5E-7BFA-4E86-A491-EB0680FD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56CB-708E-498F-BECD-7508F10F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7F3F-4C93-47AE-94E2-CCB97785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7F6B-C20B-4F2E-ADF2-57614FD2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F5DB-1B8A-42A9-8AB3-1E1FD125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E447-40FF-421A-BC2F-E1122FF4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FA894-BF69-43E2-BF45-396B63A1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F9A2-ED9D-4BD1-82EB-535DFFF4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3096-C8E3-4CB6-BE6A-FA98AD54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E38C-A041-4E9E-80C0-CBA8D1B0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362D-A4EE-44BA-878C-E6643FC2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A87B-53E7-4107-BB74-390DF792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B5556-46BA-48E7-90F3-F030BB93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E4E36-7A25-428B-B16F-D7FD65B8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64A23-D1BA-4A71-80B0-974C747C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2D4CD-856E-4383-8D3A-A1D50FEA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29C30-B542-4398-BFEB-9C7D7866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95EEA-B09D-48CB-9A63-9C6CEC1B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227D8-1CAD-4F64-B06F-93FBA38D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D376-3234-4985-BE8B-F2D470C78B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097C-05EA-459F-BABC-BCEB3BD859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1 - 3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gramación Estructu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de diseño mod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ódulos en orden descen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s de control bás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secu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sel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repet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Prop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solo punto de entrada y uno de salida o f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sten caminos desde la entrada a la salida que pasan por todos los puntos del prog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das las instrucciones de un programa son ejecutables y no existen lazos infin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gorít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goritmo: método para resolver un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goritmo + Estructura de Datos =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ciso, debe indicar orden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ido, si se sigue el algoritmo 2 veces se debe obtener el mismo resul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ito, debe terminar en algún mo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 determinar si un número es primo o 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 determinar el área y la circunferencia de un círc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1341360"/>
            <a:ext cx="914400" cy="304920"/>
          </a:xfrm>
          <a:prstGeom prst="flowChartTermina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2133720"/>
            <a:ext cx="914400" cy="609480"/>
          </a:xfrm>
          <a:prstGeom prst="flowChartInputOutpu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321480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414972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5157720"/>
            <a:ext cx="914400" cy="609840"/>
          </a:xfrm>
          <a:prstGeom prst="flowChartPredefined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35280" y="1341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o/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8000" y="2205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/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79640" y="3286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35280" y="4365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35280" y="515772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ru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8360" y="2098800"/>
            <a:ext cx="457200" cy="45720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19640" y="3106800"/>
            <a:ext cx="609840" cy="609480"/>
          </a:xfrm>
          <a:prstGeom prst="flowChartOffpage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21718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ector dentro de una p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27640" y="3041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ector fuera de una p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76720" y="41148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3640" y="39718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íneas conect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03640" y="4475160"/>
            <a:ext cx="914400" cy="609480"/>
          </a:xfrm>
          <a:prstGeom prst="flowChartDocumen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3640" y="5338800"/>
            <a:ext cx="914400" cy="457200"/>
          </a:xfrm>
          <a:prstGeom prst="flowChartManualInpu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03640" y="6059520"/>
            <a:ext cx="914400" cy="609480"/>
          </a:xfrm>
          <a:prstGeom prst="flowChartDisplay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16720" y="45464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r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5411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72360" y="62038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nt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6021360"/>
            <a:ext cx="914400" cy="60948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492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co d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32360" y="1268280"/>
            <a:ext cx="1062000" cy="609840"/>
          </a:xfrm>
          <a:prstGeom prst="flowChartPreparat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00720" y="126828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et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35280" y="4365720"/>
            <a:ext cx="609840" cy="609480"/>
          </a:xfrm>
          <a:prstGeom prst="flowChartMagneticTap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ases en la resolución de Proble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del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del algorit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dificación en lengu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ilación y ejec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r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uración (bug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ten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cu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nálisis del probl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ara definición que contemple exactamente lo que debe hacer el programa, el resultado y la solución dese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é entradas requieren – Tipo y cant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é salidas son las deseadas  - Tipo y cant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e método produce la salida dese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 de depreciación de un Auto – Determin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preciación – Depreciación Acumulada – Valor 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116000" y="4941720"/>
                <a:ext cx="65167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preciació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to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aza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iseño del Algorit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eño Modular  - Dividir y Ven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eño descen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finamiento suces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Princip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bprogra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módulos deben 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ifi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difi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rob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amados separad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pu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494172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parad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76720" y="4365720"/>
            <a:ext cx="142920" cy="1655640"/>
          </a:xfrm>
          <a:custGeom>
            <a:avLst/>
            <a:gdLst>
              <a:gd name="textAreaLeft" fmla="*/ 0 w 142920"/>
              <a:gd name="textAreaRight" fmla="*/ 51480 w 14292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Herramientas de Program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seudocódigo: Las instrucciones se escriben en palabras similares al castellano., es un lenguaje de especificación para algorit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agrama de Flujo: es una notación gráfica que representa el flujo de información y los diferentes proce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3933720"/>
            <a:ext cx="259236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0000" y="4835520"/>
            <a:ext cx="2592360" cy="6094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5699160"/>
            <a:ext cx="252108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3860640"/>
            <a:ext cx="2592720" cy="609840"/>
          </a:xfrm>
          <a:prstGeom prst="flowChartPredefined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4764240"/>
            <a:ext cx="2592360" cy="609480"/>
          </a:xfrm>
          <a:prstGeom prst="flowChartInputOutpu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3440" y="407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49798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3932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6560" y="483552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/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58435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6360" y="5589720"/>
            <a:ext cx="1944720" cy="576000"/>
          </a:xfrm>
          <a:prstGeom prst="flowChartTermina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5734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o/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difi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la practica corresponde a la substitución de las palabras reservadas de un lenguaje de programación en el algoritmo escrito en pseudocódi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3357720"/>
            <a:ext cx="84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ocumentación Inte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ivide en Documentación Interna y Ex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cumentación Interna: Corresponde a los comentarios que sirven para aclarar el proc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cumentación Externa: manuales, diagramas de fluj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860640"/>
            <a:ext cx="82296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ilación y Ejecución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4724280"/>
            <a:ext cx="82296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Fu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ilación -  Programa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inker – Programa Ejec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rificación y Depuración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41300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rrores de Compilación  - Errores de sintaxis del lenguaje de progra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rrores de Ejecución – Comprende instrucción pero no tiene sentido llevarla a cabo, ejemplo dividir por c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rrores Lógicos -  Aquello programado no corresponde con el diseño inicial requer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3645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cumentación y Manten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50864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vital para corregir y mejorar un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gramación Mod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148428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56536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48000" y="256536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88000" y="256536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35772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11280" y="335772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400536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492444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76720" y="492444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27640" y="398952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19280" y="2133720"/>
            <a:ext cx="61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472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1200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1417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5892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9236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3789360"/>
            <a:ext cx="29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378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51640" y="378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2924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80000" y="46530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0364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8000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364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609300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64360" y="609300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582120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4365720"/>
            <a:ext cx="0" cy="143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58212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531280" y="58212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184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8-04T14:36:50Z</dcterms:modified>
  <cp:revision>65</cp:revision>
  <dc:subject/>
  <dc:title>Computación 1</dc:title>
</cp:coreProperties>
</file>