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88B1-06F3-4AC4-8021-B8ACC6C6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A6BC-EC62-4839-A6FF-8ABB748D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A826-D3D8-4E46-8480-FEFCF5D0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3034-05C8-4ACF-A0AC-AE691AEA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8357-9235-4AD8-81F3-A4025113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E362-CA2B-435B-8BDE-46E7BCA0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B9CF-3CE8-49D2-AC42-C1B59D3C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0B55-FB20-4DAE-BB5F-7149453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C492-CD9E-49BE-9FE6-3DC5DAC7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C313-66E3-4479-9F17-7C66B87C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0D01-C80C-4E4B-A589-D399037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8AB7D-2424-43FB-9D63-6A9AB1F7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4580-DE88-4F09-AF10-C432F6F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5E33-1114-4BF5-BA11-CE1ECCB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84C8-6CA0-4DC9-B3C1-E92FB215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80BE-B7AD-40BD-B389-9C0D1394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291A-ED07-41F4-B164-CE85A877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7AC53-A2AB-4C70-9401-DFA074D7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0C78-EC76-4F65-A283-164F65CD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6C61-B625-4D0C-B0CE-964FFA8B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2799-75DD-4C39-B4D1-46364B5E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96DBB-22DD-4168-87DC-2AEF6146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65B8-BA3F-427A-8C01-0AE696D8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4645-E51F-4FE1-91EF-B6107AAE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429A-D134-4336-9903-EA4E373EF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01E2-E9E7-4F9A-9EB9-DF1C35298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3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Estructu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de diseño mod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ódulos en orden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s de control bás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cu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sel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ucturas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o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 solo punto de entrada y uno de salida o f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sten caminos desde la entrada a la salida que pasan por todos los puntos del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das las instrucciones de un programa son ejecutables y no existen lazos infin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lgorí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1413000"/>
            <a:ext cx="828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: método para resolver un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goritmo + Estructura de Datos =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ciso, debe indicar orden paso a p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, si se sigue el algoritmo 2 veces se debe obtener el mismo resul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ito, debe terminar en algún mo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si un número es primo o 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terminar el área y la circunferencia de un cír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agrama de Flu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4360" y="1341360"/>
            <a:ext cx="914400" cy="3049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2133720"/>
            <a:ext cx="914400" cy="60948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214800"/>
            <a:ext cx="914400" cy="6094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149720"/>
            <a:ext cx="91440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5157720"/>
            <a:ext cx="914400" cy="609840"/>
          </a:xfrm>
          <a:prstGeom prst="flowChartPredefined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35280" y="134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/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2205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/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79640" y="32860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43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5157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u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148360" y="2098800"/>
            <a:ext cx="457200" cy="4572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19640" y="3106800"/>
            <a:ext cx="609840" cy="609480"/>
          </a:xfrm>
          <a:prstGeom prst="flowChartOffpage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21718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ector dentro de una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27640" y="3041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ector fuera de una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41148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39718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íneas conect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4475160"/>
            <a:ext cx="914400" cy="609480"/>
          </a:xfrm>
          <a:prstGeom prst="flowChartDocumen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5338800"/>
            <a:ext cx="914400" cy="457200"/>
          </a:xfrm>
          <a:prstGeom prst="flowChartManualIn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6059520"/>
            <a:ext cx="914400" cy="609480"/>
          </a:xfrm>
          <a:prstGeom prst="flowChartDisplay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45464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411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6203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6021360"/>
            <a:ext cx="914400" cy="609480"/>
          </a:xfrm>
          <a:prstGeom prst="flowChartMagneticDisk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492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co 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360" y="1268280"/>
            <a:ext cx="1062000" cy="609840"/>
          </a:xfrm>
          <a:prstGeom prst="flowChartPreparat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1268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et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4365720"/>
            <a:ext cx="609840" cy="609480"/>
          </a:xfrm>
          <a:prstGeom prst="flowChartMagneticTap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Fases en la resolución de Probl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l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eño del algorit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dificación en lengu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ilación y ejec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er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puración (bu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an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nálisis del probl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ra definición que contemple exactamente lo que debe hacer el programa, el resultado y la solución dese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entradas requieren – Tipo y cant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salidas son las deseadas  - Tipo y cant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e método produce la salida des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jemplo de depreciación de un Auto –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reciación – Depreciación Acumulada – Valor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116000" y="4941720"/>
                <a:ext cx="6516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preciació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to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aza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seño del Algorit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Modular  - Dividir y Ve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eño descend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finamiento suce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Princip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ódulos deben 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difi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rob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gramados separa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u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4941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parad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4365720"/>
            <a:ext cx="142920" cy="1655640"/>
          </a:xfrm>
          <a:custGeom>
            <a:avLst/>
            <a:gdLst>
              <a:gd name="textAreaLeft" fmla="*/ 0 w 142920"/>
              <a:gd name="textAreaRight" fmla="*/ 51480 w 1429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Herramientas de Progra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seudocódigo: Las instrucciones se escriben en palabras similares al castellano., es un lenguaje de especificación para algorit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agrama de Flujo: es una notación gráfica que representa el flujo de información y los diferentes proce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3933720"/>
            <a:ext cx="2592360" cy="6098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4835520"/>
            <a:ext cx="2592360" cy="60948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5699160"/>
            <a:ext cx="2521080" cy="6094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3860640"/>
            <a:ext cx="2592720" cy="609840"/>
          </a:xfrm>
          <a:prstGeom prst="flowChartPredefined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4764240"/>
            <a:ext cx="2592360" cy="609480"/>
          </a:xfrm>
          <a:prstGeom prst="flowChartInputOutpu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3440" y="4076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49798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932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6560" y="483552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/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58435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76360" y="5589720"/>
            <a:ext cx="1944720" cy="57600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/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d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la practica corresponde a la substitución de las palabras reservadas de un lenguaje de programación en el algoritmo escrito en pseudocódi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335772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ocumentación Inte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ivide en Documentación Interna y Ex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 Interna: Corresponde a los comentarios que sirven para aclarar 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cumentación Externa: manuales, diagramas de fluj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86064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ilación y Ejecución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72428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grama F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ilación -  Programa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nker – Programa Ejec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rificación y Depuración de un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41300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de Compilación  - Errores de sintaxis del lenguaje de progr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de Ejecución – Comprende instrucción pero no tiene sentido llevarla a cabo, ejemplo dividir por c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rrores Lógicos -  Aquello programado no corresponde con el diseño inicial requer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cumentación y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508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vital para corregir y mejorar un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gramación Mod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148428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4800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56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33577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11280" y="33577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400536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49244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6720" y="492444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27640" y="398952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19280" y="2133720"/>
            <a:ext cx="61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928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472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1200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141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236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3789360"/>
            <a:ext cx="29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5164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2924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80000" y="465300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609300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4360" y="6093000"/>
            <a:ext cx="1871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 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582120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4365720"/>
            <a:ext cx="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82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1280" y="5821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184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50Z</dcterms:modified>
  <cp:revision>65</cp:revision>
  <dc:subject/>
  <dc:title>Computación 1</dc:title>
</cp:coreProperties>
</file>