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A5D8-D14C-47EE-92EF-6988AFDE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7576-8FE8-433E-8E6F-7210D2BB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1D93-2331-4BDE-87F3-EFB012C3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6FBC-DBF6-46AD-8AFF-B0086221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61B8-0FCF-4FAF-9F2C-4D352E57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CAFE-575B-4254-81FD-75951BF2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B20D-818B-498B-A4F9-F5FFE741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B971-A6DE-4F9D-9253-F8C8B1A5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7067-CC22-43C0-A7D5-4BCFBFAE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ABE7-A85E-485A-868D-3F8993B3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E74C-C3BA-4E43-AE5B-B6B30F9C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18BB-28C3-427B-89F2-BDE731D6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69F6-57E2-469F-BE41-461ED1BD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389B-A203-4BE8-8FB4-096581B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646C-B157-4E8C-8FFF-5678DA6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57B7-8948-45D5-93CA-4E793CA6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B7E6-3E43-428E-8A01-DED5EEDC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62EA-A0B1-4B31-9744-390DE762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C1B2-F017-49BA-BB1D-93228D39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5F74-42C2-4DD2-9AFB-2AE68C23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8D62-36C6-434F-844A-F682BCFB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2B96-E990-43B6-A154-C7376E3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098E-ADDB-41F8-8C7F-B2978CE4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3A96-AB17-42F9-8D5C-226E1140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EDDB-1BFC-4454-BDF8-1CB7D8288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FB21-9EA8-4A06-A306-A61EF2362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4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no   --------------------------------------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y -----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o -----------------------------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 a veces están por encima de los matemá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Internas, corresponden a funciones comúnmente usadas en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garitm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qrt(x)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íz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und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don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unc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tru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= expresión, variable o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aritm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g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n = 3 + 4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1 = 14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2 = 0.75 *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o1 = Ter1/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o2 = Cuo1/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1 = N1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i1 = 8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cadena de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1 = “alg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versión de 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ecera d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 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 de co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cción de 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ritura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97240" y="5411880"/>
            <a:ext cx="1851120" cy="609480"/>
          </a:xfrm>
          <a:prstGeom prst="flowChartDisp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cu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Secu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1962000"/>
            <a:ext cx="914400" cy="3049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437000"/>
            <a:ext cx="1778040" cy="79236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637000"/>
            <a:ext cx="1800000" cy="50472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6205680"/>
            <a:ext cx="914400" cy="30456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1652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61578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70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645000"/>
            <a:ext cx="1800000" cy="50472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1080" y="3619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4496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 = A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A *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1080" y="54849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S,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349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34290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7380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53481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4772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867280" y="51451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92840" y="40514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3417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73800" y="23749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5640" y="34290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7380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56275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05440" y="3009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4772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7280" y="51451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32320" y="3741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02160" y="41623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37418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066920" y="514512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2200" y="5183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459640" y="371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3429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 si (expresión lógica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7640" y="134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3880" y="2387520"/>
            <a:ext cx="914400" cy="60984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31291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54880" y="55134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9764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26200" y="2682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94560" y="26827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019640" y="5084640"/>
            <a:ext cx="14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54920" y="23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234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24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284720" y="5084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9960" y="31068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30800" y="3403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292360" y="2708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34164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2572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4508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39337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524720" y="5373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(expresión lógica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126828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54920" y="300024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76840" y="1890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565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24360" y="54244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5964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59640" y="5094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00720" y="5661000"/>
            <a:ext cx="3022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56720" y="3933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54920" y="4076640"/>
            <a:ext cx="914400" cy="60984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2565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95672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500360" y="25909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58160" y="60930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723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3645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41720" y="306864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227664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28000" y="458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58764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6360" y="458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1672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 (varia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i=numero inicial; i&lt;=numero final; +incr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ar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357336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4581360"/>
            <a:ext cx="1297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355640" y="58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56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3860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3860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3429000"/>
            <a:ext cx="79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8360" y="4149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85080" y="4941720"/>
            <a:ext cx="1079640" cy="57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gorí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: método para resolver un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 + Estructura de Datos =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so, debe indicar orden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, si se sigue el algoritmo 2 veces se debe obtener el mis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ito, debe terminar en algún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si un número es primo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el área y la circunferencia de un cír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ga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cio h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 = cont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h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(condición y/o contad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94360" y="1628640"/>
            <a:ext cx="91440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67440" y="314172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558972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944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4220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43640" y="465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443640" y="278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43640" y="27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12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236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4365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entras (condición y/o con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dor = contado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59640" y="270828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1800" y="4653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56720" y="501336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436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36000" y="558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724360" y="4076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40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96360" y="407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836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24360" y="595008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378936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262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e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rep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dor = contado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rep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que (condición y/o con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94360" y="1628640"/>
            <a:ext cx="91440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67440" y="314172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67640" y="558972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9944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4220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443640" y="465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443640" y="278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27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12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7236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4365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ani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i=num inicial1; i&lt;=num final1; +incre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j=num inicia2; i&lt;=num final2; +incre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otras instruccione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14560" y="3068640"/>
            <a:ext cx="12970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622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2200" y="2492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492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2060640"/>
            <a:ext cx="79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1200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ani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940280"/>
            <a:ext cx="1297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2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2205000"/>
            <a:ext cx="1062000" cy="60948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57480" y="407664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6220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6220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22200" y="59500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122560" y="4365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25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38560" y="4365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4076640"/>
            <a:ext cx="107928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465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761840" y="6093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762200" y="249228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icio Las tablas de multiplicar del 1 al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icio Ordenar 3 Números de mayor a menor, intercambio uso de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el máximo y el mínimo de 100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 -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san para escribir de manera abreviada (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de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-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stincremen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++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postdecremen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--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 ++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 y despué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 a ++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y despué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eradores de Asignación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san para escribir de manera abreviada (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+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+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-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-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*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*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*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/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/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/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%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%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%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eradores de Asignación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de diseño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ódulos en orden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solo punto de entrada y uno de salida o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sten caminos desde la entrada a la salida que pasan por todos los puntos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das las instrucciones de un programa son ejecutables y no existen lazos infin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acciones o instrucciones se deben escribir y ejecutar en s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neal, instrucciones sin bifur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Lineal, instrucciones con bifur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instru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y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fur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lementos básicos de un Programa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labras reserv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s d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fun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s de sub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acteres espe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pre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cles o cic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mu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s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es o de punto flotante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o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antes: se declaran como tales a fin de que no se alteren accident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a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: si puede variar a lo largo de la ejecución de un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 = Nombre y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s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es o de punto flotante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o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ones: combinaciones de variables y constantes, símbolos y operaciones, paréntesis y nomb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tmé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Aritméticos en orden de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exponencial   --------------------------------------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 y multiplicación 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/  *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 entera y resto de división entera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od  div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ta y suma --------------------------------------------------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+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paréntesis cambian el orden de prioridad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no   --------------------------------------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y -----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o -----------------------------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 a veces están por encima de los matemá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Internas, corresponden a funciones comunmente usadas en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garítm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qrt(x)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iz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und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don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unc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tru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7Z</dcterms:modified>
  <cp:revision>104</cp:revision>
  <dc:subject/>
  <dc:title>Computación 1</dc:title>
</cp:coreProperties>
</file>