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0000-924B-45D8-8783-C4516C41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43F1-D505-46ED-88C8-8A1D2EA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2513-F21A-4A66-B703-06990738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3287-69C0-4CBF-8006-B2006F7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79A5-833F-41A2-A7CA-3D04B73F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5DA2-C7E9-4429-AC1F-CA3B9D9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ACA4-BD2D-4114-8F10-BC6FF77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AD8-20B1-4B0E-B4FF-6C1AF0D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6CC3-8E0E-49CA-AD71-F43C53ED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C16-824F-4534-8EDC-A38C72A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018D-A00D-4225-AB4A-7AE548B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D27C-818E-4E57-AEEB-1A711A83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450F-B05B-4F17-AD0E-4903152B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08B9-1313-40AE-B936-0A4E054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CC98-54E0-408D-ACD5-F17D216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B5C-C6C5-40A8-8083-4AFAA14D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68B-91D4-454E-88B7-392655AC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D363-6263-435B-8165-6C83984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B855-31E3-41EA-95CA-C42544CA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EDA4-6507-4C93-A5B8-4AD9092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EFF5-FD18-4C60-8CA5-5BEC77B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2491-F29D-4210-AFFE-DF732A0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1552-2FD3-40CC-851A-A4654CF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C652-0126-411C-9235-209611A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EB49-AF51-4C69-B2A1-0F61B952B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335-3B1B-427A-BD03-58A3207AE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4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ú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i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í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= expresión, variable o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aritm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n = 3 + 4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1 = 14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2 = 0.75 *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1 = Ter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2 = Cuo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1 = N1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i1 = 8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cadena de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1 = “alg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ersión de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ecera d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ritura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97240" y="5411880"/>
            <a:ext cx="185112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196200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437000"/>
            <a:ext cx="1778040" cy="79236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637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6205680"/>
            <a:ext cx="914400" cy="30456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1652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6157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45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619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4496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 = 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A *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1080" y="54849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S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349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3481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40514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3417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23749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56275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05440" y="3009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32320" y="3741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02160" y="41623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741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66920" y="514512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2200" y="518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5964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429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 si (expresión lógica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134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3880" y="238752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1291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4880" y="55134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976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6200" y="2682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94560" y="2682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19640" y="508464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4920" y="23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24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84720" y="508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9960" y="31068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30800" y="3403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92360" y="2708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34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2572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508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9337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2472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(expresión lógica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126828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300024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6840" y="1890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56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24360" y="54244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9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59640" y="509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00720" y="566100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393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407664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2565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956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00360" y="25909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58160" y="60930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72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64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41720" y="306864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7664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2800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8764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 (vari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ero inicial; i&lt;=numero final; +incr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ar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57336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58136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5564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56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342900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414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941720"/>
            <a:ext cx="1079640" cy="57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cio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 = con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(condición y/o contad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entras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270828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1800" y="4653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501336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24360" y="4076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40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83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595008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378936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262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que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 inicial1; i&lt;=num final1; +incre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j=num inicia2; i&lt;=num final2; +incr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otras instruccione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14560" y="3068640"/>
            <a:ext cx="1297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2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2200" y="2492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492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06064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94028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2205000"/>
            <a:ext cx="1062000" cy="60948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407664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22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22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22200" y="59500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22560" y="4365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25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38560" y="43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1079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761840" y="6093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62200" y="249228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Las tablas de multiplicar del 1 al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Ordenar 3 Números de mayor a menor, intercambio uso de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el máximo y el mínimo de 100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 -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de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-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tin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postde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+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+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-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-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*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*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*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/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/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/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%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%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%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acciones o instrucciones se deben escribir y ejecutar en s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neal, instrucciones si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Lineal, instrucciones co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y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fur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lementos básicos de un Programa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labras reser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fun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cles o cic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mu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antes: se declaran como tales a fin de que no se alteren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: si puede variar a lo largo de la ejecución de un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 = Nombre y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ones: combinaciones de variables y constantes, símbolos y operaciones, paréntesis y nomb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tm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Aritméticos en orden de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exponencial   --------------------------------------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y multiplicación 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/  *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entera y resto de división entera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d  div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a y suma --------------------------------------------------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paréntesis cambian el orden de prior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u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í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i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7Z</dcterms:modified>
  <cp:revision>104</cp:revision>
  <dc:subject/>
  <dc:title>Computación 1</dc:title>
</cp:coreProperties>
</file>