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2489-BDFE-4CFB-AFAC-6DBF49C9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DA47-D86E-49C0-A3EE-359F8E2B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88CC-53D0-4D1C-A9B9-30AA8F8C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43358-4BDE-4FE5-931B-E4414A45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9B16-7158-40C0-BDDA-D814A17E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D0B4-1A3F-41A8-B4B2-964F48C8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4AEB-88D8-4796-83AB-FD20674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34DD-6DF8-4900-8744-67FCDB6C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9E47-5FB2-4829-9954-E6ECD6AA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B4A9-8E34-47A1-81E1-9385669D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C959-0438-4991-AA5B-8E7C1CB1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C2D6-E6A3-4CA0-8761-76BB82D8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9B31-BF86-4933-B2E3-E2D5291D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2B14-9593-4448-8532-C31928A8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300A-3865-48E9-BB6A-0BFC790E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6E32-ED86-4518-9C0F-CF036667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218A-0C30-4B5C-8C91-0FAD113B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45E5-0724-4CA7-89AD-D9B5B3F8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63CF-3204-4003-A213-4EBBFC5F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E82C-CF19-4596-8021-792E11ED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AF49-02E6-4F18-83EA-F5F098AA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BA4F-0266-447C-917B-8E0E0672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F2BB-F3F5-424D-A07D-1CB66415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8A22-674B-432E-ACE8-43DABCE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AE95-538A-4BAC-8002-C0EFF3B5D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6D97-81F9-4227-A98D-915B3A7DEC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4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no   --------------------------------------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y -----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o -----------------------------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 a veces están por encima de los matemá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Internas, corresponden a funciones comúnmente usadas en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garitm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qrt(x)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íz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und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don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unc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tru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= expresión, variable o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aritm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g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n = 3 + 4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1 = 14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2 = 0.75 * 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o1 = Ter1/T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o2 = Cuo1/T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1 = N1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i1 = 8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cadena de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1 = “alg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versión de 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ecera d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 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 de co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cción de 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ritura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97240" y="5411880"/>
            <a:ext cx="1851120" cy="609480"/>
          </a:xfrm>
          <a:prstGeom prst="flowChartDisp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cu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Secu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1962000"/>
            <a:ext cx="914400" cy="30492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437000"/>
            <a:ext cx="1778040" cy="79236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637000"/>
            <a:ext cx="1800000" cy="50472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6205680"/>
            <a:ext cx="914400" cy="30456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1652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61578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2708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645000"/>
            <a:ext cx="1800000" cy="50472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1080" y="3619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4496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 = A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A *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1080" y="54849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S,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1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349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34290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7380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53481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40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0720" y="4772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867280" y="51451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92840" y="40514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3417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73800" y="23749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5640" y="34290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7380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56275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05440" y="3009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4772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67280" y="51451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32320" y="3741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02160" y="41623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67280" y="37418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066920" y="514512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02200" y="5183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459640" y="3716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3429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 si (expresión lógica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7640" y="134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3880" y="2387520"/>
            <a:ext cx="914400" cy="60984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31291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54880" y="55134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9764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26200" y="2682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94560" y="26827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019640" y="5084640"/>
            <a:ext cx="14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54920" y="23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234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24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284720" y="5084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9960" y="31068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30800" y="3403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292360" y="2708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34164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2572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4508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39337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524720" y="5373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(expresión lógica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126828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54920" y="300024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76840" y="1890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565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24360" y="54244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56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5964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59640" y="5094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00720" y="5661000"/>
            <a:ext cx="3022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56720" y="3933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54920" y="4076640"/>
            <a:ext cx="914400" cy="60984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2565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95672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500360" y="25909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58160" y="60930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723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3645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41720" y="306864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227664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28000" y="458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58764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6360" y="458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1672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witch (variab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i=numero inicial; i&lt;=numero final; +incre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ar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35640" y="357336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4581360"/>
            <a:ext cx="1297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355640" y="58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56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3860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3860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3429000"/>
            <a:ext cx="792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8360" y="4149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885080" y="4941720"/>
            <a:ext cx="1079640" cy="57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gorí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: método para resolver un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 + Estructura de Datos =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so, debe indicar orden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, si se sigue el algoritmo 2 veces se debe obtener el mis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ito, debe terminar en algún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si un número es primo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el área y la circunferencia de un cír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ga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icio h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 = cont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h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(condición y/o contad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94360" y="1628640"/>
            <a:ext cx="91440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67440" y="314172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558972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9944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4220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43640" y="465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443640" y="278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43640" y="27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12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236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4365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entras (condición y/o con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dor = contado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59640" y="270828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1800" y="4653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56720" y="501336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436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36000" y="558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724360" y="4076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407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96360" y="4076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836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24360" y="595008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59640" y="378936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262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et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rep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dor = contado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rep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que (condición y/o con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94360" y="1628640"/>
            <a:ext cx="91440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67440" y="314172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67640" y="558972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9944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4220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443640" y="465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443640" y="278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43640" y="27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12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7236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4365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ani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i=num inicial1; i&lt;=num final1; +incre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j=num inicia2; i&lt;=num final2; +incre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otras instruccione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14560" y="3068640"/>
            <a:ext cx="12970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622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2200" y="2492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2492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2060640"/>
            <a:ext cx="792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12000" y="2781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ani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940280"/>
            <a:ext cx="1297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2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59280" y="2205000"/>
            <a:ext cx="1062000" cy="60948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57480" y="407664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6220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6220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22200" y="59500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122560" y="4365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25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38560" y="4365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4076640"/>
            <a:ext cx="107928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465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761840" y="6093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762200" y="249228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rcicio Las tablas de multiplicar del 1 al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rcicio Ordenar 3 Números de mayor a menor, intercambio uso de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el máximo y el mínimo de 100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 -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san para escribir de manera abreviada (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de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-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stincremen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++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postdecremen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--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 ++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 y despué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 a ++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y despué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eradores de Asignación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san para escribir de manera abreviada (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+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+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-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-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*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*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*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/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/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/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%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%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%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eradores de Asignación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de diseño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ódulos en orden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solo punto de entrada y uno de salida o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sten caminos desde la entrada a la salida que pasan por todos los puntos d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das las instrucciones de un programa son ejecutables y no existen lazos infin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acciones o instrucciones se deben escribir y ejecutar en s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neal, instrucciones sin bifur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Lineal, instrucciones con bifur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instru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y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fur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elementos básicos de un Programa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labras reserv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s d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fun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s de sub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acteres espe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pre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cles o cic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mu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s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es o de punto flotante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o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antes: se declaran como tales a fin de que no se alteren accident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a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: si puede variar a lo largo de la ejecución de un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 = Nombre y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s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es o de punto flotante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o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ones: combinaciones de variables y constantes, símbolos y operaciones, paréntesis y nomb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itmé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Aritméticos en orden de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exponencial   --------------------------------------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 y multiplicación 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/  *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 entera y resto de división entera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od  div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ta y suma --------------------------------------------------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+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paréntesis cambian el orden de prioridad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no   --------------------------------------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y -----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o -----------------------------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 a veces están por encima de los matemá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Internas, corresponden a funciones comunmente usadas en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garítm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qrt(x)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iz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und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don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unc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tru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7Z</dcterms:modified>
  <cp:revision>104</cp:revision>
  <dc:subject/>
  <dc:title>Computación 1</dc:title>
</cp:coreProperties>
</file>