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9A6C-0886-4E52-A80A-54AED579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393E-CB46-41C1-90AE-A9138657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76E4-ACCF-4D42-8BD0-F50F6734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2F0B7-D9BF-4A66-9E29-848F1256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CC4B-79F4-4F57-9052-8716F876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9F97-AF05-45E4-82A2-A7904DB8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8ADA-7FC4-4AB1-99B1-DABFA6D2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1493-6D2D-4EEE-A7EF-99FC736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4C85-A735-4E05-9E57-E370510E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AEF4-BA5A-4F6D-A4EC-612A0166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26D-BFFE-4AAD-9710-C3FE982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243B-61AC-46A4-8582-53983F62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C3FC-B589-4829-BBD5-4193911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5D9B-2073-4CFD-9BA5-859CC7AC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E4FF-39EC-465C-B1D6-72F71722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2494-8DD3-48D7-8026-EDCA9409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7550-AF16-4570-9687-E796D57E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8B95-3EF6-48FE-B886-CC06B4B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C01B-CEC8-436D-8B38-8EAE4698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5C97-BB89-442A-8D7E-B1BF69E3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1D60-2B5C-464E-9EEA-1C41520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C347-EEE6-4345-8457-919DDFF3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7AF6-ED71-4F14-8588-38F89DF0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750F-2A16-41BB-A5E5-95E9E321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0D1B-E1CE-4D94-BD11-D12BFF7D6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D14C-DBD4-4195-936F-2573D0B9E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4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ú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i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í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= expresión, variable o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aritm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go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n = 3 + 4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1 = 14 +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2 = 0.75 * 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1 = Ter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o2 = Cuo1/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1 = N1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i1 = 8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 cadena de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1 = “alg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versión de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ecera d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 de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cción de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ritura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97240" y="5411880"/>
            <a:ext cx="185112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 Secu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196200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437000"/>
            <a:ext cx="1778040" cy="79236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637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6205680"/>
            <a:ext cx="914400" cy="30456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1652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61578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708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645000"/>
            <a:ext cx="1800000" cy="50472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1080" y="36194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4496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 = A +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A *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1080" y="54849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S,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2349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53481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92840" y="40514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34178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0872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73800" y="23749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35640" y="34290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7380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56275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05440" y="3009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7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0720" y="4772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7280" y="51451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7672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432320" y="3741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02160" y="41623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37418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3716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066920" y="514512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02200" y="5183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459640" y="371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3429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 si (expresión lógica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134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03880" y="238752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31291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54880" y="55134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9764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26200" y="2682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494560" y="26827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019640" y="508464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54920" y="23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9272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240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284720" y="5084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9960" y="310680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30800" y="3403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292360" y="2708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34164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25720" y="414972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4508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393372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24720" y="5373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(expresión lógica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(expresión lógica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126828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54920" y="300024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76840" y="1890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2565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2565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24360" y="54244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59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59640" y="5094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00720" y="5661000"/>
            <a:ext cx="3022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56720" y="3933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54920" y="4076640"/>
            <a:ext cx="914400" cy="60984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2565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95672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00360" y="259092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58160" y="60930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72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3645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41720" y="306864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227664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2800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58764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6360" y="4581360"/>
            <a:ext cx="91440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1672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 selectiva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 (varia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so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rucción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rucció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ero inicial; i&lt;=numero final; +incre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ara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5640" y="357336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458136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4036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355640" y="58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56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38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3860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342900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8360" y="4149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885080" y="4941720"/>
            <a:ext cx="1079640" cy="57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cio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 = cont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h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(condición y/o contad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entras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mien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59640" y="270828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51800" y="465300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6720" y="501336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436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23600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724360" y="4076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40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40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8360" y="4076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24360" y="595008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378936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262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et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dor = contador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n rep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que (condición y/o con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94360" y="1628640"/>
            <a:ext cx="91440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67440" y="3141720"/>
            <a:ext cx="91440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67640" y="5589720"/>
            <a:ext cx="9144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9944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422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443640" y="465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44364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12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7236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4365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i=num inicial1; i&lt;=num final1; +incre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(int j=num inicia2; i&lt;=num final2; +incre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instruccione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e otras instruccione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14560" y="3068640"/>
            <a:ext cx="1297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2200" y="263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2200" y="2492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2492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2060640"/>
            <a:ext cx="79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1200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ani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940280"/>
            <a:ext cx="1297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2200" y="450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9280" y="2205000"/>
            <a:ext cx="1062000" cy="60948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7480" y="407664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220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220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22200" y="59500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122560" y="4365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25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38560" y="4365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88000" y="4076640"/>
            <a:ext cx="107928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465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761840" y="6093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62200" y="2492280"/>
            <a:ext cx="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Las tablas de multiplicar del 1 al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rcicio Ordenar 3 Números de mayor a menor, intercambio uso de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el máximo y el mínimo de 100 nú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Iterativas - Sele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de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-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stin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postdecremen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++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+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 a ++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quiva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 =a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y despué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 =a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68360" y="1413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san para escribir de manera abreviada (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+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+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-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-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*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*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*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/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/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/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%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larg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= x%y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formato cort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%=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eradores de Asignación Modif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ru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acciones o instrucciones se deben escribir y ejecutar en s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neal, instrucciones si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Lineal, instrucciones con bifur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y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fur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lementos básicos de un Programa 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labras reserv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fun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s de sub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progr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actere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cles o cic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mu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antes: se declaran como tales a fin de que no se alteren accident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: si puede variar a lo largo de la ejecución de un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 = Nombre y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s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es o de punto flotante. (short, long, signed, unsign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os o Bool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 (char y/o st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ones: combinaciones de variables y constantes, símbolos y operaciones, paréntesis y nomb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tmé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y/o Cadenas de cará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Aritméticos en orden de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exponencial   --------------------------------------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y multiplicación 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/  *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 entera y resto de división entera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od  div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a y suma --------------------------------------------------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paréntesis cambian el orden de prioridad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no   --------------------------------------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y ------------------------------------------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rador o --------------------------------------------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emás a veces están por encima de los matemá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nciones Internas, corresponden a funciones comunmente usadas en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logarítm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qrt(x)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aiz cuad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und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edon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unc(x)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tru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ementos Básicos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7Z</dcterms:modified>
  <cp:revision>104</cp:revision>
  <dc:subject/>
  <dc:title>Computación 1</dc:title>
</cp:coreProperties>
</file>