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BA63-4CAC-4898-988F-5FED9A1E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EAF0E-9BD4-4003-8CA3-A2A613AB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C7B32-B76A-4F44-93F5-4133BE31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50956-01C7-42F2-8B51-A2439260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266D-A2E5-4F04-8DA4-381179F7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91AF-F3EC-47EC-B4C9-27FD2236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561D-2980-45A7-8FA7-4151DDF9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5445-E6FF-4028-8898-9C92D088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6B6A-776B-4E2D-A580-7E3FC026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7647-363F-4D59-BB87-ABCF7E82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38C3-D49B-4BBA-AD6F-AC5A485B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414E-AF50-4F92-9103-75A8A85B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63D6-9D94-4506-BC79-34D60EE8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E05C-8BBE-468B-9D56-37005F49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27B2-5622-46AA-8D78-73DBD306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6ABD-0749-4E6F-8AED-EE8B792A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F08E-4155-43B7-BA7B-09B5783F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10837-B0EC-48D6-BFFD-EFA3E555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E2106-FB53-4759-AF37-3E9EA770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C3C0C-F161-4290-84D0-7DB58898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9C1F-92CD-4B13-A8A6-3134C668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65A7-243D-4B34-B78D-19B6A990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10A5A-2BD6-4B56-B795-5DB9453B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2177C-690F-45A1-BF1C-6FAE58B5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5264-EE6B-4291-A374-DE020E9EC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CA95-DA17-49AB-A815-D156D00D34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5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terminante de una matriz de 3X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ltiplicación de matrices verificar la compat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terminar la traspuesta de una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viación estándar de un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Bidimensionales – Tablas y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ena de Caracteres: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digo ASCII – American Standard Code for Information Interchange (7bits 2^7 = 128 caract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fabéticos (a, b, c,…, z, A, B, C,…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éricos (0, 1, 2, …,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peciales ( +, * , ….[, ]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Control (DEL, STX, LF, FF, CR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digo EBCIDIC – Extended Binary Coded Decimal Interchange Code (8bits 2^8 = 256 caract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ilar al ASCII pero contiene otros caract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ena de Caracteres: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= “esto es una cadena de caracteres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Nombre[2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mbre = “Juan Pérez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ada y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er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cribir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lculo de Long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 = 4+5+longitud(nombr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“A” &lt; Carácter “C” es una declaración verd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ascii 65)           (ascii 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gual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o” es una declaración verd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a” es una declaración fal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o ” es una declaración fal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ate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 = “Miguel”; D = “de”; C = “Cervantes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A+B+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“Miguel de Cervant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 = subcadena( cadena, int inicio, int longitu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subcadena( “abcdef”, 2, 2) + subcadena( “haijklmno”, 4,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er un algoritmo que inserte subcad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ertar (T, P, 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 texto al que se le insertará una ca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 posición de la inser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 cadena a inser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er un algoritmo que cambie subcad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ertar (T, P, 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 texto al que se le cambiará una subca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 posición del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 cadena a camb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to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á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dos por e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r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um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tos Estruct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áticos: El tamaño de en memoria es definido se define antes que el programa se ejecute y no se puede modificar su tamaño durante la ejecución del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ray ( vector, matriz, tabla, 3d o superi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denas de caracteres o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cheros -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j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námicos: no tienen restricciones de tam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stas – Listas enlaz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b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cla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ipo nombre_array [tamañ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…. 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- forma mate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[0], a[1], a[2], a[3 ], a[4], a[5], … , a[N-1] en 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n tener datos no numéricos, ejemplo una lista de artículos de super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n ser previamente dimensionados antes de ser us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ctura Escri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rrido – Acceso secu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izar – añadir, borrar, insertar (debe haber espacio para aña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rde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us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[10] = 12.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[1] = “Juan Pérez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ctura Escri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r X[10]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nombre [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rrido – Acceso secu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i=0 hasta i&lt;=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eer y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 determinar la media de las notas de un cuso, el numero de alumnos sobre y bajo la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tancia entre dos puntos en el espacio tridimens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ducto interno o producto vectorial, verificar tam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denar una lista de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denar (bubble s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i=1 hasta 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j=1 hasta 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x[j] &gt;x[j+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x = x[j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x[j] = x[j+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x[j+1] = au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triz y/o 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cla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ipo nombre_array [tamaño1(fila)] [tamaño2(columna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,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,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,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,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…. 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,N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- forma mate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[0][0], a[0][1], a[1][0], … , a[M-1][N-1] en 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n tener datos no numéricos, ejemplo una lista de artículos de super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n ser previamente dimensionados antes de ser us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Bidimensionales – Tablas y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04T14:36:44Z</dcterms:modified>
  <cp:revision>136</cp:revision>
  <dc:subject/>
  <dc:title>Computación 1</dc:title>
</cp:coreProperties>
</file>