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AF0C-985B-44B7-B766-D6589E2F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9552-7575-457A-AD57-70A2CE39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C268D-029F-4BCC-833D-209BC8A7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39AC1-8601-4330-A34A-E9BB69B3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CDAF-348C-4A14-B43E-1211ADC9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2ACE-43A3-43FD-8D65-08F9F052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56AD-91E9-462A-9972-DE66EB65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C649-0026-4355-9DFF-179D2AD54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4CB3-9346-4243-A97B-DD09A189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8A8B-F1D5-4B2F-9625-46F0BBD4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783D-D4BE-445C-893C-8455839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830E-9AB8-489F-8E57-687E00B6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90D-27F8-44AE-AD18-F98397E2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1A6C-596D-4617-A1CF-F17015B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61FA-8F95-4AA5-9049-A2E6E8D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E28C-DB73-4ACE-A549-DBFC3C17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C5F3-1E14-4337-B537-69CF1C178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3C6C8-BA6A-4471-A3E1-C7C8920E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03DF-A82C-4E3B-A9A6-96836460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2AA5-BC85-4B81-9DD6-0FA61340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AD8E-CF7B-415F-9EDA-96331144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FE21-1FEB-41D7-8CDF-4835E034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28D4-83FE-47B4-B021-A877DE7B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981B0-4998-450E-BC2B-CE186760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0D40-9B10-4CB5-A7CF-9028B8B4D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5EED-E956-4F65-8C0B-652F68F2C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5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nte de una matriz de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ltiplicación de matrices verificar la compat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terminar la traspuesta de una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sviación estándar de un v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ASCII – American Standard Code for Information Interchange (7bits 2^7 = 128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fabéticos (a, b, c,…, z, A, B, C,…,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éricos (0, 1, 2, …,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peciales ( +, * , ….[, ],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Control (DEL, STX, LF, FF, C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 EBCIDIC – Extended Binary Coded Decimal Interchange Code (8bits 2^8 = 256 caract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ilar al ASCII pero contiene otros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ena de Caracteres: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= “esto es una cadena de caracteres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Nombre[20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mbre = “Juan Pérez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ada y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e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bir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álculo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4+5+longitud(nomb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rácter “A” &lt; Carácter “C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scii 65)           (ascii 6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gual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” es una declaración verdad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a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milio” = “Emilio ” es una declaración fa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cate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 = “Miguel”; D = “de”; C = “Cervantes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A+B+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“Miguel de Cervant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cad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 = subcadena( cadena, int inicio, int longitu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 = subcadena( “abcdef”, 2, 2) + subcadena( “haijklmno”, 4,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insert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insertará una 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 la inser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inser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cer un algoritmo que cambie subcad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ar (T, P, 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 texto al que se le cambiará una subcad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 posición del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 cadena a cambi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denas de Caract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á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finidos por el usu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bra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ume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tos Estructu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ticos: El tamaño de en memoria es definido se define antes que el programa se ejecute y no se puede modificar su tamaño durante la ejecución del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ray ( vector, matriz, tabla, 3d o superi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denas de caracteres o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cheros -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námicos: no tienen restricciones de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stas – Listas enlaz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Árb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ructur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, a[1], a[2], a[3 ], a[4], a[5], … , a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izar – añadir, borrar, insertar (debe haber espacio para añad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de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X[10] = 12.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bre [1] = “Juan Pérez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ectura Escri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er X[10]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ribir nombre [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rrido – Acceso secu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0 hasta i&lt;=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eer y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determinar la media de las notas de un cuso, el numero de alumnos sobre y bajo la me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tancia entre dos puntos en el espacio tridimens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to interno o producto vectorial, verificar tam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denar una lista de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rdenar (bubble s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i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j=1 hasta 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 x[j] &gt;x[j+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icio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 = x[j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] = x[j+1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x[j+1] = au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n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Unidimensionales - Ve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162864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atriz y/o T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ecla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tipo nombre_array [tamaño1(fila)] [tamaño2(columna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,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1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2,2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…. ,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,N 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- forma matem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[0][0], a[0][1], a[1][0], … , a[M-1][N-1] en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ueden tener datos no numéricos, ejemplo una lista de artículos de super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n ser previamente dimensionados antes de ser us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rays Bidimensionales – Tablas 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08-04T14:36:44Z</dcterms:modified>
  <cp:revision>136</cp:revision>
  <dc:subject/>
  <dc:title>Computación 1</dc:title>
</cp:coreProperties>
</file>