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69A35-09F6-4FAA-B049-1AFE2095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1B969-A18C-4C39-9715-533F3DD5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484C-6187-4C6B-B54A-E5F20248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3800F-2A75-49F5-BA8B-F68A2E29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72A9-4C81-459C-A104-48723116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EF15-C8CF-496D-ADFB-EF755B7D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8120-8ED8-4CA2-96FD-FA389572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B680-450A-4851-BEBB-AE558032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A660-2643-4159-A727-50152F95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F44B-8C36-45D6-9E9F-FCCA7AE6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A927-8B47-41A6-B4B8-C8DF9079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8E8FF-F63C-4F66-B194-6AAF0A28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87B0-1DDC-43B8-91CC-BEDC75CB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88C5-D7DA-4EEC-90C8-1F340B95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B858-098B-43B9-8B8A-BA6795F2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86F9-AAEF-4A11-A92D-2B2CF633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3A89-38D1-4DF0-AC5D-C62F720B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B0FBE-E3CE-41D6-83B8-E36E9EA8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62C01-D412-4E27-8534-61432CB0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0476E-CD06-4AA9-AE15-6BB9CD76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34F7A-61F7-4423-B268-98AE1CCA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9CF8-7487-460E-B36B-198BED56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1A180-C0C0-4D75-8AE4-CB702524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CC29-BB35-468D-BF18-4ED1B082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3A04-DDA3-4E90-8BA9-CC2863D26D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6940-06C9-4384-8970-95C3EAD46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5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nte de una matriz de 3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ltiplicación de matrices verificar la compat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r la traspuesta de un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viación estándar de un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Bidimensionales – Tablas y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ena de Caracteres: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digo ASCII – American Standard Code for Information Interchange (7bits 2^7 = 128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fabéticos (a, b, c,…, z, A, B, C,…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os (0, 1, 2, …,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peciales ( +, * , ….[, ]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Control (DEL, STX, LF, FF, CR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digo EBCIDIC – Extended Binary Coded Decimal Interchange Code (8bits 2^8 = 256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ilar al ASCII pero contiene otros caract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ena de Caracteres: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= “esto es una cadena de caracteres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Nombre[2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mbre = “Juan Pérez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ada y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er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ribir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lculo de Long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 = 4+5+longitud(nomb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“A” &lt; Carácter “C” es una declaración verd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scii 65)           (ascii 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gual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o” es una declaración verd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a” es una declaración fa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o ” es una declaración fa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ate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 = “Miguel”; D = “de”; C = “Cervantes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A+B+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“Miguel de Cervant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 = subcadena( cadena, int inicio, int longitu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subcadena( “abcdef”, 2, 2) + subcadena( “haijklmno”, 4,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er un algoritmo que inserte subcad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ar (T, P, 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texto al que se le insertará una ca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 posición de la inser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 cadena a inser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er un algoritmo que cambie subcad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ar (T, P, 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texto al que se le cambiará una subca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 posición del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 cadena a camb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to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á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dos por 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r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um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tos Estruc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áticos: El tamaño de en memoria es definido se define antes que el programa se ejecute y no se puede modificar su tamaño durante la ejecución del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ray ( vector, matriz, tabla, 3d o superi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denas de caracteres o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cheros -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j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námicos: no tienen restricciones de tam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stas – Listas enlaz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b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cla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ipo nombre_array [tamañ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…. 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 forma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[0], a[1], a[2], a[3 ], a[4], a[5], … , a[N-1] en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tener datos no numéricos, ejemplo una lista de artículos de super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ser previamente dimensionados antes de ser us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 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rrido – Acceso secu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izar – añadir, borrar, insertar (debe haber espacio para aña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rde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us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[10] = 12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[1] = “Juan Pérez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 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r X[10]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nombre [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rrido – Acceso secu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i=0 hasta i&lt;=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eer y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 determinar la media de las notas de un cuso, el numero de alumnos sobre y bajo la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tancia entre dos puntos en el espacio tridimen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ducto interno o producto vectorial, verificar tam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denar una lista de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denar (bubble s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i=1 hasta 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j=1 hasta 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x[j] &gt;x[j+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x = x[j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x[j] = x[j+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x[j+1] = au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triz y/o 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cla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ipo nombre_array [tamaño1(fila)] [tamaño2(columna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,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,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,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,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…. 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,N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 forma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[0][0], a[0][1], a[1][0], … , a[M-1][N-1] en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tener datos no numéricos, ejemplo una lista de artículos de super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ser previamente dimensionados antes de ser us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Bidimensionales – Tablas y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44Z</dcterms:modified>
  <cp:revision>136</cp:revision>
  <dc:subject/>
  <dc:title>Computación 1</dc:title>
</cp:coreProperties>
</file>