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26CE6-0C52-4E7B-9B86-956C9C32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EDC92-34DE-4250-876F-62BE8F0B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6EB9-B7D3-472D-85D3-F52B8EC8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F446-6937-41CD-949E-02F3EEE0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FDA9-AEB5-4984-AD1E-029C9C3E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C5B6-E8B5-41D3-A3BA-6789FD5A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714A-8700-4A52-B670-84A224E2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EAF9-F615-4F08-8B00-29DC20E1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7E4C-609F-422E-BA0E-8BBEC9F9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5C50-F38B-4845-AEE0-11136FE5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AE3C-FB45-499B-812D-15CE8668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EE77-DB75-4721-B346-65242B4B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0691-034E-4A29-8A15-965CAB29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7804-FCAC-4AF5-B0A1-A6B858DA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B69C-8229-43E1-82E9-CB4C597C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E86B-A357-45DD-A0E7-6C43C624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06A1-1306-4552-B3B9-908C852D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DE0A8-B940-46E0-B51A-9462F8F2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2ABB-DACE-44EE-ABE9-24B39A36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0D68A-C6FD-4307-A815-129CB48F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5769-FA1D-4367-A040-B4638361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C4B65-39BD-4FC1-B689-2CB84E15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529B5-C732-41F1-98F9-DBC7D155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D4991-C3FD-48DE-B3A8-6DC4D3E6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E19E-5008-4F1E-B7A9-DEEA705DCF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E5B5-93B5-4384-A579-7DAC6B2687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5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nte de una matriz de 3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ltiplicación de matrices verificar la compat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r la traspuesta de un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viación estándar de un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Bidimensionales – Tablas y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ena de Caracteres: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digo ASCII – American Standard Code for Information Interchange (7bits 2^7 = 128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fabéticos (a, b, c,…, z, A, B, C,…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os (0, 1, 2, …,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peciales ( +, * , ….[, ]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Control (DEL, STX, LF, FF, CR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digo EBCIDIC – Extended Binary Coded Decimal Interchange Code (8bits 2^8 = 256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ilar al ASCII pero contiene otros caract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ena de Caracteres: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= “esto es una cadena de caracteres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Nombre[2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mbre = “Juan Pérez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ada y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er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ribir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lculo de Long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 = 4+5+longitud(nomb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“A” &lt; Carácter “C” es una declaración verd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scii 65)           (ascii 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gual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o” es una declaración verd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a” es una declaración fa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o ” es una declaración fa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ate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 = “Miguel”; D = “de”; C = “Cervantes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A+B+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“Miguel de Cervant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 = subcadena( cadena, int inicio, int longitu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subcadena( “abcdef”, 2, 2) + subcadena( “haijklmno”, 4,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r un algoritmo que inserte subcad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ar (T, P,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texto al que se le insertará una ca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 posición de la inser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 cadena a inser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r un algoritmo que cambie subcad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ar (T, P,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texto al que se le cambiará una subca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 posición del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 cadena a camb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to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á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dos por 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r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um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tos Estruc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áticos: El tamaño de en memoria es definido se define antes que el programa se ejecute y no se puede modificar su tamaño durante la ejecución del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ray ( vector, matriz, tabla, 3d o superi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denas de caracteres o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cheros -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j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námicos: no tienen restricciones de tam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stas – Listas enlaz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b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cla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ipo nombre_array [tamañ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…. 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 forma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[0], a[1], a[2], a[3 ], a[4], a[5], … , a[N-1] en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tener datos no numéricos, ejemplo una lista de artículos de super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ser previamente dimensionados antes de ser us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 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rrido – Acceso secu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izar – añadir, borrar, insertar (debe haber espacio para aña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rde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[10] = 12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[1] = “Juan Pérez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 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r X[10]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nombre [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rrido – Acceso secu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i=0 hasta i&lt;=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eer y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 determinar la media de las notas de un cuso, el numero de alumnos sobre y bajo la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tancia entre dos puntos en el espacio tridimen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ducto interno o producto vectorial, verificar tam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denar una lista de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denar (bubble s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i=1 hasta 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j=1 hasta 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x[j] &gt;x[j+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x = x[j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x[j] = x[j+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x[j+1] = au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triz y/o 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cla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ipo nombre_array [tamaño1(fila)] [tamaño2(columna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,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,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,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,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…. 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,N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 forma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[0][0], a[0][1], a[1][0], … , a[M-1][N-1] en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tener datos no numéricos, ejemplo una lista de artículos de super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ser previamente dimensionados antes de ser us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Bidimensionales – Tablas y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44Z</dcterms:modified>
  <cp:revision>136</cp:revision>
  <dc:subject/>
  <dc:title>Computación 1</dc:title>
</cp:coreProperties>
</file>