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C232A-9222-4294-A098-81439616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127A6-A9C0-4E25-A294-B960416C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180FD-49CC-49C1-A53E-360B5C7A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E9EF6-A365-4516-AEBD-59F4D9A3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9E49-F81D-483F-B828-1C880E4C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E6C6-8D3D-444C-848F-ED2291F7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0C28-3D11-4E93-B06C-BDC04D9C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4414-0839-4A6F-A21A-48E3F3A3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4E6B-0148-46F9-B72E-4AD8A48B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41BF-465D-46F5-AC19-22F3F299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2207-D4EF-4DD1-BCFF-42825AFA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08439-B736-40A3-B418-699934C2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3044-6D3D-4793-84C0-74EE94F5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0C19-CE0E-4093-86A0-2258697A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B328-AF19-4DD7-B035-9DC8395E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3ED7-4816-4821-A1CE-AD8F7757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B2DA-345F-4636-8648-099DCE49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011A2-3A3D-438D-BC21-2C75176A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5C95-52DA-46A6-9235-1BD10CD6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3E9F-0534-41A9-9AAA-D7544E72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4C6A2-F32B-4D65-B615-5794D4CF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B586A-D0CB-4A5D-90B1-84B2C3F1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2BC8F-D187-40AB-BCEC-53CB670E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63126-5E65-4C86-A6AB-1ADF1C33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0EE9-8A2D-4123-B871-C51A5A7ACD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F69B-5ADC-4FCC-B70A-4E2540B644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5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terminante de una matriz de 3X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ltiplicación de matrices verificar la compat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terminar la traspuesta de una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viación estándar de un v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Bidimensionales – Tablas y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ena de Caracteres: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digo ASCII – American Standard Code for Information Interchange (7bits 2^7 = 128 caract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fabéticos (a, b, c,…, z, A, B, C,…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éricos (0, 1, 2, …,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peciales ( +, * , ….[, ]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Control (DEL, STX, LF, FF, CR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digo EBCIDIC – Extended Binary Coded Decimal Interchange Code (8bits 2^8 = 256 caract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ilar al ASCII pero contiene otros caract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ena de Caracteres: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= “esto es una cadena de caracteres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Nombre[2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mbre = “Juan Pérez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ada y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er Nomb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cribir Nomb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álculo de Long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 = 4+5+longitud(nombr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“A” &lt; Carácter “C” es una declaración verd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ascii 65)           (ascii 6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gual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lio” = “Emilio” es una declaración verd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lio” = “Emilia” es una declaración fal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lio” = “Emilio ” es una declaración fal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ate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 = “Miguel”; D = “de”; C = “Cervantes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 = A+B+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 = “Miguel de Cervant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b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 = subcadena( cadena, int inicio, int longitu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 = subcadena( “abcdef”, 2, 2) + subcadena( “haijklmno”, 4,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cer un algoritmo que inserte subcad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ertar (T, P, 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 texto al que se le insertará una ca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 posición de la inser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 cadena a inser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cer un algoritmo que cambie subcad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ertar (T, P, 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 texto al que se le cambiará una subca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 posición del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 cadena a camb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to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á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dos por e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ra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ume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tos Estruct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áticos: El tamaño de en memoria es definido se define antes que el programa se ejecute y no se puede modificar su tamaño durante la ejecución del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ray ( vector, matriz, tabla, 3d o superi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denas de caracteres o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cheros -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j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námicos: no tienen restricciones de tam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stas – Listas enlaz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b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cla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ipo nombre_array [tamañ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…. 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- forma mate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[0], a[1], a[2], a[3 ], a[4], a[5], … , a[N-1] en 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n tener datos no numéricos, ejemplo una lista de artículos de super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n ser previamente dimensionados antes de ser us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ctura Escri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rrido – Acceso secu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izar – añadir, borrar, insertar (debe haber espacio para aña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rde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us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[10] = 12.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[1] = “Juan Pérez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ctura Escri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r X[10]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nombre [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rrido – Acceso secu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i=0 hasta i&lt;=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eer y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 determinar la media de las notas de un cuso, el numero de alumnos sobre y bajo la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tancia entre dos puntos en el espacio tridimens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ducto interno o producto vectorial, verificar tam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rdenar una lista de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denar (bubble s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i=1 hasta 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j=1 hasta 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x[j] &gt;x[j+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x = x[j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x[j] = x[j+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x[j+1] = au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triz y/o 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cla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ipo nombre_array [tamaño1(fila)] [tamaño2(columna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,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,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,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,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…. 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,N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- forma mate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[0][0], a[0][1], a[1][0], … , a[M-1][N-1] en 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n tener datos no numéricos, ejemplo una lista de artículos de super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n ser previamente dimensionados antes de ser us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Bidimensionales – Tablas y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04T14:36:44Z</dcterms:modified>
  <cp:revision>136</cp:revision>
  <dc:subject/>
  <dc:title>Computación 1</dc:title>
</cp:coreProperties>
</file>