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D349BDF-7529-460E-AA50-86C2E5B2D7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E18C22-B0D0-4B3A-9C6B-BEC6F1F905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6B77112-5865-43AE-ACE6-D01A694E42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8D14DCD-14E6-4982-B112-5A06507B60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220D5C-F164-4A98-A57F-5C3E5B1EBB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5FB981-B862-4512-8A62-6CB700E5DA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FAD014-DA21-46E4-ADD0-CD07BBF2D9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4F924-CDFD-4F28-B508-1A4CDF947B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D81F02-329E-419B-947C-1BE1190288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3AC8D5-1F44-4585-BE03-FA79876F39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73CA7-B4BB-4BB5-B5E4-324FB89EC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30F4D1-53A6-406D-BA15-B357CFC683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69D8A-7081-4EEB-B34E-C3143F748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0A522-7721-4919-B727-6CDFBC37F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CC0C16-032C-46A5-BD44-9CF9F5DF19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AB6F83-AFED-4AE3-98BC-A10E845736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92F68C-1C8D-41E7-A5FB-8AA0A7A31E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5A9775-9FF1-4261-824B-F0A73B0523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D8CCE5-BBEB-4052-868B-829B3EAB26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6DA0A3-B447-4219-85E2-FA6B0FB7EE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FD65EE-7E89-470C-BA89-A695AAE5D1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066D74-0595-4CCB-9FDB-8391A314A8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E073F2-90C0-4807-8EFD-D2324B690F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C44136-66EF-4D06-B353-32A1045D1E0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D4DCF-5135-4CF2-A9E3-00322D7245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FA607-16BD-4325-B173-BBE53D3831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600" spc="-1" strike="noStrike">
                <a:solidFill>
                  <a:srgbClr val="ffffff"/>
                </a:solidFill>
                <a:latin typeface="Arial"/>
              </a:rPr>
              <a:t>Computación 1 - 7</a:t>
            </a:r>
            <a:endParaRPr b="0" lang="en-US" sz="56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900" spc="-1" strike="noStrike">
                <a:solidFill>
                  <a:srgbClr val="000000"/>
                </a:solidFill>
                <a:latin typeface="Arial"/>
              </a:rPr>
              <a:t>Sergio Floody</a:t>
            </a:r>
            <a:endParaRPr b="0" lang="en-US" sz="3900" spc="-1" strike="noStrike">
              <a:solidFill>
                <a:srgbClr val="000000"/>
              </a:solidFill>
              <a:latin typeface="Arial"/>
            </a:endParaRPr>
          </a:p>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truct</a:t>
            </a:r>
            <a:endParaRPr b="0" lang="en-US" sz="4000" spc="-1" strike="noStrike">
              <a:solidFill>
                <a:srgbClr val="000000"/>
              </a:solidFill>
              <a:latin typeface="Arial"/>
            </a:endParaRPr>
          </a:p>
        </p:txBody>
      </p:sp>
      <p:sp>
        <p:nvSpPr>
          <p:cNvPr id="137" name=""/>
          <p:cNvSpPr/>
          <p:nvPr/>
        </p:nvSpPr>
        <p:spPr>
          <a:xfrm>
            <a:off x="395280" y="1557360"/>
            <a:ext cx="8424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rmGuitarra::btnCargar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33cc33"/>
                </a:solidFill>
                <a:latin typeface="Arial"/>
              </a:rPr>
              <a:t>//aqui lo guardado en la variable es llamado y escrito en los cuadr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	</a:t>
            </a:r>
            <a:r>
              <a:rPr b="0" lang="es-ES" sz="1800" spc="-1" strike="noStrike">
                <a:solidFill>
                  <a:srgbClr val="33cc33"/>
                </a:solidFill>
                <a:latin typeface="Arial"/>
              </a:rPr>
              <a:t>//de tex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xtMarca-&gt;Text    = UnaGuitarra.Mar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xtModelo-&gt;Text   = UnaGuitarra.Mode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xtPeso-&gt;Text     = FloatToStr(UnaGuitarra.Pe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xtCuerdas-&gt;Text  = IntToStr(UnaGuitarra.Cuerd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bColor-&gt;Selected = UnaGuitarra.Col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truct</a:t>
            </a:r>
            <a:endParaRPr b="0" lang="en-US" sz="4000" spc="-1" strike="noStrike">
              <a:solidFill>
                <a:srgbClr val="000000"/>
              </a:solidFill>
              <a:latin typeface="Arial"/>
            </a:endParaRPr>
          </a:p>
        </p:txBody>
      </p:sp>
      <p:sp>
        <p:nvSpPr>
          <p:cNvPr id="139" name=""/>
          <p:cNvSpPr/>
          <p:nvPr/>
        </p:nvSpPr>
        <p:spPr>
          <a:xfrm>
            <a:off x="611280" y="1341360"/>
            <a:ext cx="8281800" cy="55267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uct A {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 i;</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 j;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 k;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uct B {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 x;</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uct C {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har c;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har d; }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y;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 z;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ejemploA = {10, 20, 30};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 ejemploB = {10, {'a', 'b'}, 2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truct</a:t>
            </a:r>
            <a:endParaRPr b="0" lang="en-US" sz="4000" spc="-1" strike="noStrike">
              <a:solidFill>
                <a:srgbClr val="000000"/>
              </a:solidFill>
              <a:latin typeface="Arial"/>
            </a:endParaRPr>
          </a:p>
        </p:txBody>
      </p:sp>
      <p:sp>
        <p:nvSpPr>
          <p:cNvPr id="141" name=""/>
          <p:cNvSpPr/>
          <p:nvPr/>
        </p:nvSpPr>
        <p:spPr>
          <a:xfrm>
            <a:off x="468360" y="1773360"/>
            <a:ext cx="828036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ee un programa que a partir del siguiente </a:t>
            </a:r>
            <a:r>
              <a:rPr b="1" lang="es-CL" sz="1800" spc="-1" strike="noStrike">
                <a:solidFill>
                  <a:srgbClr val="000000"/>
                </a:solidFill>
                <a:latin typeface="Arial"/>
              </a:rPr>
              <a:t>struc</a:t>
            </a:r>
            <a:r>
              <a:rPr b="0" lang="es-CL" sz="1800" spc="-1" strike="noStrike">
                <a:solidFill>
                  <a:srgbClr val="000000"/>
                </a:solidFill>
                <a:latin typeface="Arial"/>
              </a:rPr>
              <a:t> muest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rnet, Apellido, Nombre, edad, peso, altu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5 personas, de tal manera que seleccionando de 1 a 5 se pueda llamar y mostrar esos da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unciones</a:t>
            </a:r>
            <a:endParaRPr b="0" lang="en-US" sz="4000" spc="-1" strike="noStrike">
              <a:solidFill>
                <a:srgbClr val="000000"/>
              </a:solidFill>
              <a:latin typeface="Arial"/>
            </a:endParaRPr>
          </a:p>
        </p:txBody>
      </p:sp>
      <p:sp>
        <p:nvSpPr>
          <p:cNvPr id="143" name=""/>
          <p:cNvSpPr/>
          <p:nvPr/>
        </p:nvSpPr>
        <p:spPr>
          <a:xfrm>
            <a:off x="395280" y="1700280"/>
            <a:ext cx="8137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 funciones son un conjunto de instrucciones que realizan una tarea específica. En general toman unos valores de entrada, llamados parámetros y proporcionan un valor de salida o valor de retorno; aunque tanto unos como el otro pueden no existi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l vez sorprenda que las introduzca tan pronto, pero como son una herramienta muy valiosa, y se usan en todos los programas C++, creo que debemos tener, al menos, una primera noción de su u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 igual que con las variables, las funciones pueden declararse y definir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 declaración es simplemente una presentación, una definición contiene las instrucciones con las que realizará su trabajo la fun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unciones</a:t>
            </a:r>
            <a:endParaRPr b="0" lang="en-US" sz="4000" spc="-1" strike="noStrike">
              <a:solidFill>
                <a:srgbClr val="000000"/>
              </a:solidFill>
              <a:latin typeface="Arial"/>
            </a:endParaRPr>
          </a:p>
        </p:txBody>
      </p:sp>
      <p:sp>
        <p:nvSpPr>
          <p:cNvPr id="145" name=""/>
          <p:cNvSpPr/>
          <p:nvPr/>
        </p:nvSpPr>
        <p:spPr>
          <a:xfrm>
            <a:off x="324000" y="1628640"/>
            <a:ext cx="8496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general, la definición de una función se compone de las siguientes secciones, aunque pueden complicarse en ciertos cas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pcionalmente, una palabra que especifique el tipo de almacenamiento, puede ser "extern" o "static". Si no se especifica es "extern". No te preocupes de esto todavía, de momento sólo usaremos funciones externas, sólo lo menciono porque es parte de la declaración. Una pista: las funciones declaradas como extern están disponibles para todo el programa, las funciones static pueden no estar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tipo del valor de retorno, que puede ser "void", si no necesitamos valor de retorno. En C, si no se establece, por defecto será "int", aunque en general se considera de mal gusto omitir el tipo de valor de retorno. En C++ es obligatorio indicar el tipo del valor de retor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odificadores opcionales. Tienen un uso muy específico, de momento no entraremos en este particular, lo veremos en capítulos posterio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unciones</a:t>
            </a:r>
            <a:endParaRPr b="0" lang="en-US" sz="4000" spc="-1" strike="noStrike">
              <a:solidFill>
                <a:srgbClr val="000000"/>
              </a:solidFill>
              <a:latin typeface="Arial"/>
            </a:endParaRPr>
          </a:p>
        </p:txBody>
      </p:sp>
      <p:sp>
        <p:nvSpPr>
          <p:cNvPr id="147" name=""/>
          <p:cNvSpPr/>
          <p:nvPr/>
        </p:nvSpPr>
        <p:spPr>
          <a:xfrm>
            <a:off x="324000" y="1341360"/>
            <a:ext cx="84960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nombre de la función. Es costumbre, muy útil y muy recomendable, poner nombres que indiquen, lo más claramente posible, qué es lo que hace la función, y que permitan interpretar qué hace el programa con sólo leerlo. Cuando se precisen varias palabras para conseguir este efecto existen varias reglas aplicables de uso común. Una consiste en separar cada palabra con un "_", la otra, que yo prefiero, consiste en escribir la primera letra de cada palabra en mayúscula y el resto en minúsculas. Por ejemplo, si hacemos una función que busque el número de teléfono de una persona en una base de datos, podríamos llamarla "busca_telefono" o "BuscaTelefo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a lista de declaraciones de parámetros entre paréntesis. Los parámetros de una función son los valores de entrada (y en ocasiones también de salida). Para la función se comportan exactamente igual que variables, y de hecho cada parámetro se declara igual que una variable. Una lista de parámetros es un conjunto de declaraciones de parámetros separados con comas. Puede tratarse de una lista vacía. En C es preferible usar la forma "func(void)" para listas de parámetros vacías. En C++ este procedimiento se considera obsoleto, se usa simplemente "fun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unciones</a:t>
            </a:r>
            <a:endParaRPr b="0" lang="en-US" sz="4000" spc="-1" strike="noStrike">
              <a:solidFill>
                <a:srgbClr val="000000"/>
              </a:solidFill>
              <a:latin typeface="Arial"/>
            </a:endParaRPr>
          </a:p>
        </p:txBody>
      </p:sp>
      <p:sp>
        <p:nvSpPr>
          <p:cNvPr id="149" name=""/>
          <p:cNvSpPr/>
          <p:nvPr/>
        </p:nvSpPr>
        <p:spPr>
          <a:xfrm>
            <a:off x="324000" y="1341360"/>
            <a:ext cx="8496000" cy="435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 cuerpo de función que representa el código que será ejecutado cuando se llame a la función. El cuerpo de la función se encierra entre llav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a función muy especial es la función "main". Se trata de la función de entrada, y debe existir siempre, será la que tome el control cuando se ejecute un programa en C. Los programas Windows usan la función WinMain() como función de entrada, pero esto se explica en otro lug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xisten reglas para el uso de los valores de retorno y de los parámetros de la función "main", pero de momento la usaremos como "int main()" o "int main(void)", con un entero como valor de retorno y sin parámetros de entrada. El valor de retorno indicará si el programa ha terminado sin novedad ni errores retornando cero, cualquier otro valor de retorno indicará un código de err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unciones</a:t>
            </a:r>
            <a:endParaRPr b="0" lang="en-US" sz="4000" spc="-1" strike="noStrike">
              <a:solidFill>
                <a:srgbClr val="000000"/>
              </a:solidFill>
              <a:latin typeface="Arial"/>
            </a:endParaRPr>
          </a:p>
        </p:txBody>
      </p:sp>
      <p:sp>
        <p:nvSpPr>
          <p:cNvPr id="151" name=""/>
          <p:cNvSpPr/>
          <p:nvPr/>
        </p:nvSpPr>
        <p:spPr>
          <a:xfrm>
            <a:off x="611280" y="1557360"/>
            <a:ext cx="7705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C++ es obligatorio usar prototipos. Un prototipo es una declaración de una función. Consiste en una definición de la función sin cuerpo y terminado con un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estructura de un prototipo 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t;tipo&gt; func(&lt;lista de declaración de parámetros&g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ejempl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 Mayor(int a, int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tructura de un Programa</a:t>
            </a:r>
            <a:endParaRPr b="0" lang="en-US" sz="4000" spc="-1" strike="noStrike">
              <a:solidFill>
                <a:srgbClr val="000000"/>
              </a:solidFill>
              <a:latin typeface="Arial"/>
            </a:endParaRPr>
          </a:p>
        </p:txBody>
      </p:sp>
      <p:sp>
        <p:nvSpPr>
          <p:cNvPr id="153" name=""/>
          <p:cNvSpPr/>
          <p:nvPr/>
        </p:nvSpPr>
        <p:spPr>
          <a:xfrm>
            <a:off x="395280" y="1700280"/>
            <a:ext cx="828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611280" y="1484280"/>
            <a:ext cx="80643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estructura de un programa en C o C++ quedaría as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irectivas del pre-procesador: includes y defin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claración de variables globa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totipos de fun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claraciones de clas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unción main [definiciones de funcion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finiciones de clas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unciones</a:t>
            </a:r>
            <a:endParaRPr b="0" lang="en-US" sz="4000" spc="-1" strike="noStrike">
              <a:solidFill>
                <a:srgbClr val="000000"/>
              </a:solidFill>
              <a:latin typeface="Arial"/>
            </a:endParaRPr>
          </a:p>
        </p:txBody>
      </p:sp>
      <p:pic>
        <p:nvPicPr>
          <p:cNvPr id="156" name="" descr=""/>
          <p:cNvPicPr/>
          <p:nvPr/>
        </p:nvPicPr>
        <p:blipFill>
          <a:blip r:embed="rId1"/>
          <a:stretch/>
        </p:blipFill>
        <p:spPr>
          <a:xfrm>
            <a:off x="179280" y="1700280"/>
            <a:ext cx="5040360" cy="4370400"/>
          </a:xfrm>
          <a:prstGeom prst="rect">
            <a:avLst/>
          </a:prstGeom>
          <a:ln w="0">
            <a:noFill/>
          </a:ln>
        </p:spPr>
      </p:pic>
      <p:sp>
        <p:nvSpPr>
          <p:cNvPr id="157" name=""/>
          <p:cNvSpPr/>
          <p:nvPr/>
        </p:nvSpPr>
        <p:spPr>
          <a:xfrm>
            <a:off x="5292720" y="1916280"/>
            <a:ext cx="367200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cuadros de texto son:txtCateto1, txtCateto2, txtHipotenus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botones son: btnCalcular1, btnCalcular 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5292720" y="3789360"/>
            <a:ext cx="3672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cuadros de texto son: txtN, txtNCub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botón es: btnCalcular3,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549000"/>
            <a:ext cx="82296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truct</a:t>
            </a:r>
            <a:endParaRPr b="0" lang="en-US" sz="4000" spc="-1" strike="noStrike">
              <a:solidFill>
                <a:srgbClr val="000000"/>
              </a:solidFill>
              <a:latin typeface="Arial"/>
            </a:endParaRPr>
          </a:p>
        </p:txBody>
      </p:sp>
      <p:sp>
        <p:nvSpPr>
          <p:cNvPr id="109" name="PlaceHolder 2"/>
          <p:cNvSpPr>
            <a:spLocks noGrp="1"/>
          </p:cNvSpPr>
          <p:nvPr>
            <p:ph/>
          </p:nvPr>
        </p:nvSpPr>
        <p:spPr>
          <a:xfrm>
            <a:off x="468360" y="1413000"/>
            <a:ext cx="8229600" cy="5184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truct</a:t>
            </a:r>
            <a:r>
              <a:rPr b="0" lang="es-CL" sz="2000" spc="-1" strike="noStrike">
                <a:solidFill>
                  <a:srgbClr val="000000"/>
                </a:solidFill>
                <a:latin typeface="Arial"/>
              </a:rPr>
              <a:t> es una extensión de array. Los array solamente agrupan objetos de un solo tipo. En cambio los struct pueden llevar variados tipos de dato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estructuras </a:t>
            </a:r>
            <a:r>
              <a:rPr b="1" lang="es-ES" sz="2000" spc="-1" strike="noStrike">
                <a:solidFill>
                  <a:srgbClr val="000000"/>
                </a:solidFill>
                <a:latin typeface="Arial"/>
              </a:rPr>
              <a:t>struct</a:t>
            </a:r>
            <a:r>
              <a:rPr b="0" lang="es-ES" sz="2000" spc="-1" strike="noStrike">
                <a:solidFill>
                  <a:srgbClr val="000000"/>
                </a:solidFill>
                <a:latin typeface="Arial"/>
              </a:rPr>
              <a:t> son el segundo tipo de datos estructurados que veremo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estructuras nos permiten agrupar varios datos, aunque sean de distinto tipo, que mantengan algún tipo de relación, permitiendo manipularlos todos juntos, con un mismo identificador, o por separado.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estructuras son llamadas también muy a menudo registros, o en inglés "records". Y son estructuras análogas en muchos aspectos a los registros de bases de datos. Y siguiendo la misma analogía, cada variable de una estructura se denomina a menudo campo, o "fiel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unciones</a:t>
            </a:r>
            <a:endParaRPr b="0" lang="en-US" sz="4000" spc="-1" strike="noStrike">
              <a:solidFill>
                <a:srgbClr val="000000"/>
              </a:solidFill>
              <a:latin typeface="Arial"/>
            </a:endParaRPr>
          </a:p>
        </p:txBody>
      </p:sp>
      <p:sp>
        <p:nvSpPr>
          <p:cNvPr id="160" name=""/>
          <p:cNvSpPr/>
          <p:nvPr/>
        </p:nvSpPr>
        <p:spPr>
          <a:xfrm>
            <a:off x="468360" y="1268280"/>
            <a:ext cx="82072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despues d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__fastcall TForm1::TForm1(TComponent* Ow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r>
              <a:rPr b="0" lang="es-ES" sz="1800" spc="-1" strike="noStrike">
                <a:solidFill>
                  <a:srgbClr val="33cc33"/>
                </a:solidFill>
                <a:latin typeface="Arial"/>
              </a:rPr>
              <a:t>	</a:t>
            </a:r>
            <a:r>
              <a:rPr b="0" lang="es-ES" sz="1800" spc="-1" strike="noStrike">
                <a:solidFill>
                  <a:srgbClr val="33cc33"/>
                </a:solidFill>
                <a:latin typeface="Arial"/>
              </a:rPr>
              <a:t>: TForm(Ow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se definen las fun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uble hipo(double cat1, double c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ouble hipotenu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hipotenusa = sqrt(cat1*cat1+cat2*c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return hipotenu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 cubo(int num) //parámetros por val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cubonu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ubonum = num*num*nu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return cubonu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95280" y="1773360"/>
            <a:ext cx="81374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Calcular1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33cc33"/>
                </a:solidFill>
                <a:latin typeface="Arial"/>
              </a:rPr>
              <a:t>//metodo normal  todo dentro del progra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ouble c1,c2,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1 = StrToFloat(txtCateto1-&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2 = StrToFloat(txtCateto2-&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h = sqrt(c1*c1+c2*c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xtHipotenusa-&gt;Text = FloatToStr(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16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uncion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unciones</a:t>
            </a:r>
            <a:endParaRPr b="0" lang="en-US" sz="4000" spc="-1" strike="noStrike">
              <a:solidFill>
                <a:srgbClr val="000000"/>
              </a:solidFill>
              <a:latin typeface="Arial"/>
            </a:endParaRPr>
          </a:p>
        </p:txBody>
      </p:sp>
      <p:sp>
        <p:nvSpPr>
          <p:cNvPr id="164" name=""/>
          <p:cNvSpPr/>
          <p:nvPr/>
        </p:nvSpPr>
        <p:spPr>
          <a:xfrm>
            <a:off x="468360" y="1557360"/>
            <a:ext cx="8280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Calcular2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33cc33"/>
                </a:solidFill>
                <a:latin typeface="Arial"/>
              </a:rPr>
              <a:t>//lo hace por func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ouble c1, c2, 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1 = StrToFloat(txtCateto1-&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2 = StrToFloat(txtCateto2-&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h = hipo(c1, c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xtHipotenusa-&gt;Text = FloatToStr(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unciones</a:t>
            </a:r>
            <a:endParaRPr b="0" lang="en-US" sz="4000" spc="-1" strike="noStrike">
              <a:solidFill>
                <a:srgbClr val="000000"/>
              </a:solidFill>
              <a:latin typeface="Arial"/>
            </a:endParaRPr>
          </a:p>
        </p:txBody>
      </p:sp>
      <p:sp>
        <p:nvSpPr>
          <p:cNvPr id="166" name=""/>
          <p:cNvSpPr/>
          <p:nvPr/>
        </p:nvSpPr>
        <p:spPr>
          <a:xfrm>
            <a:off x="611280" y="1557360"/>
            <a:ext cx="7561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Calcular3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n, n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n = StrToInt(txtN-&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n3 = cub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xtNCubo-&gt;Text = IntToStr(n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truct</a:t>
            </a:r>
            <a:endParaRPr b="0" lang="en-US" sz="4000" spc="-1" strike="noStrike">
              <a:solidFill>
                <a:srgbClr val="000000"/>
              </a:solidFill>
              <a:latin typeface="Arial"/>
            </a:endParaRPr>
          </a:p>
        </p:txBody>
      </p:sp>
      <p:sp>
        <p:nvSpPr>
          <p:cNvPr id="111" name=""/>
          <p:cNvSpPr/>
          <p:nvPr/>
        </p:nvSpPr>
        <p:spPr>
          <a:xfrm>
            <a:off x="468360" y="1413000"/>
            <a:ext cx="8229600" cy="51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truct [&lt;identificador&gt;] { [&lt;tipo&gt; &lt;nombre_variable&gt;[,&lt;nombre_variable&gt;,...]]; . } [&lt;variable_estructura&gt;[,&lt;variable_estructura&g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nombre de la estructura es un nombre opcional para referirse a la estructura.</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variables de estructura son variables declaradas del tipo de la estructura, y su inclusión también es opcional. Sin bien, al menos uno de estos elementos debe existir, aunque ambos sean opcional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l interior de una estructura, entre las llaves, se pueden definir todos los elementos que consideremos necesarios, del mismo modo que se declaran las variables.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estructuras pueden referenciarse completas, usando su nombre, como hacemos con las variables que ya conocemos, y también se puede acceder a los elementos en el interior de la estructura usando el operador de selección (.), un punto.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truc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68360" y="1847520"/>
            <a:ext cx="8229600" cy="3886200"/>
          </a:xfrm>
          <a:prstGeom prst="rect">
            <a:avLst/>
          </a:prstGeom>
          <a:noFill/>
          <a:ln w="0">
            <a:noFill/>
          </a:ln>
        </p:spPr>
        <p:txBody>
          <a:bodyPr lIns="90000" rIns="90000" tIns="46800" bIns="46800" anchor="t">
            <a:normAutofit fontScale="90000"/>
          </a:bodyPr>
          <a:p>
            <a:pPr marL="308520" indent="-30852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mbién pueden declararse más variables del tipo de estructura en cualquier parte del programa, de la siguiente forma:</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truct] &lt;identificador&gt; &lt;variable_estructura&gt; [,&lt;variable_estructura&gt;...]; </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jemplo</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truct Persona { char Nombre[65];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har Direccion[65];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t AnyoNacimiento;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ersona Fulanito;</a:t>
            </a:r>
            <a:endParaRPr b="0" lang="en-US" sz="2000" spc="-1" strike="noStrike">
              <a:solidFill>
                <a:srgbClr val="000000"/>
              </a:solidFill>
              <a:latin typeface="Arial"/>
            </a:endParaRPr>
          </a:p>
        </p:txBody>
      </p:sp>
      <p:sp>
        <p:nvSpPr>
          <p:cNvPr id="11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truc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truct</a:t>
            </a:r>
            <a:endParaRPr b="0" lang="en-US" sz="4000" spc="-1" strike="noStrike">
              <a:solidFill>
                <a:srgbClr val="000000"/>
              </a:solidFill>
              <a:latin typeface="Arial"/>
            </a:endParaRPr>
          </a:p>
        </p:txBody>
      </p:sp>
      <p:pic>
        <p:nvPicPr>
          <p:cNvPr id="117" name="" descr=""/>
          <p:cNvPicPr/>
          <p:nvPr/>
        </p:nvPicPr>
        <p:blipFill>
          <a:blip r:embed="rId1"/>
          <a:stretch/>
        </p:blipFill>
        <p:spPr>
          <a:xfrm>
            <a:off x="971640" y="1628640"/>
            <a:ext cx="3382920" cy="3961080"/>
          </a:xfrm>
          <a:prstGeom prst="rect">
            <a:avLst/>
          </a:prstGeom>
          <a:ln w="0">
            <a:noFill/>
          </a:ln>
        </p:spPr>
      </p:pic>
      <p:sp>
        <p:nvSpPr>
          <p:cNvPr id="118" name=""/>
          <p:cNvSpPr/>
          <p:nvPr/>
        </p:nvSpPr>
        <p:spPr>
          <a:xfrm>
            <a:off x="4572000" y="2997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4716360" y="1412640"/>
            <a:ext cx="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4716360" y="14130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356000" y="2133720"/>
            <a:ext cx="216000" cy="1726920"/>
          </a:xfrm>
          <a:custGeom>
            <a:avLst/>
            <a:gdLst>
              <a:gd name="textAreaLeft" fmla="*/ 0 w 216000"/>
              <a:gd name="textAreaRight" fmla="*/ 78120 w 216000"/>
              <a:gd name="textAreaTop" fmla="*/ 45000 h 1726920"/>
              <a:gd name="textAreaBottom" fmla="*/ 1681920 h 1726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219640" y="981000"/>
            <a:ext cx="31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os TEdit o cajas de texto, seran nombrados txtMarca, txtModelo, txtPeso, txtCuerdas </a:t>
            </a:r>
            <a:endParaRPr b="0" lang="en-US" sz="1800" spc="-1" strike="noStrike">
              <a:solidFill>
                <a:srgbClr val="000000"/>
              </a:solidFill>
              <a:latin typeface="Arial"/>
            </a:endParaRPr>
          </a:p>
        </p:txBody>
      </p:sp>
      <p:sp>
        <p:nvSpPr>
          <p:cNvPr id="123" name=""/>
          <p:cNvSpPr/>
          <p:nvPr/>
        </p:nvSpPr>
        <p:spPr>
          <a:xfrm>
            <a:off x="3635280" y="393372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651640" y="3284640"/>
            <a:ext cx="24494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e es el objeto ColorBox el cual será llamado cbColor. VColorBox está ubicado en Aditional en el Tool Palette</a:t>
            </a:r>
            <a:endParaRPr b="0" lang="en-US" sz="1800" spc="-1" strike="noStrike">
              <a:solidFill>
                <a:srgbClr val="000000"/>
              </a:solidFill>
              <a:latin typeface="Arial"/>
            </a:endParaRPr>
          </a:p>
        </p:txBody>
      </p:sp>
      <p:sp>
        <p:nvSpPr>
          <p:cNvPr id="125" name=""/>
          <p:cNvSpPr/>
          <p:nvPr/>
        </p:nvSpPr>
        <p:spPr>
          <a:xfrm>
            <a:off x="4500720" y="46530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4643280" y="4652640"/>
            <a:ext cx="180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4643280" y="580536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284720" y="4076640"/>
            <a:ext cx="216000" cy="1152720"/>
          </a:xfrm>
          <a:custGeom>
            <a:avLst/>
            <a:gdLst>
              <a:gd name="textAreaLeft" fmla="*/ 0 w 216000"/>
              <a:gd name="textAreaRight" fmla="*/ 78120 w 216000"/>
              <a:gd name="textAreaTop" fmla="*/ 29880 h 1152720"/>
              <a:gd name="textAreaBottom" fmla="*/ 1122840 h 115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5003640" y="5373720"/>
            <a:ext cx="2735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os TButton llamados btnGuardar, btnLimpiar, btnCarg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truct</a:t>
            </a:r>
            <a:endParaRPr b="0" lang="en-US" sz="4000" spc="-1" strike="noStrike">
              <a:solidFill>
                <a:srgbClr val="000000"/>
              </a:solidFill>
              <a:latin typeface="Arial"/>
            </a:endParaRPr>
          </a:p>
        </p:txBody>
      </p:sp>
      <p:sp>
        <p:nvSpPr>
          <p:cNvPr id="131" name=""/>
          <p:cNvSpPr/>
          <p:nvPr/>
        </p:nvSpPr>
        <p:spPr>
          <a:xfrm>
            <a:off x="2484360" y="585720"/>
            <a:ext cx="61563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lt;vcl.h&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hdrst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Programa011.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package(smart_in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resource "*.df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declaración de stru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uct TGuitar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nsiString Marca, Mode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ouble Pe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Cuerd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Color Col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frmGuitarra *frmGuitar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declaración de la variable tipo struct TGuitar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Guitarra  UnaGuitar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truct</a:t>
            </a:r>
            <a:endParaRPr b="0" lang="en-US" sz="4000" spc="-1" strike="noStrike">
              <a:solidFill>
                <a:srgbClr val="000000"/>
              </a:solidFill>
              <a:latin typeface="Arial"/>
            </a:endParaRPr>
          </a:p>
        </p:txBody>
      </p:sp>
      <p:sp>
        <p:nvSpPr>
          <p:cNvPr id="133" name=""/>
          <p:cNvSpPr/>
          <p:nvPr/>
        </p:nvSpPr>
        <p:spPr>
          <a:xfrm>
            <a:off x="539640" y="1844640"/>
            <a:ext cx="8064720" cy="352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void __fastcall TfrmGuitarra::btnGuardar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33cc33"/>
                </a:solidFill>
                <a:latin typeface="Arial"/>
              </a:rPr>
              <a:t>//en este punto guardar no significa un arch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33cc33"/>
                </a:solidFill>
                <a:latin typeface="Arial"/>
              </a:rPr>
              <a:t>	</a:t>
            </a:r>
            <a:r>
              <a:rPr b="0" sz="1800" spc="-1" strike="noStrike">
                <a:solidFill>
                  <a:srgbClr val="33cc33"/>
                </a:solidFill>
                <a:latin typeface="Arial"/>
              </a:rPr>
              <a:t>//significa que esos datos serán almacena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33cc33"/>
                </a:solidFill>
                <a:latin typeface="Arial"/>
              </a:rPr>
              <a:t>	</a:t>
            </a:r>
            <a:r>
              <a:rPr b="0" sz="1800" spc="-1" strike="noStrike">
                <a:solidFill>
                  <a:srgbClr val="33cc33"/>
                </a:solidFill>
                <a:latin typeface="Arial"/>
              </a:rPr>
              <a:t>//en la variable struct TGuitarra llamada UnaGuitar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UnaGuitarra.Marca   = txtMarca-&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UnaGuitarra.Modelo  = txtModelo-&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UnaGuitarra.Peso    = StrToFloat(txtPeso-&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UnaGuitarra.Cuerdas = StrToInt(txtCuerdas-&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UnaGuitarra.Color   = cbColor-&gt;Selec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truct</a:t>
            </a:r>
            <a:endParaRPr b="0" lang="en-US" sz="4000" spc="-1" strike="noStrike">
              <a:solidFill>
                <a:srgbClr val="000000"/>
              </a:solidFill>
              <a:latin typeface="Arial"/>
            </a:endParaRPr>
          </a:p>
        </p:txBody>
      </p:sp>
      <p:sp>
        <p:nvSpPr>
          <p:cNvPr id="135" name=""/>
          <p:cNvSpPr/>
          <p:nvPr/>
        </p:nvSpPr>
        <p:spPr>
          <a:xfrm>
            <a:off x="826920" y="1557360"/>
            <a:ext cx="6985080" cy="270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void __fastcall TfrmGuitarra::btnLimpiar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txtMarca-&gt;Cl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txtModelo-&gt;Cl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txtPeso-&gt;Cl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txtCuerdas-&gt;Cl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cbColor-&gt;Selected = clBla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12:53:45Z</dcterms:created>
  <dc:creator>Eddie</dc:creator>
  <dc:description/>
  <dc:language>en-US</dc:language>
  <cp:lastModifiedBy>Eddie</cp:lastModifiedBy>
  <dcterms:modified xsi:type="dcterms:W3CDTF">2009-08-04T14:36:39Z</dcterms:modified>
  <cp:revision>148</cp:revision>
  <dc:subject/>
  <dc:title>Computación 1</dc:title>
</cp:coreProperties>
</file>