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495A79-940F-4A72-AB64-D21BFA166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B2C1C-9170-44C7-AED7-08A833EFD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1E21CE-5265-4946-9D1E-3C3394E53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D75AFF-5EB8-4F6C-BC5D-A9EA56FE1B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3ABB7-E74B-450B-9BE1-756E41972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00F15-3AFF-4068-8905-B836680EC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62356-2094-458D-B581-B0C8CADA2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2D844-4CD0-4962-AF9C-5BFE429EE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56E70-6ACC-493C-9C32-796CB3C1D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3D9C6-C2C0-4ACC-A445-DCB5CFBDC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D62F8-DAD3-4C25-A759-F70B1C12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B9BEC3-DA9F-4BF0-BAF5-3BE7E3945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85E83-529E-4468-B4E5-DD6915167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8FD20-58EF-43EA-AE87-9FCCD0CF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CD71E-326E-496A-8DA2-E42A4E620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499B7-B7A1-47FB-8A99-D5ED2EDA2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BD1D5-9D97-40FE-BD12-6D697A543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2833C1-ADFA-4EC1-B07C-37CFE530A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FD84D-DEED-4122-88E3-33A1B5F2B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0B6538-A0B5-43F0-AE7D-9CBB85A23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C724C5-0DA4-4103-AE96-FF73DA60A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744B7D-2DCB-489A-A773-21FB4B12E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43F13-39C4-497F-A4A0-44024A919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380A6-A9E0-47B0-87A8-98FAB45B70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6311-70DB-4278-871F-A41ACC5245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C561-F722-4B62-9CB1-11DD8D210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7</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7" name=""/>
          <p:cNvSpPr/>
          <p:nvPr/>
        </p:nvSpPr>
        <p:spPr>
          <a:xfrm>
            <a:off x="395280" y="1557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Guitarra::btnCarg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aqui lo guardado en la variable es llamado y escrito en los cuad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800" spc="-1" strike="noStrike">
                <a:solidFill>
                  <a:srgbClr val="33cc33"/>
                </a:solidFill>
                <a:latin typeface="Arial"/>
              </a:rPr>
              <a:t>//de tex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arca-&gt;Text    = UnaGuitarra.Mar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odelo-&gt;Text   = UnaGuitarra.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Peso-&gt;Text     = FloatToStr(UnaGuitarra.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Cuerdas-&gt;Text  = IntToStr(UnaGuitarra.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bColor-&gt;Selected = UnaGuitarra.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9" name=""/>
          <p:cNvSpPr/>
          <p:nvPr/>
        </p:nvSpPr>
        <p:spPr>
          <a:xfrm>
            <a:off x="611280" y="1341360"/>
            <a:ext cx="8281800" cy="5526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A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i;</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j;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k;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B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x;</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C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c;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d;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z;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jemploA = {10, 20, 30};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jemploB = {10, {'a', 'b'},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41" name=""/>
          <p:cNvSpPr/>
          <p:nvPr/>
        </p:nvSpPr>
        <p:spPr>
          <a:xfrm>
            <a:off x="468360" y="1773360"/>
            <a:ext cx="82803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 un programa que a partir del siguiente </a:t>
            </a:r>
            <a:r>
              <a:rPr b="1" lang="es-CL" sz="1800" spc="-1" strike="noStrike">
                <a:solidFill>
                  <a:srgbClr val="000000"/>
                </a:solidFill>
                <a:latin typeface="Arial"/>
              </a:rPr>
              <a:t>struc</a:t>
            </a:r>
            <a:r>
              <a:rPr b="0" lang="es-CL" sz="1800" spc="-1" strike="noStrike">
                <a:solidFill>
                  <a:srgbClr val="000000"/>
                </a:solidFill>
                <a:latin typeface="Arial"/>
              </a:rPr>
              <a:t> muest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net, Apellido, Nombre, edad, peso, altu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5 personas, de tal manera que seleccionando de 1 a 5 se pueda llamar y mostrar esos da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3" name=""/>
          <p:cNvSpPr/>
          <p:nvPr/>
        </p:nvSpPr>
        <p:spPr>
          <a:xfrm>
            <a:off x="395280" y="1700280"/>
            <a:ext cx="813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unciones son un conjunto de instrucciones que realizan una tarea específica. En general toman unos valores de entrada, llamados parámetros y proporcionan un valor de salida o valor de retorno; aunque tanto unos como el otro pueden no exis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 vez sorprenda que las introduzca tan pronto, pero como son una herramienta muy valiosa, y se usan en todos los programas C++, creo que debemos tener, al menos, una primera noción de su u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igual que con las variables, las funciones pueden declararse y definir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declaración es simplemente una presentación, una definición contiene las instrucciones con las que realizará su trabajo la fu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5" name=""/>
          <p:cNvSpPr/>
          <p:nvPr/>
        </p:nvSpPr>
        <p:spPr>
          <a:xfrm>
            <a:off x="324000" y="162864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eneral, la definición de una función se compone de las siguientes secciones, aunque pueden complicarse en ciertos ca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onalmente, una palabra que especifique el tipo de almacenamiento, puede ser "extern" o "static". Si no se especifica es "extern". No te preocupes de esto todavía, de momento sólo usaremos funciones externas, sólo lo menciono porque es parte de la declaración. Una pista: las funciones declaradas como extern están disponibles para todo el programa, las funciones static pueden no esta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ipo del valor de retorno, que puede ser "void", si no necesitamos valor de retorno. En C, si no se establece, por defecto será "int", aunque en general se considera de mal gusto omitir el tipo de valor de retorno. En C++ es obligatorio indicar el tipo del valor de re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ificadores opcionales. Tienen un uso muy específico, de momento no entraremos en este particular, lo veremos en capítulos pos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7" name=""/>
          <p:cNvSpPr/>
          <p:nvPr/>
        </p:nvSpPr>
        <p:spPr>
          <a:xfrm>
            <a:off x="324000" y="1341360"/>
            <a:ext cx="849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ombre de la función. Es costumbre, muy útil y muy recomendable, poner nombres que indiquen, lo más claramente posible, qué es lo que hace la función, y que permitan interpretar qué hace el programa con sólo leerlo. Cuando se precisen varias palabras para conseguir este efecto existen varias reglas aplicables de uso común. Una consiste en separar cada palabra con un "_", la otra, que yo prefiero, consiste en escribir la primera letra de cada palabra en mayúscula y el resto en minúsculas. Por ejemplo, si hacemos una función que busque el número de teléfono de una persona en una base de datos, podríamos llamarla "busca_telefono" o "BuscaTelef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lista de declaraciones de parámetros entre paréntesis. Los parámetros de una función son los valores de entrada (y en ocasiones también de salida). Para la función se comportan exactamente igual que variables, y de hecho cada parámetro se declara igual que una variable. Una lista de parámetros es un conjunto de declaraciones de parámetros separados con comas. Puede tratarse de una lista vacía. En C es preferible usar la forma "func(void)" para listas de parámetros vacías. En C++ este procedimiento se considera obsoleto, se usa simplemente "fu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9" name=""/>
          <p:cNvSpPr/>
          <p:nvPr/>
        </p:nvSpPr>
        <p:spPr>
          <a:xfrm>
            <a:off x="324000" y="1341360"/>
            <a:ext cx="8496000" cy="435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uerpo de función que representa el código que será ejecutado cuando se llame a la función. El cuerpo de la función se encierra entre llav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función muy especial es la función "main". Se trata de la función de entrada, y debe existir siempre, será la que tome el control cuando se ejecute un programa en C. Los programas Windows usan la función WinMain() como función de entrada, pero esto se explica en otro l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reglas para el uso de los valores de retorno y de los parámetros de la función "main", pero de momento la usaremos como "int main()" o "int main(void)", con un entero como valor de retorno y sin parámetros de entrada. El valor de retorno indicará si el programa ha terminado sin novedad ni errores retornando cero, cualquier otro valor de retorno indicará un código de err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51" name=""/>
          <p:cNvSpPr/>
          <p:nvPr/>
        </p:nvSpPr>
        <p:spPr>
          <a:xfrm>
            <a:off x="611280" y="1557360"/>
            <a:ext cx="7705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 es obligatorio usar prototipos. Un prototipo es una declaración de una función. Consiste en una definición de la función sin cuerpo y terminado con u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totipo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t;tipo&gt; func(&lt;lista de declaración de parámetros&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Mayor(int a, int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uctura de un Programa</a:t>
            </a:r>
            <a:endParaRPr b="0" lang="en-US" sz="4000" spc="-1" strike="noStrike">
              <a:solidFill>
                <a:srgbClr val="000000"/>
              </a:solidFill>
              <a:latin typeface="Arial"/>
            </a:endParaRPr>
          </a:p>
        </p:txBody>
      </p:sp>
      <p:sp>
        <p:nvSpPr>
          <p:cNvPr id="153" name=""/>
          <p:cNvSpPr/>
          <p:nvPr/>
        </p:nvSpPr>
        <p:spPr>
          <a:xfrm>
            <a:off x="395280" y="170028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611280" y="1484280"/>
            <a:ext cx="80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grama en C o C++ quedaría as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ivas del pre-procesador: includes y def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ón de variables glob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totipos de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ones de cl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nción main [definiciones de fun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ones de cla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pic>
        <p:nvPicPr>
          <p:cNvPr id="156" name="" descr=""/>
          <p:cNvPicPr/>
          <p:nvPr/>
        </p:nvPicPr>
        <p:blipFill>
          <a:blip r:embed="rId1"/>
          <a:stretch/>
        </p:blipFill>
        <p:spPr>
          <a:xfrm>
            <a:off x="179280" y="1700280"/>
            <a:ext cx="5040360" cy="4370400"/>
          </a:xfrm>
          <a:prstGeom prst="rect">
            <a:avLst/>
          </a:prstGeom>
          <a:ln w="0">
            <a:noFill/>
          </a:ln>
        </p:spPr>
      </p:pic>
      <p:sp>
        <p:nvSpPr>
          <p:cNvPr id="157" name=""/>
          <p:cNvSpPr/>
          <p:nvPr/>
        </p:nvSpPr>
        <p:spPr>
          <a:xfrm>
            <a:off x="5292720" y="1916280"/>
            <a:ext cx="3672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txtCateto1, txtCateto2, txtHipoten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botones son: btnCalcular1, btnCalcular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292720" y="3789360"/>
            <a:ext cx="36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 txtN, txtNCub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botón es: btnCalcular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09"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truct</a:t>
            </a:r>
            <a:r>
              <a:rPr b="0" lang="es-CL" sz="2000" spc="-1" strike="noStrike">
                <a:solidFill>
                  <a:srgbClr val="000000"/>
                </a:solidFill>
                <a:latin typeface="Arial"/>
              </a:rPr>
              <a:t> es una extensión de array. Los array solamente agrupan objetos de un solo tipo. En cambio los struct pueden llevar variados tipos de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a:t>
            </a:r>
            <a:r>
              <a:rPr b="1" lang="es-ES" sz="2000" spc="-1" strike="noStrike">
                <a:solidFill>
                  <a:srgbClr val="000000"/>
                </a:solidFill>
                <a:latin typeface="Arial"/>
              </a:rPr>
              <a:t>struct</a:t>
            </a:r>
            <a:r>
              <a:rPr b="0" lang="es-ES" sz="2000" spc="-1" strike="noStrike">
                <a:solidFill>
                  <a:srgbClr val="000000"/>
                </a:solidFill>
                <a:latin typeface="Arial"/>
              </a:rPr>
              <a:t> son el segundo tipo de datos estructurados que verem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nos permiten agrupar varios datos, aunque sean de distinto tipo, que mantengan algún tipo de relación, permitiendo manipularlos todos juntos, con un mismo identificador, o por separad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son llamadas también muy a menudo registros, o en inglés "records". Y son estructuras análogas en muchos aspectos a los registros de bases de datos. Y siguiendo la misma analogía, cada variable de una estructura se denomina a menudo campo, o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0" name=""/>
          <p:cNvSpPr/>
          <p:nvPr/>
        </p:nvSpPr>
        <p:spPr>
          <a:xfrm>
            <a:off x="468360" y="1268280"/>
            <a:ext cx="8207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spues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r>
              <a:rPr b="0" lang="es-ES" sz="1800" spc="-1" strike="noStrike">
                <a:solidFill>
                  <a:srgbClr val="33cc33"/>
                </a:solidFill>
                <a:latin typeface="Arial"/>
              </a:rPr>
              <a:t>	</a:t>
            </a:r>
            <a:r>
              <a:rPr b="0" lang="es-ES" sz="1800" spc="-1" strike="noStrike">
                <a:solidFill>
                  <a:srgbClr val="33cc33"/>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e definen las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hipo(double cat1, double 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ipotenusa = sqrt(cat1*cat1+cat2*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cubo(int num) //parámetros por va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bonum = num*num*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1773360"/>
            <a:ext cx="813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metodo normal  todo dentro del progr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c2,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sqrt(c1*c1+c2*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4" name=""/>
          <p:cNvSpPr/>
          <p:nvPr/>
        </p:nvSpPr>
        <p:spPr>
          <a:xfrm>
            <a:off x="468360" y="1557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lo hace por fun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 c2, 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hipo(c1, 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6" name=""/>
          <p:cNvSpPr/>
          <p:nvPr/>
        </p:nvSpPr>
        <p:spPr>
          <a:xfrm>
            <a:off x="611280" y="1557360"/>
            <a:ext cx="75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 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 = StrToInt(txtN-&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3 = cu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NCubo-&gt;Text = IntToStr(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11"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 [&lt;tipo&gt; &lt;nombre_variable&gt;[,&lt;nombre_variable&gt;,...]]; . } [&lt;variable_estructura&gt;[,&lt;variable_estructura&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ombre de la estructura es un nombre opcional para referirse a la estructu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variables de estructura son variables declaradas del tipo de la estructura, y su inclusión también es opcional. Sin bien, al menos uno de estos elementos debe existir, aunque ambos sean opcion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interior de una estructura, entre las llaves, se pueden definir todos los elementos que consideremos necesarios, del mismo modo que se declaran las variabl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pueden referenciarse completas, usando su nombre, como hacemos con las variables que ya conocemos, y también se puede acceder a los elementos en el interior de la estructura usando el operador de selección (.), un pun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8475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pueden declararse más variables del tipo de estructura en cualquier parte del programa, de la siguiente form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lt;variable_estructura&gt; [,&lt;variable_estructura&g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Persona { char Nombre[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har Direccion[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 AnyoNacimiento;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sona Fulanito;</a:t>
            </a:r>
            <a:endParaRPr b="0" lang="en-US" sz="2000" spc="-1" strike="noStrike">
              <a:solidFill>
                <a:srgbClr val="000000"/>
              </a:solidFill>
              <a:latin typeface="Arial"/>
            </a:endParaRPr>
          </a:p>
        </p:txBody>
      </p:sp>
      <p:sp>
        <p:nvSpPr>
          <p:cNvPr id="1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pic>
        <p:nvPicPr>
          <p:cNvPr id="117" name="" descr=""/>
          <p:cNvPicPr/>
          <p:nvPr/>
        </p:nvPicPr>
        <p:blipFill>
          <a:blip r:embed="rId1"/>
          <a:stretch/>
        </p:blipFill>
        <p:spPr>
          <a:xfrm>
            <a:off x="971640" y="1628640"/>
            <a:ext cx="3382920" cy="3961080"/>
          </a:xfrm>
          <a:prstGeom prst="rect">
            <a:avLst/>
          </a:prstGeom>
          <a:ln w="0">
            <a:noFill/>
          </a:ln>
        </p:spPr>
      </p:pic>
      <p:sp>
        <p:nvSpPr>
          <p:cNvPr id="118" name=""/>
          <p:cNvSpPr/>
          <p:nvPr/>
        </p:nvSpPr>
        <p:spPr>
          <a:xfrm>
            <a:off x="457200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716360" y="141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16360" y="141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56000" y="2133720"/>
            <a:ext cx="216000" cy="1726920"/>
          </a:xfrm>
          <a:custGeom>
            <a:avLst/>
            <a:gdLst>
              <a:gd name="textAreaLeft" fmla="*/ 0 w 216000"/>
              <a:gd name="textAreaRight" fmla="*/ 78120 w 21600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219640" y="98100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Edit o cajas de texto, seran nombrados txtMarca, txtModelo, txtPeso, txtCuerdas </a:t>
            </a:r>
            <a:endParaRPr b="0" lang="en-US" sz="1800" spc="-1" strike="noStrike">
              <a:solidFill>
                <a:srgbClr val="000000"/>
              </a:solidFill>
              <a:latin typeface="Arial"/>
            </a:endParaRPr>
          </a:p>
        </p:txBody>
      </p:sp>
      <p:sp>
        <p:nvSpPr>
          <p:cNvPr id="123" name=""/>
          <p:cNvSpPr/>
          <p:nvPr/>
        </p:nvSpPr>
        <p:spPr>
          <a:xfrm>
            <a:off x="363528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51640" y="3284640"/>
            <a:ext cx="244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es el objeto ColorBox el cual será llamado cbColor. VColorBox está ubicado en Aditional en el Tool Palette</a:t>
            </a:r>
            <a:endParaRPr b="0" lang="en-US" sz="1800" spc="-1" strike="noStrike">
              <a:solidFill>
                <a:srgbClr val="000000"/>
              </a:solidFill>
              <a:latin typeface="Arial"/>
            </a:endParaRPr>
          </a:p>
        </p:txBody>
      </p:sp>
      <p:sp>
        <p:nvSpPr>
          <p:cNvPr id="125" name=""/>
          <p:cNvSpPr/>
          <p:nvPr/>
        </p:nvSpPr>
        <p:spPr>
          <a:xfrm>
            <a:off x="4500720" y="465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643280" y="4652640"/>
            <a:ext cx="180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43280" y="58053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84720" y="4076640"/>
            <a:ext cx="216000" cy="1152720"/>
          </a:xfrm>
          <a:custGeom>
            <a:avLst/>
            <a:gdLst>
              <a:gd name="textAreaLeft" fmla="*/ 0 w 216000"/>
              <a:gd name="textAreaRight" fmla="*/ 78120 w 21600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003640" y="5373720"/>
            <a:ext cx="273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Button llamados btnGuardar, btnLimpiar, btnCarg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1" name=""/>
          <p:cNvSpPr/>
          <p:nvPr/>
        </p:nvSpPr>
        <p:spPr>
          <a:xfrm>
            <a:off x="2484360" y="585720"/>
            <a:ext cx="615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Programa011.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Guitar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Marca, 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Color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rmGuitarra *frm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la variable tipo struct T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Guitarra  UnaGuita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3" name=""/>
          <p:cNvSpPr/>
          <p:nvPr/>
        </p:nvSpPr>
        <p:spPr>
          <a:xfrm>
            <a:off x="539640" y="1844640"/>
            <a:ext cx="8064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Guard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33cc33"/>
                </a:solidFill>
                <a:latin typeface="Arial"/>
              </a:rPr>
              <a:t>//en este punto guardar no significa un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significa que esos datos serán almacen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en la variable struct TGuitarra llamada Una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arca   = txtMarca-&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odelo  = txtModel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Peso    = StrToFloat(txtPes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uerdas = StrToInt(txtCuerdas-&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olor   = cbColor-&gt;Sele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5" name=""/>
          <p:cNvSpPr/>
          <p:nvPr/>
        </p:nvSpPr>
        <p:spPr>
          <a:xfrm>
            <a:off x="826920" y="1557360"/>
            <a:ext cx="698508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Limpi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arca-&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odel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Pes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Cuerdas-&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cbColor-&gt;Selected = clBl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39Z</dcterms:modified>
  <cp:revision>148</cp:revision>
  <dc:subject/>
  <dc:title>Computación 1</dc:title>
</cp:coreProperties>
</file>