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3888-34A2-412F-B97D-42F718F4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9282-7060-41A9-B75E-CD5126CC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BB98-2BF8-4838-AA32-F50241A1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E39D-F387-4FF6-B756-49E4D4F5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DDBA-E3C9-4176-BDE4-FE8AF63D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1CD1-F5B8-46BB-99E2-4BD44A1D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FFE6-7EE7-4C8C-A469-6D81E619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88CC-C359-47D7-BF93-86121CCA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628C-5C87-4096-81B6-12A6E2AA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894-526A-4F5E-A218-C0CE7DC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C409-6134-4EA7-AEF4-79F5856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D0E3-49E4-4227-93D2-6E6312FF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8425-FD2D-46E8-9A68-6FB999D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DECE-1C75-4D00-98E1-73555C8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67DF-56F0-4D55-B26D-3354919B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A080-E0E4-4747-9775-23A0FACF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72DF-BE20-4AE6-BC4E-D6DFD01F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55CC-902F-4FE1-BDF1-4A2B5C4D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8F0D-14A8-4AA0-8B4C-07A505D2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034B-6289-48E9-9D03-40B15275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E579-81DE-4AF3-BF90-095A6C8E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59D3-F346-4321-8B84-89229921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569C-6B3C-4910-8456-32E611A0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B682-DD8C-4988-8EAD-08EAB96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79BA-302D-4DE6-8C43-46C1072173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90BA-2770-4E4C-BC37-441FDFA3C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351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mostramos las variables que estaban en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4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5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cerra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673680" cy="4962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4364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515772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oup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que no se mezc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700280"/>
            <a:ext cx="8353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ol pintar = false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variable logica booleana inicializada como falso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Pruebas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Rectangle(20,20,220,8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Ellipse(80,10,100,1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197000"/>
            <a:ext cx="806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Rectang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Rectangle(100,100,400,28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Circ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Ellipse(150,150,350,35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1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Re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3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2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Purpl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40184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Yel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Cro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Gre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So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400,2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34136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300,4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Mov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 mueve para un punto distinto al origen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MoveTo(200,30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844640"/>
            <a:ext cx="756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scar en el Help todos los objetos y comandos relacionados con los dibu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55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chart es un objeto de C++ que permite hacer gráficos de manera má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404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162320" cy="332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2565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greg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3205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29178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3213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tulo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0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40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características de la 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55736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30,"Ferrari",cl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170,"Porsche",clBlac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430,"Volvo",clYello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Caleta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1]-&gt;Add(10.0*sin(a)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2]-&gt;Add(1*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poder leer desde o escribir en archivos o ficheros (lectura/escritura de datos en unidades de almacenamiento permanente como los disquetes, discos duros, etc.), se debe incluir la libr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.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. En esta librería se definen las clases necesarias para la utilización de ficheros, que so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f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derivan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a su vez derivan de la clas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6646680" cy="5000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32720" y="2846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364500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ran para hacer ani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9162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2997360"/>
            <a:ext cx="8137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1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i-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-=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13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animacion al ir sumando un fase ai que depende del tiempo de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781360"/>
            <a:ext cx="741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Experiment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2-&gt;Enabled = !Timer2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989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637000"/>
            <a:ext cx="79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Animad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1-&gt;Enabled = !Timer1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77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299736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2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=0.3*sin(2*pi*f*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M_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amp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+=0.0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700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fica y disminuye la amplitud a partir de tiempo t activado por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6286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dicador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o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t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ña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nary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27280" cy="318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2205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916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Crear -----btnCrea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Leer ----btnLer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628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14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lama a la libreria de uso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71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archivoo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indica las el objeto de operaciones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Cre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a=127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finimos y damos valores a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=6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c=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d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[i]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[i] = (i+1)/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413000"/>
            <a:ext cx="7991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rear archivo y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escribi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a,4);  //4 tamaño de int 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b,2);  //2 tamaño de short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c,sizeof(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d,sizeof(d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e,sizeof(e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err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484280"/>
            <a:ext cx="77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e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mos las variables se usa otro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4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n5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abri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ee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1,sizeof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2,sizeof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3,sizeof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4,sizeof(n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5,sizeof(n5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1-09T17:36:04Z</dcterms:modified>
  <cp:revision>163</cp:revision>
  <dc:subject/>
  <dc:title>Computación 1</dc:title>
</cp:coreProperties>
</file>