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4B79-E14B-49C1-81EC-3B821056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7A54-DF7F-4176-B7BD-E4567D23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93C0-C5A6-40C0-B870-CE8BB8C8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87F0-2651-48ED-9C89-E4F521CC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8C72-1BE7-4EAC-8CDA-9FDED195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79DE-6F83-47F0-B3D7-8F8169AD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E356-F0B9-43D9-908D-54C64CDB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52E7-B91F-4E3C-8EB7-2D1F8BCD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D48B-3222-4ADC-AE17-CF3D90BE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09E4-BA70-457A-93B8-2B8F3529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1302-135A-486F-8EBD-F670681D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49AB-7981-454E-B11E-FDA6F596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8DA2-80E7-48D1-9EFF-27F42696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A80A-309D-41DA-8AF5-C1613255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E15E-77CB-4759-A6C5-BDCDE433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4059-82A1-4B7C-94A7-6E3210C5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49D7-48CA-49B8-9BF1-5C597801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65BD-1E90-4F2C-B087-2D8A580B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B880-8E19-49C3-963F-C1F5653F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C62F-92F4-494F-9C21-66ED6D9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9BE1-AA43-4220-BA14-C4153CF1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5EFE-F383-4FF6-B025-40B8970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3203-BA0C-48EB-BC3A-53F00B27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0686-D1F8-4568-8C0B-3ED47D93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6CC4-7DC8-4B15-8E3B-A8CE044AC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F5AA-89A3-42DB-AC1D-F749070D0A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351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mostramos las variables que estaban en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4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5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cerra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6673680" cy="4962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443640" y="537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515772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oup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que no se mezc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700280"/>
            <a:ext cx="8353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ol pintar = false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variable logica booleana inicializada como falso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Pruebas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Rectangle(20,20,220,8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Ellipse(80,10,100,1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197000"/>
            <a:ext cx="806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Rectangulo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Rectangle(100,100,400,280);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Circulo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Ellipse(150,150,350,350);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Estilo1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Color = clRe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Width = 3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Estilo2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Color = clPurpl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Width = 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401840"/>
            <a:ext cx="792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llen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Color = clYel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Style = bsCro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lleno2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Color = clGre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Style = bsSo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ine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LineTo(400,200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34136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inea2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LineTo(300,400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Mov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 mueve para un punto distinto al origen 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MoveTo(200,30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844640"/>
            <a:ext cx="756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uscar en el Help todos los objetos y comandos relacionados con los dibu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55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chart es un objeto de C++ que permite hacer gráficos de manera má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4404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162320" cy="3324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6728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2565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gregar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3205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29178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ar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3213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tulo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0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400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características de la 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55736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gregarDatos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30,"Ferrari",cl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170,"Porsche",clBlac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430,"Volvo",clYello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gregarCaletaDatos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1]-&gt;Add(10.0*sin(a)*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2]-&gt;Add(1*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poder leer desde o escribir en archivos o ficheros (lectura/escritura de datos en unidades de almacenamiento permanente como los disquetes, discos duros, etc.), se debe incluir la libr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.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. En esta librería se definen las clases necesarias para la utilización de ficheros, que so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f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derivan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a su vez derivan de la clas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6646680" cy="5000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m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32720" y="28465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72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m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364500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ran para hacer ani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91628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Sen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2997360"/>
            <a:ext cx="8137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Timer1Timer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sin(ai-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i-=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133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animacion al ir sumando un fase ai que depende del tiempo de Tim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2781360"/>
            <a:ext cx="741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Experiment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mer2-&gt;Enabled = !Timer2-&gt;Enab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1989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Tim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2637000"/>
            <a:ext cx="792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SenoAnimad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mer1-&gt;Enabled = !Timer1-&gt;Enab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773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Tim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299736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Timer2Timer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=0.3*sin(2*pi*f*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M_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amp*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+=0.0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700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fica y disminuye la amplitud a partir de tiempo t activado por Tim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170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162864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dicador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o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ut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ña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nary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o 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527280" cy="3189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19280" y="2205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916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Crear -----btnCrea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Leer ----btnLer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71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2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62864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14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lama a la libreria de uso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71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archivoo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indica las el objeto de operaciones 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34136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Cre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a=127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finimos y damos valores a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=6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c=3.14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d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[i] = 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[i] = (i+1)/1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413000"/>
            <a:ext cx="7991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rear archivo y 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escribi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a,4);  //4 tamaño de int en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b,2);  //2 tamaño de short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c,sizeof(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d,sizeof(d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e,sizeof(e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errar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484280"/>
            <a:ext cx="777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e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mos las variables se usa otro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n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4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n5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abri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ee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1,sizeof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2,sizeof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3,sizeof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4,sizeof(n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5,sizeof(n5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1-09T17:36:04Z</dcterms:modified>
  <cp:revision>163</cp:revision>
  <dc:subject/>
  <dc:title>Computación 1</dc:title>
</cp:coreProperties>
</file>